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8B5-A416-4C2C-93D9-421C8C0C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3E3-F718-4222-8553-8FFD3CA5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27D-E51F-4756-AAEE-DCA03E87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065-8678-4350-9493-88FA3BB2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C85-EE02-4C94-A137-44AFA160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637-F2A4-472B-BAFE-7AB45715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BE8-49F6-4F49-AFE9-25B09328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78B-ED6A-438A-AB2F-B1A43E62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A2B-03FC-48BC-BE21-FEA8057C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957-EEA5-41CF-BEAC-44579CFF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BAA-C10E-49A2-92A3-E284D804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D83-B243-4D55-B788-69FD1C74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D4C4-3D61-4A92-BA3D-4DB8BEF73D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6640" y="1752480"/>
            <a:ext cx="76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versidade Federal de Mato Grosso do Sul apresent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3800" y="4114800"/>
            <a:ext cx="39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dia 06 de junho de 2002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4200" y="2895480"/>
            <a:ext cx="66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 apoio do Professor Doutor Marcelo Turin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Á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as de Aplic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457200"/>
            <a:ext cx="48769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permí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co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ção homem-compu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un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üística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ên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esentação grá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ção grá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D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ferenças entre ES e </a:t>
            </a:r>
            <a:r>
              <a:rPr b="0" i="1" lang="en-US" sz="4400" spc="-1" strike="noStrike">
                <a:solidFill>
                  <a:srgbClr val="ccccff"/>
                </a:solidFill>
                <a:latin typeface="Times New Roman"/>
              </a:rPr>
              <a:t>E</a:t>
            </a:r>
            <a:r>
              <a:rPr b="0" i="1" lang="en-US" sz="4400" spc="-1" strike="noStrike">
                <a:solidFill>
                  <a:srgbClr val="00cc99"/>
                </a:solidFill>
                <a:latin typeface="Times New Roman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6094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0"/>
            <a:ext cx="83818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tes propósito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esentação x Funcion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ção x Experi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olução Tecn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úblico alvo x audiência (Classe de usuári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egação (E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u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oblemas no Desenvolvimento de 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914400"/>
            <a:ext cx="7924680" cy="55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ápida Evolução Tecnológ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ualização constante no conteúdo  das informações: eternamente a frase “em construçã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do grau de complexidade (hardware, softw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xperiência e formação inadequada de desenvolve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ta de métricas para estim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es mal organizadas e sem a competência adequ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ência e Técnicos desprepa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ta de modelos do 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822960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odos inadequados e obsol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jamento errado, estouro de prazos e cu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ta de rigor no processo de desenvolv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ta de documentação e dificuldades de implementação e manute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sites mal definidos e proje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out inadequado (comunicação visu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dança contínua dos requisitos, da tecnologia da arquite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E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ros Comet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066680"/>
            <a:ext cx="815328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cepção que o “Desenvolvimento web é uma arte” está errada. Tem um importante lado artístico/design, mas os desenvolvedores precisam de disciplina e de um modelo de 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alta de modelos de processo –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desenvolvimento ad h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existência das atividades de elicitação e análise de requisitos, qualidade, performance, avaliação, interface, gerência de projeto e de configuração, teste, manutenibilidade e DOCU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onseqüências de se criar Websites de forma incorre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Times New Roman"/>
              </a:rPr>
              <a:t>E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ngenharia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99840" y="388584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ccff"/>
                </a:solidFill>
                <a:latin typeface="Book Antiqu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rlos H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99"/>
                </a:solidFill>
                <a:latin typeface="Book Antiqu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ayton Lu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ccff"/>
                </a:solidFill>
                <a:latin typeface="Book Antiqu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lane Pere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99"/>
                </a:solidFill>
                <a:latin typeface="Book Antiqu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uilherme Franc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066680"/>
            <a:ext cx="7620120" cy="46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sites de baixa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 defi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es eternamente “em construçã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uro dos prazos e cu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es mal organizadas e sem competência adequada (multidisciplinarid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onhecimento da tecn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de implementação e manute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ta de docu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idade de processo de desenvolv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P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opósito dos 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71600" y="30492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819520"/>
            <a:ext cx="3352680" cy="2286000"/>
          </a:xfrm>
          <a:prstGeom prst="ellipse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Entreten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1143000"/>
            <a:ext cx="3124440" cy="2666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Inform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2286000"/>
            <a:ext cx="3581640" cy="198108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3276720"/>
            <a:ext cx="335304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Entreten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3124080" cy="266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Inform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2590920"/>
            <a:ext cx="320040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1219320"/>
            <a:ext cx="289548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8444"/>
              <a:gd name="adj5" fmla="val 416666"/>
              <a:gd name="adj6" fmla="val -2922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21932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iblioteca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1905120"/>
            <a:ext cx="175248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8240"/>
              <a:gd name="adj5" fmla="val 266666"/>
              <a:gd name="adj6" fmla="val -221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438280"/>
            <a:ext cx="175248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20560"/>
              <a:gd name="adj5" fmla="val 183333"/>
              <a:gd name="adj6" fmla="val -78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495680"/>
            <a:ext cx="175248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27175"/>
              <a:gd name="adj5" fmla="val -108333"/>
              <a:gd name="adj6" fmla="val -10914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5181480"/>
            <a:ext cx="274320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12212"/>
              <a:gd name="adj5" fmla="val -225000"/>
              <a:gd name="adj6" fmla="val -4612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5867280"/>
            <a:ext cx="175284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26087"/>
              <a:gd name="adj5" fmla="val -233333"/>
              <a:gd name="adj6" fmla="val -1048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5867280"/>
            <a:ext cx="251460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28472"/>
              <a:gd name="adj5" fmla="val -183333"/>
              <a:gd name="adj6" fmla="val 2847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562720"/>
            <a:ext cx="175284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111324"/>
              <a:gd name="adj5" fmla="val -141666"/>
              <a:gd name="adj6" fmla="val 13650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4267080"/>
            <a:ext cx="175284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115125"/>
              <a:gd name="adj5" fmla="val -108333"/>
              <a:gd name="adj6" fmla="val 15389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514600"/>
            <a:ext cx="144792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19518"/>
              <a:gd name="adj5" fmla="val 59092"/>
              <a:gd name="adj6" fmla="val 1705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600200"/>
            <a:ext cx="144792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18967"/>
              <a:gd name="adj5" fmla="val 95453"/>
              <a:gd name="adj6" fmla="val 1678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914400"/>
            <a:ext cx="175284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110509"/>
              <a:gd name="adj5" fmla="val 616666"/>
              <a:gd name="adj6" fmla="val 1343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r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1828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2920" y="24382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mé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44956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á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ídeo sob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58672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5867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arques Tem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55627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iv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42670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us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14600"/>
            <a:ext cx="153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anu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600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Jornais e rev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68580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or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533520"/>
            <a:ext cx="7696080" cy="60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tiv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jornais, manuais catálogos de produtos e livros online, por exemp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tiv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ormulários de inscrição e jogos on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ionai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mpras eletrônicas e serviços de banco on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stemas de gerência, planejamento e acompanhamento on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533520"/>
            <a:ext cx="83055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aborativ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stemas de autoria distribuí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es onlin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upos chat, leilão on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i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ortais sobre educação, UOL, Ter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09320" y="1981080"/>
            <a:ext cx="624852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butt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05920" cy="6308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57600" y="4572000"/>
            <a:ext cx="50292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Times New Roman"/>
              </a:rPr>
              <a:t>Acorda Moçada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todologia para desenvolvimento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9907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85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6094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85800"/>
            <a:ext cx="784836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odelagem do processo de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É um mapeamento completo do processo. Evita redundâncias e retrabalhos fut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Levantamento de requi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dentifica as necessidades de entrada e saída de dados entre sistemas e usuá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685800"/>
            <a:ext cx="8229600" cy="54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agem da interação com o usu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 garantir clareza, facilidade de aprendizado e utilização. Tanto nas telas quanto na forma de navegação entre e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jeto da arquite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ada de decisões quanto à arquitetura téc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3880" y="25909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ópicos do Seminá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685800"/>
            <a:ext cx="7848360" cy="64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if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 a programação propriamente d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bs.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alera acha que esta é a única etapa a ser conside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da apl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te que os vários aspectos de qualidade estejam sendo contempl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ccff"/>
                </a:solidFill>
                <a:latin typeface="Times New Roman"/>
              </a:rPr>
              <a:t>R</a:t>
            </a: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equi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228600"/>
            <a:ext cx="7619760" cy="51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anismo de atualização simples para gerência de conteú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 de navegação consistente para usuário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anismos de versionamento para registrar mudanças no conteúdo, funcionalidade e layo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orte a várias língu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304920"/>
            <a:ext cx="7391160" cy="55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r extensões de serviços futuros (após a entreg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dade de integrar componentes de software de pratele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e de plataforma (browser)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rincipais tipos de Requi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457200"/>
            <a:ext cx="754380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sitos Oper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Qual a tecnologia necessár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sitos de Conteú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Quais informações o site deve con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sitos Fun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Quais serviços o site deve oferec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sitos de Inte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omo o usuário vai utilizar/interagir/navegar no si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sitos de Desenvolv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essoal, prazos, custos e equipame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609480"/>
            <a:ext cx="8763120" cy="51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esign da pág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s usuários visitam o website pelo conteú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Facilidade de leitura (layo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Lingu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Im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Padronização das páginas e infor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s usuários da Web são voltados às metas e impacientes – o conteúdo precisa ser voltado a oferecer respostas rápidas e ser útil ao usuá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erramentas Utili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457200"/>
            <a:ext cx="7543800" cy="71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ag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dobe Illustator, Photoshop, Macromedia Freeh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reamweaver, Frontpage, Adobe Go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ramaçã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be Pag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çõ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acromedia 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guag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ML, DHTML, JavaScript, CGI, Perl, ASP, PHP, Cold Fusion, Java, XML, 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28600"/>
            <a:ext cx="80978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que 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Áreas de apl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ferenças entre ES x 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s no Desenvolvimento de Web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s Com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eqüências de se criar websites de forma incor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pósitos dos web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todologia para desenvolvimento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odelos e Méto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8080" y="533520"/>
            <a:ext cx="716292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os Fecha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tilizam estruturas topológicas para definir a organização do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os Orientados ao Sistem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finem uma arquitetura genérica para sistemas hiperdocumento, independentes da plataforma de imple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os Estrutura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des de nós e lig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os Comportamenta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ela o comportamento dinâmico associado a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8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lições para 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762120"/>
            <a:ext cx="8686800" cy="47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r no Processo d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inar Gerentes de Conteú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olher Flexibilidade sobre Funcion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r 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engenharia é mais difícil do que Engenh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r preparado para mudanças de 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olher qualidade sobre dead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enciar ver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C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nclu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981080"/>
            <a:ext cx="784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90512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ecessid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rganiz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 material de maneira adequada requer uma abordagem sistemática sendo que a falta de diretriz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s e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éto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a a criação de websites tornam o processo difícil e desafiante. É ai que entra a Engenharia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bliogra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533520"/>
            <a:ext cx="70102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te da Profª Karen Kiomi Nakazato: </a:t>
            </a: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       www.dct.ufms.br/~k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te sobre Engenharia Web: </a:t>
            </a: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www.webengineering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eb Engineering Technology Certificate: </a:t>
            </a: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http://cwl.ssu.portsmouth.oh.us/classes/etwb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vista Developers’ Magazine:                              </a:t>
            </a: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Ano 5 - Nº50 - Outubro/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untran Graef</a:t>
            </a: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                             http://www.teco.edu/~graef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66000" y="304920"/>
            <a:ext cx="47023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ais tipos de Requisit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rram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s e Mét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lições para 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571680"/>
            <a:ext cx="807696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Internet nasceu praticamente sem querer. Foi Desenvolvida nos tempos remotos da Guerra Fria com o nome de ArphaNet para manter a comunicação das bases militares dos Estados U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s dias de hoje, não é mais um luxo ou simples questão de opção uma pessoa utilizar e dominar o manuseio de serviços disponíveis na Internet, pois é considerada o maior sistema de comunicação desenvolvido pelo hom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projetos estão tendendo a ser cada vez mais complexos, necessitando de uma ferramenta para auxiliar nos seus desenvolvimentos: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genh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ue 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1337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guntram2" descr=""/>
          <p:cNvPicPr/>
          <p:nvPr/>
        </p:nvPicPr>
        <p:blipFill>
          <a:blip r:embed="rId1"/>
          <a:stretch/>
        </p:blipFill>
        <p:spPr>
          <a:xfrm>
            <a:off x="2286000" y="0"/>
            <a:ext cx="4419720" cy="4130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2971800"/>
            <a:ext cx="8001000" cy="37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gundo Guntram Graef, da  Universidade de Karlsruhe na Alemanha, Engenharia  Web é uma aplicação de um enfoque sistemático, disciplinado e quantificável para o desenvolvimento e evolução de aplicações Web, com alta qualidade e a um custo efe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0T17:12:11Z</dcterms:created>
  <dc:creator>Guilherme Francisco Somera</dc:creator>
  <dc:description/>
  <dc:language>en-US</dc:language>
  <cp:lastModifiedBy>Guilherme Francisco Somera</cp:lastModifiedBy>
  <dcterms:modified xsi:type="dcterms:W3CDTF">2002-06-06T02:12:21Z</dcterms:modified>
  <cp:revision>69</cp:revision>
  <dc:subject/>
  <dc:title>Engenharia Web</dc:title>
</cp:coreProperties>
</file>