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E85B-D0DA-45A3-8302-C4D9B3875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C4B4-25FD-448D-8F36-A9CC50AC8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2D39-9896-4358-97B7-3049AB368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1672-536C-44A5-AD48-C3326AD64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CC58D-FE1F-423F-87E8-BCD6640E7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88812-D751-48E1-89CC-0183A5985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77C91-379F-45C4-B2A4-5BD46448E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2262B-4BC4-41FD-9A67-D781218F7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D653C-32A7-4EB5-83D4-CE5036AB2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E9075-FB20-4940-B292-AA4C22E4E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56045-51D1-42B5-ABB2-F06A4D58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5937-138B-48D9-868C-5EAFFACD0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CBFF6-8A36-4EE1-814E-0B30AFA2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050EE-CF98-4565-955C-2D8D2C16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DC392-CA8D-4A13-B5B4-56030A48F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C8BF4-7247-458B-A673-5A443A4B0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4834D-57D7-4EA0-ACEF-F8835F534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97E3-BD15-4CF1-BD89-E41CA5FB1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31B1-6902-4204-8F87-7D2E17A97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3AEE-B98B-4699-BAB7-8A95EB82F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F595-4988-43DC-A261-B4C2755AB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5116-3108-476E-807C-E097858E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45C9-5829-498A-94CE-C5DC52C6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537F-866B-459B-BDB2-6E206D33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8088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0" y="0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996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5268" y="2976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96" y="278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0" y="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192" y="72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C0349-799A-4FD8-8817-16D49F0CF4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02521-4268-4EC5-86E4-0F7D462FFD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1676160"/>
            <a:ext cx="838188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a50021"/>
                </a:solidFill>
                <a:latin typeface="Arial Narrow"/>
              </a:rPr>
              <a:t>MODELOS DE ANÁLISE</a:t>
            </a:r>
            <a:br>
              <a:rPr sz="4000"/>
            </a:br>
            <a:r>
              <a:rPr b="1" lang="pt-BR" sz="4400" spc="-1" strike="noStrike">
                <a:solidFill>
                  <a:srgbClr val="a50021"/>
                </a:solidFill>
                <a:latin typeface="Arial Narrow"/>
              </a:rPr>
              <a:t>...Análise Estruturada</a:t>
            </a:r>
            <a:br>
              <a:rPr sz="5400"/>
            </a:b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37720" y="3809520"/>
            <a:ext cx="807732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rof. D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arcelo Augusto Santos Turi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83059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omponentes do Modelo de Dados</a:t>
            </a:r>
            <a:br>
              <a:rPr sz="4400"/>
            </a:b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                                             (cont.)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3366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Times New Roman"/>
              </a:rPr>
              <a:t>Objetos, atributos e relacionamento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&gt; base para o entendimento do domínio de informação do problem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3366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CARDINALIDA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é a especificação do número de </a:t>
            </a:r>
            <a:r>
              <a:rPr b="1" lang="en-US" sz="2400" spc="-1" strike="noStrike">
                <a:solidFill>
                  <a:srgbClr val="3366cc"/>
                </a:solidFill>
                <a:latin typeface="Times New Roman"/>
              </a:rPr>
              <a:t>ocorrência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de um objeto que pode ser relacionado com o número de ocorrências de outro objet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3366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cc"/>
                </a:solidFill>
                <a:latin typeface="Times New Roman"/>
              </a:rPr>
              <a:t>um-para-um (1:1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&gt; ”um marido pode ter somente uma esposa e vice-versa”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3366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cc"/>
                </a:solidFill>
                <a:latin typeface="Times New Roman"/>
              </a:rPr>
              <a:t>um-para-muitos (1:N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&gt; ”uma mãe pode ter muitos filhos, mas um filho tem apenas uma mãe”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3366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cc"/>
                </a:solidFill>
                <a:latin typeface="Times New Roman"/>
              </a:rPr>
              <a:t>muitos-para-muitos (M:N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&gt; ”um tio pode ter vários sobrinhos, enquanto que um sobrinho pode ter vários tios”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Marcelo Turine - UN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1898-87F4-4D48-A1D9-0276C1BE0D7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83059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omponentes do Modelo de Dados</a:t>
            </a:r>
            <a:br>
              <a:rPr sz="4400"/>
            </a:b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                                             (cont.)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5000"/>
          </a:bodyPr>
          <a:p>
            <a:pPr marL="222840" indent="-222840">
              <a:spcBef>
                <a:spcPts val="601"/>
              </a:spcBef>
              <a:buClr>
                <a:srgbClr val="3366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MODALIDA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3366cc"/>
                </a:solidFill>
                <a:latin typeface="Times New Roman"/>
              </a:rPr>
              <a:t>indic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 um ojeto precisa ou não participar em um relacionament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spcBef>
                <a:spcPts val="499"/>
              </a:spcBef>
              <a:buClr>
                <a:srgbClr val="3366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cc"/>
                </a:solidFill>
                <a:latin typeface="Times New Roman"/>
              </a:rPr>
              <a:t>modalidade de um relacionamento = 0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não é necessária a ocorrência do relacionamento, ele é opciona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spcBef>
                <a:spcPts val="499"/>
              </a:spcBef>
              <a:buClr>
                <a:srgbClr val="3366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cc"/>
                </a:solidFill>
                <a:latin typeface="Times New Roman"/>
              </a:rPr>
              <a:t>modalidade de um relacionamento = 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uma ocorrência do relacionamento é obrigatória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spcBef>
                <a:spcPts val="601"/>
              </a:spcBef>
              <a:buClr>
                <a:srgbClr val="3366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representação de cardinal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spcBef>
                <a:spcPts val="601"/>
              </a:spcBef>
              <a:buClr>
                <a:srgbClr val="3366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representação de modal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5562720"/>
            <a:ext cx="228600" cy="228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47242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74720" y="419112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muito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575440" y="45720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2209680" y="4266720"/>
            <a:ext cx="304920" cy="304920"/>
            <a:chOff x="2209680" y="4266720"/>
            <a:chExt cx="304920" cy="304920"/>
          </a:xfrm>
        </p:grpSpPr>
        <p:sp>
          <p:nvSpPr>
            <p:cNvPr id="211" name=""/>
            <p:cNvSpPr/>
            <p:nvPr/>
          </p:nvSpPr>
          <p:spPr>
            <a:xfrm>
              <a:off x="2209680" y="44193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2209680" y="4266720"/>
              <a:ext cx="30492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209680" y="4419360"/>
              <a:ext cx="30492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2438280" y="59436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66440" y="5486400"/>
            <a:ext cx="56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a ocorrência do relacionamento é opcion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488680" y="5867280"/>
            <a:ext cx="60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a ocorrência do relacionamento é obrigatóri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Marcelo Turine - UN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F0B0-689E-4D48-A8B5-FC75C14FB5C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img012" descr=""/>
          <p:cNvPicPr/>
          <p:nvPr/>
        </p:nvPicPr>
        <p:blipFill>
          <a:blip r:embed="rId2"/>
          <a:stretch/>
        </p:blipFill>
        <p:spPr>
          <a:xfrm>
            <a:off x="0" y="-285840"/>
            <a:ext cx="9524880" cy="714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Marcelo Turine - UNI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178F-3D5B-4CE1-95C1-E902C5197CD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83059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omponentes do Modelo de Dados</a:t>
            </a:r>
            <a:br>
              <a:rPr sz="4400"/>
            </a:b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Exemplo                                (cont.)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371600" y="2971800"/>
            <a:ext cx="1905120" cy="10666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248520" y="2971800"/>
            <a:ext cx="1904760" cy="10666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ção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a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276720" y="34290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600200" y="565452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cionamento, cardinalidade e modalidade en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s objetos de dados Cliente e Ação de Repa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92200" y="29718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683640" y="1828800"/>
            <a:ext cx="3682800" cy="1752480"/>
            <a:chOff x="683640" y="1828800"/>
            <a:chExt cx="3682800" cy="1752480"/>
          </a:xfrm>
        </p:grpSpPr>
        <p:sp>
          <p:nvSpPr>
            <p:cNvPr id="225" name=""/>
            <p:cNvSpPr/>
            <p:nvPr/>
          </p:nvSpPr>
          <p:spPr>
            <a:xfrm>
              <a:off x="3429000" y="32767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429000" y="26668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83640" y="1828800"/>
              <a:ext cx="368280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ardinalidad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:implica q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m cliente espere ações de reparo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4796280" y="1828800"/>
            <a:ext cx="4038120" cy="1752480"/>
            <a:chOff x="4796280" y="1828800"/>
            <a:chExt cx="4038120" cy="1752480"/>
          </a:xfrm>
        </p:grpSpPr>
        <p:grpSp>
          <p:nvGrpSpPr>
            <p:cNvPr id="229" name=""/>
            <p:cNvGrpSpPr/>
            <p:nvPr/>
          </p:nvGrpSpPr>
          <p:grpSpPr>
            <a:xfrm>
              <a:off x="5943600" y="3276360"/>
              <a:ext cx="304920" cy="304920"/>
              <a:chOff x="5943600" y="3276360"/>
              <a:chExt cx="304920" cy="304920"/>
            </a:xfrm>
          </p:grpSpPr>
          <p:sp>
            <p:nvSpPr>
              <p:cNvPr id="230" name=""/>
              <p:cNvSpPr/>
              <p:nvPr/>
            </p:nvSpPr>
            <p:spPr>
              <a:xfrm>
                <a:off x="5943600" y="342900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V="1">
                <a:off x="5943600" y="3276360"/>
                <a:ext cx="30492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943600" y="3429000"/>
                <a:ext cx="30492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4796280" y="1828800"/>
              <a:ext cx="403812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ardinalidad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:implica q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odem existir muitas ações de reparo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638680" y="2514600"/>
              <a:ext cx="4572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685800" y="3276720"/>
            <a:ext cx="3581280" cy="2304000"/>
            <a:chOff x="685800" y="3276720"/>
            <a:chExt cx="3581280" cy="2304000"/>
          </a:xfrm>
        </p:grpSpPr>
        <p:sp>
          <p:nvSpPr>
            <p:cNvPr id="236" name=""/>
            <p:cNvSpPr/>
            <p:nvPr/>
          </p:nvSpPr>
          <p:spPr>
            <a:xfrm>
              <a:off x="3505320" y="32767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85800" y="4267080"/>
              <a:ext cx="3581280" cy="131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odalidad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obrigação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mplica que para ter ação(ões) de reparo, é necessário ter um cliente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 flipV="1">
              <a:off x="3580920" y="3580920"/>
              <a:ext cx="3812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5105520" y="3311640"/>
            <a:ext cx="3352680" cy="2269080"/>
            <a:chOff x="5105520" y="3311640"/>
            <a:chExt cx="3352680" cy="2269080"/>
          </a:xfrm>
        </p:grpSpPr>
        <p:sp>
          <p:nvSpPr>
            <p:cNvPr id="240" name=""/>
            <p:cNvSpPr/>
            <p:nvPr/>
          </p:nvSpPr>
          <p:spPr>
            <a:xfrm>
              <a:off x="5715000" y="3311640"/>
              <a:ext cx="22860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105520" y="4267080"/>
              <a:ext cx="3352680" cy="131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odalidad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opciona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mplica que pode existir uma situação na qual uma ação de reparo não é requerida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5410080" y="3657240"/>
              <a:ext cx="3049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Marcelo Turine - UN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D219-4076-4CB8-9443-3202C2C0DBB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90360" y="342720"/>
            <a:ext cx="8001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Diagramas E-R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990720" y="1981080"/>
            <a:ext cx="7467480" cy="3200400"/>
            <a:chOff x="990720" y="1981080"/>
            <a:chExt cx="7467480" cy="3200400"/>
          </a:xfrm>
        </p:grpSpPr>
        <p:grpSp>
          <p:nvGrpSpPr>
            <p:cNvPr id="245" name=""/>
            <p:cNvGrpSpPr/>
            <p:nvPr/>
          </p:nvGrpSpPr>
          <p:grpSpPr>
            <a:xfrm>
              <a:off x="990720" y="1981080"/>
              <a:ext cx="7467480" cy="1067040"/>
              <a:chOff x="990720" y="1981080"/>
              <a:chExt cx="7467480" cy="1067040"/>
            </a:xfrm>
          </p:grpSpPr>
          <p:sp>
            <p:nvSpPr>
              <p:cNvPr id="246" name=""/>
              <p:cNvSpPr/>
              <p:nvPr/>
            </p:nvSpPr>
            <p:spPr>
              <a:xfrm>
                <a:off x="990720" y="1981080"/>
                <a:ext cx="1904760" cy="10670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abricant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553080" y="1981080"/>
                <a:ext cx="1905120" cy="10670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arr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895480" y="243828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9" name=""/>
              <p:cNvGrpSpPr/>
              <p:nvPr/>
            </p:nvGrpSpPr>
            <p:grpSpPr>
              <a:xfrm>
                <a:off x="6248520" y="2285640"/>
                <a:ext cx="304560" cy="305280"/>
                <a:chOff x="6248520" y="2285640"/>
                <a:chExt cx="304560" cy="305280"/>
              </a:xfrm>
            </p:grpSpPr>
            <p:grpSp>
              <p:nvGrpSpPr>
                <p:cNvPr id="250" name=""/>
                <p:cNvGrpSpPr/>
                <p:nvPr/>
              </p:nvGrpSpPr>
              <p:grpSpPr>
                <a:xfrm>
                  <a:off x="6248520" y="2285640"/>
                  <a:ext cx="304560" cy="304920"/>
                  <a:chOff x="6248520" y="2285640"/>
                  <a:chExt cx="304560" cy="30492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>
                    <a:off x="6248520" y="2438280"/>
                    <a:ext cx="3045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 flipV="1">
                    <a:off x="6248520" y="2285640"/>
                    <a:ext cx="304560" cy="152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248520" y="2438280"/>
                    <a:ext cx="304560" cy="152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4" name=""/>
                <p:cNvSpPr/>
                <p:nvPr/>
              </p:nvSpPr>
              <p:spPr>
                <a:xfrm>
                  <a:off x="6248520" y="228600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2971800" y="2286000"/>
                <a:ext cx="76320" cy="304920"/>
                <a:chOff x="2971800" y="2286000"/>
                <a:chExt cx="76320" cy="30492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2971800" y="228600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3048120" y="228600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8" name=""/>
              <p:cNvSpPr/>
              <p:nvPr/>
            </p:nvSpPr>
            <p:spPr>
              <a:xfrm>
                <a:off x="5562720" y="243828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657600" y="1981080"/>
                <a:ext cx="1981080" cy="914400"/>
              </a:xfrm>
              <a:prstGeom prst="diamond">
                <a:avLst/>
              </a:pr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039200" y="2209680"/>
                <a:ext cx="1232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constró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3429000" y="3962520"/>
              <a:ext cx="4800600" cy="1218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429000" y="3048120"/>
              <a:ext cx="4800600" cy="914400"/>
            </a:xfrm>
            <a:prstGeom prst="triangle">
              <a:avLst>
                <a:gd name="adj" fmla="val 86181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abela do Obje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29000" y="4495680"/>
              <a:ext cx="4800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581280" y="3927600"/>
              <a:ext cx="472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D#     modelo      motor     cor     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343400" y="396252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638680" y="396252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396252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620120" y="396252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1523880" y="556272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agrama E-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relacionamento entre carro e fabrica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Marcelo Turine - UN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9165-04A2-4A59-A189-2FD658DE931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Diagramas E-R (cont.)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990720" y="5486400"/>
            <a:ext cx="679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ansão do D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istribuição dos negócios automobilístic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990720" y="1828800"/>
            <a:ext cx="7238880" cy="3657600"/>
            <a:chOff x="990720" y="1828800"/>
            <a:chExt cx="7238880" cy="3657600"/>
          </a:xfrm>
        </p:grpSpPr>
        <p:sp>
          <p:nvSpPr>
            <p:cNvPr id="273" name=""/>
            <p:cNvSpPr/>
            <p:nvPr/>
          </p:nvSpPr>
          <p:spPr>
            <a:xfrm>
              <a:off x="990720" y="2768760"/>
              <a:ext cx="1828800" cy="7045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abrican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327720" y="2768760"/>
              <a:ext cx="1828800" cy="7045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ar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19520" y="3068640"/>
              <a:ext cx="73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6035760" y="2968560"/>
              <a:ext cx="291960" cy="201600"/>
              <a:chOff x="6035760" y="2968560"/>
              <a:chExt cx="291960" cy="201600"/>
            </a:xfrm>
          </p:grpSpPr>
          <p:grpSp>
            <p:nvGrpSpPr>
              <p:cNvPr id="277" name=""/>
              <p:cNvGrpSpPr/>
              <p:nvPr/>
            </p:nvGrpSpPr>
            <p:grpSpPr>
              <a:xfrm>
                <a:off x="6035760" y="2968560"/>
                <a:ext cx="291960" cy="201600"/>
                <a:chOff x="6035760" y="2968560"/>
                <a:chExt cx="291960" cy="20160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6035760" y="3069360"/>
                  <a:ext cx="2919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flipV="1">
                  <a:off x="6035760" y="2968560"/>
                  <a:ext cx="291960" cy="100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6035760" y="3069360"/>
                  <a:ext cx="291960" cy="100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1" name=""/>
              <p:cNvSpPr/>
              <p:nvPr/>
            </p:nvSpPr>
            <p:spPr>
              <a:xfrm>
                <a:off x="6035760" y="2968560"/>
                <a:ext cx="0" cy="201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2892600" y="2968560"/>
              <a:ext cx="72720" cy="201600"/>
              <a:chOff x="2892600" y="2968560"/>
              <a:chExt cx="72720" cy="201600"/>
            </a:xfrm>
          </p:grpSpPr>
          <p:sp>
            <p:nvSpPr>
              <p:cNvPr id="283" name=""/>
              <p:cNvSpPr/>
              <p:nvPr/>
            </p:nvSpPr>
            <p:spPr>
              <a:xfrm>
                <a:off x="2892600" y="2968560"/>
                <a:ext cx="0" cy="201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965320" y="2968560"/>
                <a:ext cx="0" cy="201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>
              <a:off x="5378400" y="3068640"/>
              <a:ext cx="94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549600" y="2768760"/>
              <a:ext cx="1901880" cy="603000"/>
            </a:xfrm>
            <a:prstGeom prst="diamond">
              <a:avLst/>
            </a:pr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982680" y="2895480"/>
              <a:ext cx="96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constró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5451840" y="2050920"/>
              <a:ext cx="510840" cy="201600"/>
              <a:chOff x="5451840" y="2050920"/>
              <a:chExt cx="510840" cy="201600"/>
            </a:xfrm>
          </p:grpSpPr>
          <p:sp>
            <p:nvSpPr>
              <p:cNvPr id="289" name=""/>
              <p:cNvSpPr/>
              <p:nvPr/>
            </p:nvSpPr>
            <p:spPr>
              <a:xfrm rot="10800000">
                <a:off x="5743800" y="2078280"/>
                <a:ext cx="218880" cy="151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0" name=""/>
              <p:cNvGrpSpPr/>
              <p:nvPr/>
            </p:nvGrpSpPr>
            <p:grpSpPr>
              <a:xfrm>
                <a:off x="5451840" y="2050920"/>
                <a:ext cx="291960" cy="201600"/>
                <a:chOff x="5451840" y="2050920"/>
                <a:chExt cx="291960" cy="201600"/>
              </a:xfrm>
            </p:grpSpPr>
            <p:sp>
              <p:nvSpPr>
                <p:cNvPr id="291" name=""/>
                <p:cNvSpPr/>
                <p:nvPr/>
              </p:nvSpPr>
              <p:spPr>
                <a:xfrm flipH="1">
                  <a:off x="5451840" y="2151720"/>
                  <a:ext cx="2919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>
                  <a:off x="5451840" y="2151720"/>
                  <a:ext cx="291960" cy="100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 flipH="1" flipV="1">
                  <a:off x="5451840" y="2050920"/>
                  <a:ext cx="291960" cy="100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4" name=""/>
            <p:cNvSpPr/>
            <p:nvPr/>
          </p:nvSpPr>
          <p:spPr>
            <a:xfrm>
              <a:off x="3622680" y="1860480"/>
              <a:ext cx="1828800" cy="7066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istribuido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00800" y="4832280"/>
              <a:ext cx="1828800" cy="6541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ransporta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o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327720" y="3774960"/>
              <a:ext cx="1901880" cy="554040"/>
            </a:xfrm>
            <a:prstGeom prst="diamond">
              <a:avLst/>
            </a:pr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74960" y="3809880"/>
              <a:ext cx="1413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transpor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7280280" y="3473280"/>
              <a:ext cx="0" cy="30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9" name=""/>
            <p:cNvGrpSpPr/>
            <p:nvPr/>
          </p:nvGrpSpPr>
          <p:grpSpPr>
            <a:xfrm>
              <a:off x="7134120" y="3473280"/>
              <a:ext cx="292320" cy="200160"/>
              <a:chOff x="7134120" y="3473280"/>
              <a:chExt cx="292320" cy="200160"/>
            </a:xfrm>
          </p:grpSpPr>
          <p:grpSp>
            <p:nvGrpSpPr>
              <p:cNvPr id="300" name=""/>
              <p:cNvGrpSpPr/>
              <p:nvPr/>
            </p:nvGrpSpPr>
            <p:grpSpPr>
              <a:xfrm>
                <a:off x="7134120" y="3473280"/>
                <a:ext cx="292320" cy="200160"/>
                <a:chOff x="7134120" y="3473280"/>
                <a:chExt cx="292320" cy="200160"/>
              </a:xfrm>
            </p:grpSpPr>
            <p:sp>
              <p:nvSpPr>
                <p:cNvPr id="301" name=""/>
                <p:cNvSpPr/>
                <p:nvPr/>
              </p:nvSpPr>
              <p:spPr>
                <a:xfrm flipV="1">
                  <a:off x="7280280" y="3473280"/>
                  <a:ext cx="0" cy="200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flipH="1" flipV="1">
                  <a:off x="7134120" y="3473280"/>
                  <a:ext cx="146160" cy="200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 flipV="1">
                  <a:off x="7280280" y="3473280"/>
                  <a:ext cx="146160" cy="200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4" name=""/>
              <p:cNvSpPr/>
              <p:nvPr/>
            </p:nvSpPr>
            <p:spPr>
              <a:xfrm>
                <a:off x="7134120" y="3673440"/>
                <a:ext cx="292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5" name=""/>
            <p:cNvSpPr/>
            <p:nvPr/>
          </p:nvSpPr>
          <p:spPr>
            <a:xfrm>
              <a:off x="7280280" y="432900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7148520" y="4479840"/>
              <a:ext cx="291960" cy="352080"/>
              <a:chOff x="7148520" y="4479840"/>
              <a:chExt cx="291960" cy="352080"/>
            </a:xfrm>
          </p:grpSpPr>
          <p:sp>
            <p:nvSpPr>
              <p:cNvPr id="307" name=""/>
              <p:cNvSpPr/>
              <p:nvPr/>
            </p:nvSpPr>
            <p:spPr>
              <a:xfrm rot="5400000">
                <a:off x="7221960" y="4445640"/>
                <a:ext cx="150840" cy="21888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8" name=""/>
              <p:cNvGrpSpPr/>
              <p:nvPr/>
            </p:nvGrpSpPr>
            <p:grpSpPr>
              <a:xfrm>
                <a:off x="7148520" y="4630680"/>
                <a:ext cx="291960" cy="201240"/>
                <a:chOff x="7148520" y="4630680"/>
                <a:chExt cx="291960" cy="20124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7294320" y="4630680"/>
                  <a:ext cx="0" cy="201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7294680" y="4630680"/>
                  <a:ext cx="145800" cy="201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flipH="1">
                  <a:off x="7148520" y="4630680"/>
                  <a:ext cx="145800" cy="201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2" name=""/>
            <p:cNvSpPr/>
            <p:nvPr/>
          </p:nvSpPr>
          <p:spPr>
            <a:xfrm>
              <a:off x="6254640" y="1828800"/>
              <a:ext cx="1901880" cy="604800"/>
            </a:xfrm>
            <a:prstGeom prst="diamond">
              <a:avLst/>
            </a:pr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624000" y="1981080"/>
              <a:ext cx="114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armaze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7207200" y="2414520"/>
              <a:ext cx="0" cy="35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7061040" y="2567160"/>
              <a:ext cx="292320" cy="201600"/>
              <a:chOff x="7061040" y="2567160"/>
              <a:chExt cx="292320" cy="201600"/>
            </a:xfrm>
          </p:grpSpPr>
          <p:grpSp>
            <p:nvGrpSpPr>
              <p:cNvPr id="316" name=""/>
              <p:cNvGrpSpPr/>
              <p:nvPr/>
            </p:nvGrpSpPr>
            <p:grpSpPr>
              <a:xfrm>
                <a:off x="7061040" y="2567160"/>
                <a:ext cx="292320" cy="201600"/>
                <a:chOff x="7061040" y="2567160"/>
                <a:chExt cx="292320" cy="20160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7207200" y="2567160"/>
                  <a:ext cx="0" cy="201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7207200" y="2567160"/>
                  <a:ext cx="146160" cy="201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 flipH="1">
                  <a:off x="7061040" y="2567160"/>
                  <a:ext cx="146160" cy="201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 flipH="1">
                <a:off x="7061040" y="2567160"/>
                <a:ext cx="292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 flipH="1">
              <a:off x="5451120" y="2135160"/>
              <a:ext cx="80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063800" y="1860480"/>
              <a:ext cx="1901520" cy="604800"/>
            </a:xfrm>
            <a:prstGeom prst="diamond">
              <a:avLst/>
            </a:pr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504800" y="1981080"/>
              <a:ext cx="97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licencia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2965320" y="2163600"/>
              <a:ext cx="65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013120" y="2465280"/>
              <a:ext cx="0" cy="30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6" name=""/>
            <p:cNvGrpSpPr/>
            <p:nvPr/>
          </p:nvGrpSpPr>
          <p:grpSpPr>
            <a:xfrm>
              <a:off x="1866600" y="2590920"/>
              <a:ext cx="291960" cy="50760"/>
              <a:chOff x="1866600" y="2590920"/>
              <a:chExt cx="291960" cy="50760"/>
            </a:xfrm>
          </p:grpSpPr>
          <p:sp>
            <p:nvSpPr>
              <p:cNvPr id="327" name=""/>
              <p:cNvSpPr/>
              <p:nvPr/>
            </p:nvSpPr>
            <p:spPr>
              <a:xfrm flipH="1">
                <a:off x="1866600" y="2590920"/>
                <a:ext cx="291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>
                <a:off x="1866600" y="2641680"/>
                <a:ext cx="291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330720" y="2063520"/>
              <a:ext cx="291960" cy="200160"/>
              <a:chOff x="3330720" y="2063520"/>
              <a:chExt cx="291960" cy="200160"/>
            </a:xfrm>
          </p:grpSpPr>
          <p:grpSp>
            <p:nvGrpSpPr>
              <p:cNvPr id="330" name=""/>
              <p:cNvGrpSpPr/>
              <p:nvPr/>
            </p:nvGrpSpPr>
            <p:grpSpPr>
              <a:xfrm>
                <a:off x="3330720" y="2063520"/>
                <a:ext cx="291960" cy="199800"/>
                <a:chOff x="3330720" y="2063520"/>
                <a:chExt cx="291960" cy="19980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3330720" y="2163600"/>
                  <a:ext cx="2919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 flipV="1">
                  <a:off x="3330720" y="2063520"/>
                  <a:ext cx="291960" cy="99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3330720" y="2163600"/>
                  <a:ext cx="291960" cy="99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4" name=""/>
              <p:cNvSpPr/>
              <p:nvPr/>
            </p:nvSpPr>
            <p:spPr>
              <a:xfrm>
                <a:off x="3330720" y="2063880"/>
                <a:ext cx="0" cy="199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5" name=""/>
            <p:cNvSpPr/>
            <p:nvPr/>
          </p:nvSpPr>
          <p:spPr>
            <a:xfrm>
              <a:off x="1063800" y="3970440"/>
              <a:ext cx="1901520" cy="606240"/>
            </a:xfrm>
            <a:prstGeom prst="diamond">
              <a:avLst/>
            </a:pr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506240" y="4038480"/>
              <a:ext cx="100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contr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013120" y="347328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13120" y="4579920"/>
              <a:ext cx="0" cy="55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013120" y="5133960"/>
              <a:ext cx="438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0" name=""/>
            <p:cNvGrpSpPr/>
            <p:nvPr/>
          </p:nvGrpSpPr>
          <p:grpSpPr>
            <a:xfrm>
              <a:off x="5889600" y="5033880"/>
              <a:ext cx="510840" cy="201600"/>
              <a:chOff x="5889600" y="5033880"/>
              <a:chExt cx="510840" cy="201600"/>
            </a:xfrm>
          </p:grpSpPr>
          <p:sp>
            <p:nvSpPr>
              <p:cNvPr id="341" name=""/>
              <p:cNvSpPr/>
              <p:nvPr/>
            </p:nvSpPr>
            <p:spPr>
              <a:xfrm>
                <a:off x="5889600" y="5056920"/>
                <a:ext cx="218880" cy="151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2" name=""/>
              <p:cNvGrpSpPr/>
              <p:nvPr/>
            </p:nvGrpSpPr>
            <p:grpSpPr>
              <a:xfrm>
                <a:off x="6108480" y="5033880"/>
                <a:ext cx="291960" cy="201600"/>
                <a:chOff x="6108480" y="5033880"/>
                <a:chExt cx="291960" cy="20160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6108480" y="5134680"/>
                  <a:ext cx="2919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flipV="1">
                  <a:off x="6108480" y="5033880"/>
                  <a:ext cx="291960" cy="100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6108480" y="5134680"/>
                  <a:ext cx="291960" cy="100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6" name=""/>
            <p:cNvGrpSpPr/>
            <p:nvPr/>
          </p:nvGrpSpPr>
          <p:grpSpPr>
            <a:xfrm>
              <a:off x="1841400" y="3581280"/>
              <a:ext cx="292320" cy="50760"/>
              <a:chOff x="1841400" y="3581280"/>
              <a:chExt cx="292320" cy="50760"/>
            </a:xfrm>
          </p:grpSpPr>
          <p:sp>
            <p:nvSpPr>
              <p:cNvPr id="347" name=""/>
              <p:cNvSpPr/>
              <p:nvPr/>
            </p:nvSpPr>
            <p:spPr>
              <a:xfrm flipH="1">
                <a:off x="1841400" y="3581280"/>
                <a:ext cx="292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>
                <a:off x="1841400" y="3632040"/>
                <a:ext cx="292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Marcelo Turine - UN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DEF3-0A48-413A-B5C0-B4FC49E1A0A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img016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Marcelo Turine - UNI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7421-594C-4DF6-9539-00272F266C6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Diagramas E-R (cont.)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22240" y="1717560"/>
            <a:ext cx="41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66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911160" y="1676520"/>
            <a:ext cx="751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66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Hierarquia </a:t>
            </a:r>
            <a:r>
              <a:rPr b="1" lang="en-US" sz="2800" spc="-1" strike="noStrike">
                <a:solidFill>
                  <a:srgbClr val="3366cc"/>
                </a:solidFill>
                <a:latin typeface="Times New Roman"/>
              </a:rPr>
              <a:t>de tipos de objetos de dad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 obj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de representar uma classe ou categoria de informaçã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893320" y="5867280"/>
            <a:ext cx="357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erarquia do objet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r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304920" y="2590920"/>
            <a:ext cx="8429400" cy="3055680"/>
            <a:chOff x="304920" y="2590920"/>
            <a:chExt cx="8429400" cy="3055680"/>
          </a:xfrm>
        </p:grpSpPr>
        <p:sp>
          <p:nvSpPr>
            <p:cNvPr id="355" name=""/>
            <p:cNvSpPr/>
            <p:nvPr/>
          </p:nvSpPr>
          <p:spPr>
            <a:xfrm>
              <a:off x="4692600" y="3757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029120" y="2590920"/>
              <a:ext cx="1268280" cy="541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arr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717560" y="4495680"/>
              <a:ext cx="1317600" cy="462240"/>
            </a:xfrm>
            <a:prstGeom prst="diamond">
              <a:avLst/>
            </a:pr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309760" y="4419720"/>
              <a:ext cx="139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622760" y="3192480"/>
              <a:ext cx="139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751040" y="3814920"/>
              <a:ext cx="1268280" cy="541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urope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083120" y="3814920"/>
              <a:ext cx="1266840" cy="541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omésti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553080" y="3814920"/>
              <a:ext cx="1266840" cy="541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siáti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029120" y="3290760"/>
              <a:ext cx="1319040" cy="462240"/>
            </a:xfrm>
            <a:prstGeom prst="diamond">
              <a:avLst/>
            </a:pr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4692600" y="311580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33160" y="3505320"/>
              <a:ext cx="175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333520" y="3524400"/>
              <a:ext cx="0" cy="29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210440" y="3524400"/>
              <a:ext cx="0" cy="29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676520" y="5105520"/>
              <a:ext cx="1266840" cy="541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ue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048120" y="5105520"/>
              <a:ext cx="1266840" cy="541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lemã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419720" y="5097600"/>
              <a:ext cx="1266840" cy="541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rancês/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glê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467480" y="5097600"/>
              <a:ext cx="1266840" cy="541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rea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942160" y="5097600"/>
              <a:ext cx="1268280" cy="541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Japonê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548400" y="4495680"/>
              <a:ext cx="1317600" cy="462240"/>
            </a:xfrm>
            <a:prstGeom prst="diamond">
              <a:avLst/>
            </a:pr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305320" y="350532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210440" y="4343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6372000" y="47242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372360" y="4724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896240" y="47242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048520" y="4724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4920" y="5105520"/>
              <a:ext cx="1266840" cy="541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lemã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2368440" y="43430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885960" y="47242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85960" y="4724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368440" y="49528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19320" y="472428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076720" y="4724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699000" y="4724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139160" y="4419720"/>
              <a:ext cx="139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Marcelo Turine - UN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5429-6553-4A29-A448-C6D6FD56605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Diagramas E-R (cont.)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912960" y="1600200"/>
            <a:ext cx="638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66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Associatividade </a:t>
            </a:r>
            <a:r>
              <a:rPr b="1" lang="en-US" sz="2800" spc="-1" strike="noStrike">
                <a:solidFill>
                  <a:srgbClr val="3366cc"/>
                </a:solidFill>
                <a:latin typeface="Times New Roman"/>
              </a:rPr>
              <a:t>entre objetos de d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288080" y="5562720"/>
            <a:ext cx="698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tos de dados que modelam subsistemas individu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dos ao objet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r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751040" y="2209680"/>
            <a:ext cx="6173640" cy="3208320"/>
            <a:chOff x="1751040" y="2209680"/>
            <a:chExt cx="6173640" cy="3208320"/>
          </a:xfrm>
        </p:grpSpPr>
        <p:sp>
          <p:nvSpPr>
            <p:cNvPr id="393" name=""/>
            <p:cNvSpPr/>
            <p:nvPr/>
          </p:nvSpPr>
          <p:spPr>
            <a:xfrm>
              <a:off x="4114800" y="3962520"/>
              <a:ext cx="1317600" cy="461880"/>
            </a:xfrm>
            <a:prstGeom prst="diamond">
              <a:avLst/>
            </a:pr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751040" y="3048120"/>
              <a:ext cx="1268280" cy="541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o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124080" y="3048120"/>
              <a:ext cx="1266840" cy="541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has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553080" y="3048120"/>
              <a:ext cx="1371600" cy="541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mbo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132520" y="3048120"/>
              <a:ext cx="1268280" cy="541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teri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191120" y="4876920"/>
              <a:ext cx="1266840" cy="541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arr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800600" y="274320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218120" y="2209680"/>
              <a:ext cx="1268280" cy="541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letrôni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2286000" y="419112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2286000" y="35812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3809880" y="35812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10080" y="4191120"/>
              <a:ext cx="198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7391520" y="35812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5943600" y="35812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800600" y="4419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Marcelo Turine - UN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38AF-E980-4DDD-8D3D-FED05B1746E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83059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Modelo de Análise Estruturada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1143000" y="1600200"/>
            <a:ext cx="6781680" cy="4724280"/>
            <a:chOff x="1143000" y="1600200"/>
            <a:chExt cx="6781680" cy="4724280"/>
          </a:xfrm>
        </p:grpSpPr>
        <p:sp>
          <p:nvSpPr>
            <p:cNvPr id="410" name=""/>
            <p:cNvSpPr/>
            <p:nvPr/>
          </p:nvSpPr>
          <p:spPr>
            <a:xfrm>
              <a:off x="1143000" y="1600200"/>
              <a:ext cx="6781680" cy="4724280"/>
            </a:xfrm>
            <a:prstGeom prst="ellipse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286000" y="2514600"/>
              <a:ext cx="4572000" cy="281952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648320" y="1600200"/>
              <a:ext cx="0" cy="1828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1676520" y="4343400"/>
              <a:ext cx="2209680" cy="914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334120" y="3124080"/>
              <a:ext cx="1614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iagrama d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Flux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      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e Da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590920" y="3581280"/>
              <a:ext cx="1371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iagram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E-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81280" y="3352680"/>
              <a:ext cx="2057400" cy="11430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033080" y="3581280"/>
              <a:ext cx="1145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icionário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 Da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964680" y="4572000"/>
              <a:ext cx="1953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iagrama 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ransição de Esta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410080" y="4267080"/>
              <a:ext cx="2210040" cy="762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105520" y="1981080"/>
              <a:ext cx="2286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Especificaçã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e Processo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             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(PSPE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752480" y="2133720"/>
              <a:ext cx="2286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        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escrição 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   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Objet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e Da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505320" y="5410080"/>
              <a:ext cx="2590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Especificação de Contro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            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(CSPE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838080" y="1905120"/>
            <a:ext cx="8077320" cy="3886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Diagrama de Fluxo de Dados (DF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z uma indicação de </a:t>
            </a:r>
            <a:r>
              <a:rPr b="1" lang="en-US" sz="2400" spc="-1" strike="noStrike">
                <a:solidFill>
                  <a:srgbClr val="3366cc"/>
                </a:solidFill>
                <a:latin typeface="Times New Roman"/>
              </a:rPr>
              <a:t>como os dados são transform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en-US" sz="2400" spc="-1" strike="noStrike">
                <a:solidFill>
                  <a:srgbClr val="3366cc"/>
                </a:solidFill>
                <a:latin typeface="Times New Roman"/>
              </a:rPr>
              <a:t>como se movimenta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través do sistem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screve as </a:t>
            </a:r>
            <a:r>
              <a:rPr b="1" lang="en-US" sz="2400" spc="-1" strike="noStrike">
                <a:solidFill>
                  <a:srgbClr val="3366cc"/>
                </a:solidFill>
                <a:latin typeface="Times New Roman"/>
              </a:rPr>
              <a:t>funções e subfunçõ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que transformam 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uxo de dado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é a base para a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modelagem funcion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nções apresentadas no DFD =&gt; contidas em u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Times New Roman"/>
              </a:rPr>
              <a:t>Especificaçã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66cc"/>
                </a:solidFill>
                <a:latin typeface="Times New Roman"/>
              </a:rPr>
              <a:t>de Processo (PSPEC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Marcelo Turine - UN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6A72-1FCD-44F1-9B04-2C28887D958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42720"/>
            <a:ext cx="8077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Modelo de Análise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Objetivos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ever </a:t>
            </a:r>
            <a:r>
              <a:rPr b="0" lang="en-US" sz="3200" spc="-1" strike="noStrike">
                <a:solidFill>
                  <a:srgbClr val="3366cc"/>
                </a:solidFill>
                <a:latin typeface="Times New Roman"/>
              </a:rPr>
              <a:t>o que o cliente desej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abelecer uma </a:t>
            </a:r>
            <a:r>
              <a:rPr b="0" lang="en-US" sz="3200" spc="-1" strike="noStrike">
                <a:solidFill>
                  <a:srgbClr val="3366cc"/>
                </a:solidFill>
                <a:latin typeface="Times New Roman"/>
              </a:rPr>
              <a:t>base para a criaçã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 um </a:t>
            </a:r>
            <a:r>
              <a:rPr b="0" lang="en-US" sz="3200" spc="-1" strike="noStrike">
                <a:solidFill>
                  <a:srgbClr val="3366cc"/>
                </a:solidFill>
                <a:latin typeface="Times New Roman"/>
              </a:rPr>
              <a:t>projeto de softwa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r um </a:t>
            </a:r>
            <a:r>
              <a:rPr b="0" lang="en-US" sz="3200" spc="-1" strike="noStrike">
                <a:solidFill>
                  <a:srgbClr val="3366cc"/>
                </a:solidFill>
                <a:latin typeface="Times New Roman"/>
              </a:rPr>
              <a:t>conjunto de requisit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que pode ser validado quando o software for construíd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Marcelo Turine - UN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BE15-5E65-44BB-8289-0EBEBA53B5A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342720"/>
            <a:ext cx="8458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Modelagem Funcional </a:t>
            </a:r>
            <a:br>
              <a:rPr sz="4400"/>
            </a:b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Diagrama de Fluxo de Dados (DFD)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écnica gráfica que descreve o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fluxo de informaçã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 as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transformaçõ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que são aplicadas à medida que os dados se movimentam da entrada para a saída (</a:t>
            </a:r>
            <a:r>
              <a:rPr b="0" lang="en-US" sz="3200" spc="-1" strike="noStrike">
                <a:solidFill>
                  <a:srgbClr val="6600ff"/>
                </a:solidFill>
                <a:latin typeface="Times New Roman"/>
              </a:rPr>
              <a:t>gráfico de bolh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66cc"/>
                </a:solidFill>
                <a:latin typeface="Times New Roman"/>
              </a:rPr>
              <a:t>Um sistema baseado em computador é representado como uma transformação de inform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Marcelo Turine - UN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B919-FDEC-43CA-ADE3-E9429472F7F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 Narrow"/>
              </a:rPr>
              <a:t>Componentes do modelo lógico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2133720" y="990720"/>
          <a:ext cx="5213160" cy="5522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990720"/>
                    <a:ext cx="5213160" cy="55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Marcelo Turine - UN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15C6-5946-4392-A6D2-B05816512F6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440" y="342720"/>
            <a:ext cx="8458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Diagrama de Fluxo de Dados (DFD)</a:t>
            </a:r>
            <a:br>
              <a:rPr sz="4400"/>
            </a:b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Notação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990720" y="1600200"/>
            <a:ext cx="7821000" cy="1294920"/>
            <a:chOff x="990720" y="1600200"/>
            <a:chExt cx="7821000" cy="1294920"/>
          </a:xfrm>
        </p:grpSpPr>
        <p:grpSp>
          <p:nvGrpSpPr>
            <p:cNvPr id="431" name=""/>
            <p:cNvGrpSpPr/>
            <p:nvPr/>
          </p:nvGrpSpPr>
          <p:grpSpPr>
            <a:xfrm>
              <a:off x="990720" y="1676520"/>
              <a:ext cx="2209320" cy="1218600"/>
              <a:chOff x="990720" y="1676520"/>
              <a:chExt cx="2209320" cy="1218600"/>
            </a:xfrm>
          </p:grpSpPr>
          <p:sp>
            <p:nvSpPr>
              <p:cNvPr id="432" name=""/>
              <p:cNvSpPr/>
              <p:nvPr/>
            </p:nvSpPr>
            <p:spPr>
              <a:xfrm>
                <a:off x="1143000" y="1828440"/>
                <a:ext cx="1675800" cy="1066680"/>
              </a:xfrm>
              <a:prstGeom prst="rect">
                <a:avLst/>
              </a:prstGeom>
              <a:solidFill>
                <a:srgbClr val="a5002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990720" y="1676520"/>
                <a:ext cx="1676160" cy="1066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143000" y="1828440"/>
                <a:ext cx="2057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ntidade externa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5" name=""/>
            <p:cNvSpPr/>
            <p:nvPr/>
          </p:nvSpPr>
          <p:spPr>
            <a:xfrm>
              <a:off x="3196440" y="1600200"/>
              <a:ext cx="561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m produtor ou consumidor de informaçõ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ue reside fora dos limites do sistema 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r modela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1066680" y="3048120"/>
            <a:ext cx="7625880" cy="1371600"/>
            <a:chOff x="1066680" y="3048120"/>
            <a:chExt cx="7625880" cy="1371600"/>
          </a:xfrm>
        </p:grpSpPr>
        <p:sp>
          <p:nvSpPr>
            <p:cNvPr id="437" name=""/>
            <p:cNvSpPr/>
            <p:nvPr/>
          </p:nvSpPr>
          <p:spPr>
            <a:xfrm>
              <a:off x="1066680" y="3048120"/>
              <a:ext cx="1600200" cy="1371600"/>
            </a:xfrm>
            <a:prstGeom prst="ellipse">
              <a:avLst/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process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228120" y="3048120"/>
              <a:ext cx="5464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m transformador de informação (função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ue reside dentro dos limites do sistema 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r modela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1447920" y="4343400"/>
            <a:ext cx="7398000" cy="990720"/>
            <a:chOff x="1447920" y="4343400"/>
            <a:chExt cx="7398000" cy="990720"/>
          </a:xfrm>
        </p:grpSpPr>
        <p:sp>
          <p:nvSpPr>
            <p:cNvPr id="440" name=""/>
            <p:cNvSpPr/>
            <p:nvPr/>
          </p:nvSpPr>
          <p:spPr>
            <a:xfrm flipV="1">
              <a:off x="1447920" y="4343400"/>
              <a:ext cx="152388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281040" y="4343400"/>
              <a:ext cx="5564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m objeto de dados; a seta indica a direção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o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luxo de dad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1066680" y="5257800"/>
            <a:ext cx="7618320" cy="1557000"/>
            <a:chOff x="1066680" y="5257800"/>
            <a:chExt cx="7618320" cy="1557000"/>
          </a:xfrm>
        </p:grpSpPr>
        <p:sp>
          <p:nvSpPr>
            <p:cNvPr id="443" name=""/>
            <p:cNvSpPr/>
            <p:nvPr/>
          </p:nvSpPr>
          <p:spPr>
            <a:xfrm>
              <a:off x="1143000" y="5791320"/>
              <a:ext cx="175248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4" name=""/>
            <p:cNvGrpSpPr/>
            <p:nvPr/>
          </p:nvGrpSpPr>
          <p:grpSpPr>
            <a:xfrm>
              <a:off x="1066680" y="5257800"/>
              <a:ext cx="7618320" cy="1557000"/>
              <a:chOff x="1066680" y="5257800"/>
              <a:chExt cx="7618320" cy="1557000"/>
            </a:xfrm>
          </p:grpSpPr>
          <p:sp>
            <p:nvSpPr>
              <p:cNvPr id="445" name=""/>
              <p:cNvSpPr/>
              <p:nvPr/>
            </p:nvSpPr>
            <p:spPr>
              <a:xfrm>
                <a:off x="1066680" y="5562720"/>
                <a:ext cx="1752840" cy="6094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Depósito d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dado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121560" y="5257800"/>
                <a:ext cx="556344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imes New Roman"/>
                  </a:rPr>
                  <a:t>Um repositório de dados pode ser usado p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imes New Roman"/>
                  </a:rPr>
                  <a:t>um ou mais processos. Pode ser tão simpl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imes New Roman"/>
                  </a:rPr>
                  <a:t>quanto um </a:t>
                </a:r>
                <a:r>
                  <a:rPr b="0" i="1" lang="pt-BR" sz="2400" spc="-1" strike="noStrike">
                    <a:solidFill>
                      <a:srgbClr val="000000"/>
                    </a:solidFill>
                    <a:latin typeface="Times New Roman"/>
                  </a:rPr>
                  <a:t>buffer</a:t>
                </a:r>
                <a:r>
                  <a:rPr b="0" lang="pt-BR" sz="2400" spc="-1" strike="noStrike">
                    <a:solidFill>
                      <a:srgbClr val="000000"/>
                    </a:solidFill>
                    <a:latin typeface="Times New Roman"/>
                  </a:rPr>
                  <a:t> ou tão sofisticado quant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imes New Roman"/>
                  </a:rPr>
                  <a:t>um banco de dados relacion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Marcelo Turine - UN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F900-E1E1-4D55-BA05-FA9D0F0A27C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Fluxo de Dados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s Fluxos de Dados representam o deslocamento de informações ent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m  Processo e uma Entidade Ex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ois Proces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m Processo e um Depósito de D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ão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ilícitos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os Fluxos de Dados entre: </a:t>
            </a:r>
            <a:r>
              <a:rPr b="0" lang="pt-B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SzPct val="75000"/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uas Entidades Ex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SzPct val="75000"/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ois Dépositos de D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SzPct val="75000"/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ma Entidade Externa e um Depósito de D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Marcelo Turine - UN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5435-BC1B-4BDD-9A1F-9AFA2DCD944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DFD de nível 0</a:t>
            </a:r>
            <a:br>
              <a:rPr sz="3600"/>
            </a:br>
            <a:r>
              <a:rPr b="0" lang="en-US" sz="4000" spc="-1" strike="noStrike">
                <a:solidFill>
                  <a:srgbClr val="a50021"/>
                </a:solidFill>
                <a:latin typeface="Tahoma"/>
              </a:rPr>
              <a:t>Modelo de contexto</a:t>
            </a: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 (modelo fundamental do sistema)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581280" y="3200400"/>
            <a:ext cx="1600200" cy="1371600"/>
          </a:xfrm>
          <a:prstGeom prst="ellipse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581280" y="35812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762120" y="4724280"/>
            <a:ext cx="2209320" cy="1219320"/>
            <a:chOff x="762120" y="4724280"/>
            <a:chExt cx="2209320" cy="1219320"/>
          </a:xfrm>
        </p:grpSpPr>
        <p:sp>
          <p:nvSpPr>
            <p:cNvPr id="453" name=""/>
            <p:cNvSpPr/>
            <p:nvPr/>
          </p:nvSpPr>
          <p:spPr>
            <a:xfrm>
              <a:off x="914400" y="4876560"/>
              <a:ext cx="1675800" cy="106704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4724280"/>
              <a:ext cx="1676160" cy="106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914400" y="4876560"/>
              <a:ext cx="2057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ntidade extern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762120" y="2895480"/>
            <a:ext cx="2209320" cy="1219320"/>
            <a:chOff x="762120" y="2895480"/>
            <a:chExt cx="2209320" cy="1219320"/>
          </a:xfrm>
        </p:grpSpPr>
        <p:sp>
          <p:nvSpPr>
            <p:cNvPr id="457" name=""/>
            <p:cNvSpPr/>
            <p:nvPr/>
          </p:nvSpPr>
          <p:spPr>
            <a:xfrm>
              <a:off x="914400" y="3047760"/>
              <a:ext cx="1675800" cy="106704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62120" y="2895480"/>
              <a:ext cx="1676160" cy="106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914400" y="3047760"/>
              <a:ext cx="2057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ntidade extern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6400800" y="1828800"/>
            <a:ext cx="2209320" cy="1219320"/>
            <a:chOff x="6400800" y="1828800"/>
            <a:chExt cx="2209320" cy="1219320"/>
          </a:xfrm>
        </p:grpSpPr>
        <p:sp>
          <p:nvSpPr>
            <p:cNvPr id="461" name=""/>
            <p:cNvSpPr/>
            <p:nvPr/>
          </p:nvSpPr>
          <p:spPr>
            <a:xfrm>
              <a:off x="6553080" y="1981080"/>
              <a:ext cx="1675800" cy="106704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400800" y="1828800"/>
              <a:ext cx="1676160" cy="106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553080" y="1981080"/>
              <a:ext cx="2057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ntidade extern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6324480" y="3429000"/>
            <a:ext cx="2210040" cy="1219320"/>
            <a:chOff x="6324480" y="3429000"/>
            <a:chExt cx="2210040" cy="1219320"/>
          </a:xfrm>
        </p:grpSpPr>
        <p:sp>
          <p:nvSpPr>
            <p:cNvPr id="465" name=""/>
            <p:cNvSpPr/>
            <p:nvPr/>
          </p:nvSpPr>
          <p:spPr>
            <a:xfrm>
              <a:off x="6477120" y="3581280"/>
              <a:ext cx="1676160" cy="106704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324480" y="3429000"/>
              <a:ext cx="1676520" cy="106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477120" y="3581280"/>
              <a:ext cx="20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ntidade extern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6400800" y="5029200"/>
            <a:ext cx="2209320" cy="1219320"/>
            <a:chOff x="6400800" y="5029200"/>
            <a:chExt cx="2209320" cy="1219320"/>
          </a:xfrm>
        </p:grpSpPr>
        <p:sp>
          <p:nvSpPr>
            <p:cNvPr id="469" name=""/>
            <p:cNvSpPr/>
            <p:nvPr/>
          </p:nvSpPr>
          <p:spPr>
            <a:xfrm>
              <a:off x="6553080" y="5181480"/>
              <a:ext cx="1675800" cy="106704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400800" y="5029200"/>
              <a:ext cx="1676160" cy="106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553080" y="5181480"/>
              <a:ext cx="2057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ntidade extern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2" name=""/>
          <p:cNvSpPr/>
          <p:nvPr/>
        </p:nvSpPr>
        <p:spPr>
          <a:xfrm>
            <a:off x="2590920" y="3429000"/>
            <a:ext cx="9903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2590920" y="4343400"/>
            <a:ext cx="114300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4876920" y="2361960"/>
            <a:ext cx="1523880" cy="99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181480" y="39625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800600" y="4495680"/>
            <a:ext cx="160020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733920" y="23623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ção de saí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914400" y="41911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ção de ent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819520" y="3124080"/>
            <a:ext cx="304560" cy="228600"/>
          </a:xfrm>
          <a:prstGeom prst="ellipse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200400" y="4876920"/>
            <a:ext cx="304920" cy="228600"/>
          </a:xfrm>
          <a:prstGeom prst="ellipse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029200" y="2819520"/>
            <a:ext cx="304920" cy="228600"/>
          </a:xfrm>
          <a:prstGeom prst="ellipse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638680" y="3657600"/>
            <a:ext cx="304920" cy="228600"/>
          </a:xfrm>
          <a:prstGeom prst="ellipse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952880" y="4952880"/>
            <a:ext cx="304920" cy="228600"/>
          </a:xfrm>
          <a:prstGeom prst="ellipse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Marcelo Turine - UN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54DD-5F18-4059-87A6-A66121F1ECB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 Narrow"/>
              </a:rPr>
              <a:t>Diretrizes Básicas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Times New Roman"/>
              </a:rPr>
              <a:t>1)</a:t>
            </a: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DFD de nível 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ve descrever o software como uma única bol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Times New Roman"/>
              </a:rPr>
              <a:t>2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input e o output inicia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vem ser cuidadosamente ano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Times New Roman"/>
              </a:rPr>
              <a:t>3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refinamen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ve iniciar isolando-se possíveis processos, itens de dados e depósitos de dados a serem representados no próximo ní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Times New Roman"/>
              </a:rPr>
              <a:t>4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das as </a:t>
            </a: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seta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e </a:t>
            </a: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bolha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vem ser </a:t>
            </a: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rotulada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m </a:t>
            </a: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nomes signific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Times New Roman"/>
              </a:rPr>
              <a:t>5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continuidade do fluxo de informaçã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ve ser mantida entre níveis de refin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Times New Roman"/>
              </a:rPr>
              <a:t>6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ve ser refinada uma bolha de cada 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Marcelo Turine - UN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5DC4-B83C-4EB6-9805-6C334866558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7720" y="342720"/>
            <a:ext cx="8001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 Narrow"/>
              </a:rPr>
              <a:t>Refinamento do</a:t>
            </a:r>
            <a:r>
              <a:rPr b="0" lang="en-US" sz="4000" spc="-1" strike="noStrike">
                <a:solidFill>
                  <a:srgbClr val="a50021"/>
                </a:solidFill>
                <a:latin typeface="Arial Narrow"/>
              </a:rPr>
              <a:t> </a:t>
            </a:r>
            <a:r>
              <a:rPr b="1" lang="en-US" sz="4000" spc="-1" strike="noStrike">
                <a:solidFill>
                  <a:srgbClr val="a50021"/>
                </a:solidFill>
                <a:latin typeface="Arial Narrow"/>
              </a:rPr>
              <a:t>Fluxo de Informação</a:t>
            </a:r>
            <a:endParaRPr b="0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DFD de nível 0  é dividido em partições para revelar mais detalhes. A continuidade do fluxo de informação deve ser manti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533520" y="2895480"/>
            <a:ext cx="8381880" cy="3581640"/>
            <a:chOff x="533520" y="2895480"/>
            <a:chExt cx="8381880" cy="3581640"/>
          </a:xfrm>
        </p:grpSpPr>
        <p:sp>
          <p:nvSpPr>
            <p:cNvPr id="489" name=""/>
            <p:cNvSpPr/>
            <p:nvPr/>
          </p:nvSpPr>
          <p:spPr>
            <a:xfrm>
              <a:off x="533520" y="2895480"/>
              <a:ext cx="8305560" cy="35816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191120" y="2971800"/>
              <a:ext cx="609480" cy="6094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657600" y="28954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876920" y="28954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3" name=""/>
            <p:cNvGrpSpPr/>
            <p:nvPr/>
          </p:nvGrpSpPr>
          <p:grpSpPr>
            <a:xfrm>
              <a:off x="1143000" y="3048120"/>
              <a:ext cx="7772400" cy="3370680"/>
              <a:chOff x="1143000" y="3048120"/>
              <a:chExt cx="7772400" cy="3370680"/>
            </a:xfrm>
          </p:grpSpPr>
          <p:sp>
            <p:nvSpPr>
              <p:cNvPr id="494" name=""/>
              <p:cNvSpPr/>
              <p:nvPr/>
            </p:nvSpPr>
            <p:spPr>
              <a:xfrm>
                <a:off x="1676520" y="4114800"/>
                <a:ext cx="533160" cy="4572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743200" y="3657600"/>
                <a:ext cx="533520" cy="4572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743200" y="4648320"/>
                <a:ext cx="533520" cy="4572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267080" y="4114800"/>
                <a:ext cx="533520" cy="4572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715000" y="4419720"/>
                <a:ext cx="533520" cy="4572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886200" y="5334120"/>
                <a:ext cx="45720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962520" y="6019920"/>
                <a:ext cx="45720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181480" y="6019920"/>
                <a:ext cx="45720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029200" y="5334120"/>
                <a:ext cx="45720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705720" y="5410080"/>
                <a:ext cx="457200" cy="381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345200" y="30481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Narrow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820960" y="3657600"/>
                <a:ext cx="403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Narrow"/>
                  </a:rPr>
                  <a:t>f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344840" y="4114800"/>
                <a:ext cx="403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Narrow"/>
                  </a:rPr>
                  <a:t>f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7" name=""/>
              <p:cNvGrpSpPr/>
              <p:nvPr/>
            </p:nvGrpSpPr>
            <p:grpSpPr>
              <a:xfrm>
                <a:off x="6705720" y="3429000"/>
                <a:ext cx="533160" cy="459720"/>
                <a:chOff x="6705720" y="3429000"/>
                <a:chExt cx="533160" cy="459720"/>
              </a:xfrm>
            </p:grpSpPr>
            <p:sp>
              <p:nvSpPr>
                <p:cNvPr id="508" name=""/>
                <p:cNvSpPr/>
                <p:nvPr/>
              </p:nvSpPr>
              <p:spPr>
                <a:xfrm>
                  <a:off x="6705720" y="3429000"/>
                  <a:ext cx="533160" cy="457200"/>
                </a:xfrm>
                <a:prstGeom prst="ellipse">
                  <a:avLst/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6783120" y="3429000"/>
                  <a:ext cx="403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f6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0" name=""/>
              <p:cNvSpPr/>
              <p:nvPr/>
            </p:nvSpPr>
            <p:spPr>
              <a:xfrm>
                <a:off x="5792760" y="4419720"/>
                <a:ext cx="403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Narrow"/>
                  </a:rPr>
                  <a:t>f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1" name=""/>
              <p:cNvGrpSpPr/>
              <p:nvPr/>
            </p:nvGrpSpPr>
            <p:grpSpPr>
              <a:xfrm>
                <a:off x="7772400" y="4419720"/>
                <a:ext cx="533160" cy="459720"/>
                <a:chOff x="7772400" y="4419720"/>
                <a:chExt cx="533160" cy="459720"/>
              </a:xfrm>
            </p:grpSpPr>
            <p:sp>
              <p:nvSpPr>
                <p:cNvPr id="512" name=""/>
                <p:cNvSpPr/>
                <p:nvPr/>
              </p:nvSpPr>
              <p:spPr>
                <a:xfrm>
                  <a:off x="7772400" y="4419720"/>
                  <a:ext cx="533160" cy="457200"/>
                </a:xfrm>
                <a:prstGeom prst="ellipse">
                  <a:avLst/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7849800" y="4419720"/>
                  <a:ext cx="403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f7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4" name=""/>
              <p:cNvSpPr/>
              <p:nvPr/>
            </p:nvSpPr>
            <p:spPr>
              <a:xfrm>
                <a:off x="1753920" y="4114800"/>
                <a:ext cx="403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Narrow"/>
                  </a:rPr>
                  <a:t>f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820960" y="4648320"/>
                <a:ext cx="403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Narrow"/>
                  </a:rPr>
                  <a:t>f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886200" y="5334120"/>
                <a:ext cx="533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f4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963960" y="6019920"/>
                <a:ext cx="482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f4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030640" y="5334120"/>
                <a:ext cx="482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f4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183280" y="6019920"/>
                <a:ext cx="482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f4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707160" y="5410080"/>
                <a:ext cx="482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f4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3657600" y="327672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800600" y="327672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219320" y="4267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V="1">
                <a:off x="2133720" y="3962160"/>
                <a:ext cx="6094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2133720" y="4495680"/>
                <a:ext cx="60948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276720" y="3809880"/>
                <a:ext cx="99036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V="1">
                <a:off x="3276720" y="4495320"/>
                <a:ext cx="99036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800600" y="4343400"/>
                <a:ext cx="9144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V="1">
                <a:off x="6095880" y="3733560"/>
                <a:ext cx="60984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248520" y="4648320"/>
                <a:ext cx="152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238880" y="3733920"/>
                <a:ext cx="83844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352680" y="556272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3429000" y="624852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343400" y="556272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4495680" y="617220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486400" y="5486400"/>
                <a:ext cx="121932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V="1">
                <a:off x="5638680" y="5715000"/>
                <a:ext cx="106704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162920" y="563868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V="1">
                <a:off x="8305920" y="4572000"/>
                <a:ext cx="53316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143000" y="38862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133720" y="36576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2133720" y="449568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W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809880" y="3733920"/>
                <a:ext cx="60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3505320" y="43434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952880" y="4038480"/>
                <a:ext cx="60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5943600" y="380988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Z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467480" y="3657600"/>
                <a:ext cx="60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Z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6629400" y="426708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Z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8305920" y="419112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3276720" y="518148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3429000" y="586728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343400" y="518148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4572000" y="579132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Y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791320" y="510552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715000" y="563868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Y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238880" y="5257800"/>
                <a:ext cx="60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446120" y="3298680"/>
                <a:ext cx="2752920" cy="952560"/>
              </a:xfrm>
              <a:custGeom>
                <a:avLst/>
                <a:gdLst/>
                <a:ahLst/>
                <a:rect l="l" t="t" r="r" b="b"/>
                <a:pathLst>
                  <a:path w="1734" h="600">
                    <a:moveTo>
                      <a:pt x="1734" y="0"/>
                    </a:moveTo>
                    <a:cubicBezTo>
                      <a:pt x="1711" y="91"/>
                      <a:pt x="1640" y="77"/>
                      <a:pt x="1556" y="88"/>
                    </a:cubicBezTo>
                    <a:cubicBezTo>
                      <a:pt x="1463" y="100"/>
                      <a:pt x="1371" y="111"/>
                      <a:pt x="1278" y="122"/>
                    </a:cubicBezTo>
                    <a:cubicBezTo>
                      <a:pt x="965" y="161"/>
                      <a:pt x="740" y="160"/>
                      <a:pt x="389" y="166"/>
                    </a:cubicBezTo>
                    <a:cubicBezTo>
                      <a:pt x="315" y="191"/>
                      <a:pt x="290" y="276"/>
                      <a:pt x="222" y="300"/>
                    </a:cubicBezTo>
                    <a:cubicBezTo>
                      <a:pt x="194" y="383"/>
                      <a:pt x="235" y="284"/>
                      <a:pt x="178" y="355"/>
                    </a:cubicBezTo>
                    <a:cubicBezTo>
                      <a:pt x="171" y="364"/>
                      <a:pt x="174" y="379"/>
                      <a:pt x="167" y="388"/>
                    </a:cubicBezTo>
                    <a:cubicBezTo>
                      <a:pt x="155" y="405"/>
                      <a:pt x="137" y="418"/>
                      <a:pt x="122" y="433"/>
                    </a:cubicBezTo>
                    <a:cubicBezTo>
                      <a:pt x="103" y="452"/>
                      <a:pt x="93" y="478"/>
                      <a:pt x="78" y="500"/>
                    </a:cubicBezTo>
                    <a:cubicBezTo>
                      <a:pt x="53" y="538"/>
                      <a:pt x="30" y="567"/>
                      <a:pt x="0" y="600"/>
                    </a:cubicBezTo>
                  </a:path>
                </a:pathLst>
              </a:custGeom>
              <a:noFill/>
              <a:ln cap="rnd" w="9360">
                <a:solidFill>
                  <a:srgbClr val="a50021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773600" y="3244680"/>
                <a:ext cx="3627360" cy="1411560"/>
              </a:xfrm>
              <a:custGeom>
                <a:avLst/>
                <a:gdLst/>
                <a:ahLst/>
                <a:rect l="l" t="t" r="r" b="b"/>
                <a:pathLst>
                  <a:path w="2285" h="889">
                    <a:moveTo>
                      <a:pt x="16" y="22"/>
                    </a:moveTo>
                    <a:cubicBezTo>
                      <a:pt x="26" y="166"/>
                      <a:pt x="0" y="169"/>
                      <a:pt x="93" y="234"/>
                    </a:cubicBezTo>
                    <a:cubicBezTo>
                      <a:pt x="212" y="226"/>
                      <a:pt x="331" y="224"/>
                      <a:pt x="449" y="211"/>
                    </a:cubicBezTo>
                    <a:cubicBezTo>
                      <a:pt x="472" y="209"/>
                      <a:pt x="516" y="189"/>
                      <a:pt x="516" y="189"/>
                    </a:cubicBezTo>
                    <a:cubicBezTo>
                      <a:pt x="527" y="182"/>
                      <a:pt x="537" y="172"/>
                      <a:pt x="549" y="167"/>
                    </a:cubicBezTo>
                    <a:cubicBezTo>
                      <a:pt x="571" y="158"/>
                      <a:pt x="616" y="145"/>
                      <a:pt x="616" y="145"/>
                    </a:cubicBezTo>
                    <a:cubicBezTo>
                      <a:pt x="670" y="107"/>
                      <a:pt x="715" y="108"/>
                      <a:pt x="782" y="100"/>
                    </a:cubicBezTo>
                    <a:cubicBezTo>
                      <a:pt x="861" y="61"/>
                      <a:pt x="797" y="87"/>
                      <a:pt x="916" y="67"/>
                    </a:cubicBezTo>
                    <a:cubicBezTo>
                      <a:pt x="1025" y="49"/>
                      <a:pt x="1128" y="14"/>
                      <a:pt x="1238" y="0"/>
                    </a:cubicBezTo>
                    <a:cubicBezTo>
                      <a:pt x="1382" y="4"/>
                      <a:pt x="1527" y="1"/>
                      <a:pt x="1671" y="11"/>
                    </a:cubicBezTo>
                    <a:cubicBezTo>
                      <a:pt x="1688" y="12"/>
                      <a:pt x="1700" y="28"/>
                      <a:pt x="1716" y="34"/>
                    </a:cubicBezTo>
                    <a:cubicBezTo>
                      <a:pt x="1769" y="55"/>
                      <a:pt x="1830" y="83"/>
                      <a:pt x="1883" y="100"/>
                    </a:cubicBezTo>
                    <a:cubicBezTo>
                      <a:pt x="1935" y="135"/>
                      <a:pt x="1908" y="143"/>
                      <a:pt x="1960" y="178"/>
                    </a:cubicBezTo>
                    <a:cubicBezTo>
                      <a:pt x="1979" y="205"/>
                      <a:pt x="2004" y="244"/>
                      <a:pt x="2027" y="267"/>
                    </a:cubicBezTo>
                    <a:cubicBezTo>
                      <a:pt x="2044" y="284"/>
                      <a:pt x="2066" y="295"/>
                      <a:pt x="2083" y="311"/>
                    </a:cubicBezTo>
                    <a:cubicBezTo>
                      <a:pt x="2096" y="350"/>
                      <a:pt x="2086" y="337"/>
                      <a:pt x="2105" y="356"/>
                    </a:cubicBezTo>
                    <a:cubicBezTo>
                      <a:pt x="2118" y="383"/>
                      <a:pt x="2137" y="407"/>
                      <a:pt x="2149" y="434"/>
                    </a:cubicBezTo>
                    <a:cubicBezTo>
                      <a:pt x="2182" y="509"/>
                      <a:pt x="2191" y="590"/>
                      <a:pt x="2216" y="667"/>
                    </a:cubicBezTo>
                    <a:cubicBezTo>
                      <a:pt x="2227" y="700"/>
                      <a:pt x="2230" y="738"/>
                      <a:pt x="2249" y="767"/>
                    </a:cubicBezTo>
                    <a:cubicBezTo>
                      <a:pt x="2264" y="789"/>
                      <a:pt x="2279" y="807"/>
                      <a:pt x="2283" y="834"/>
                    </a:cubicBezTo>
                    <a:cubicBezTo>
                      <a:pt x="2285" y="852"/>
                      <a:pt x="2283" y="871"/>
                      <a:pt x="2283" y="889"/>
                    </a:cubicBezTo>
                  </a:path>
                </a:pathLst>
              </a:custGeom>
              <a:noFill/>
              <a:ln cap="rnd" w="9360">
                <a:solidFill>
                  <a:srgbClr val="a50021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827520" y="4568760"/>
                <a:ext cx="347760" cy="1674720"/>
              </a:xfrm>
              <a:custGeom>
                <a:avLst/>
                <a:gdLst/>
                <a:ahLst/>
                <a:rect l="l" t="t" r="r" b="b"/>
                <a:pathLst>
                  <a:path w="219" h="1055">
                    <a:moveTo>
                      <a:pt x="178" y="0"/>
                    </a:moveTo>
                    <a:cubicBezTo>
                      <a:pt x="211" y="98"/>
                      <a:pt x="219" y="234"/>
                      <a:pt x="145" y="311"/>
                    </a:cubicBezTo>
                    <a:cubicBezTo>
                      <a:pt x="120" y="387"/>
                      <a:pt x="140" y="361"/>
                      <a:pt x="100" y="399"/>
                    </a:cubicBezTo>
                    <a:cubicBezTo>
                      <a:pt x="88" y="459"/>
                      <a:pt x="89" y="436"/>
                      <a:pt x="89" y="466"/>
                    </a:cubicBezTo>
                    <a:cubicBezTo>
                      <a:pt x="45" y="481"/>
                      <a:pt x="33" y="512"/>
                      <a:pt x="0" y="544"/>
                    </a:cubicBezTo>
                    <a:cubicBezTo>
                      <a:pt x="10" y="610"/>
                      <a:pt x="32" y="668"/>
                      <a:pt x="45" y="733"/>
                    </a:cubicBezTo>
                    <a:cubicBezTo>
                      <a:pt x="49" y="755"/>
                      <a:pt x="51" y="777"/>
                      <a:pt x="56" y="799"/>
                    </a:cubicBezTo>
                    <a:cubicBezTo>
                      <a:pt x="62" y="822"/>
                      <a:pt x="78" y="866"/>
                      <a:pt x="78" y="866"/>
                    </a:cubicBezTo>
                    <a:cubicBezTo>
                      <a:pt x="90" y="1052"/>
                      <a:pt x="142" y="1017"/>
                      <a:pt x="67" y="1055"/>
                    </a:cubicBezTo>
                  </a:path>
                </a:pathLst>
              </a:custGeom>
              <a:noFill/>
              <a:ln cap="rnd" w="9360">
                <a:solidFill>
                  <a:srgbClr val="a50021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886280" y="4373640"/>
                <a:ext cx="2381400" cy="1270080"/>
              </a:xfrm>
              <a:custGeom>
                <a:avLst/>
                <a:gdLst/>
                <a:ahLst/>
                <a:rect l="l" t="t" r="r" b="b"/>
                <a:pathLst>
                  <a:path w="1500" h="800">
                    <a:moveTo>
                      <a:pt x="0" y="0"/>
                    </a:moveTo>
                    <a:cubicBezTo>
                      <a:pt x="4" y="52"/>
                      <a:pt x="4" y="104"/>
                      <a:pt x="11" y="156"/>
                    </a:cubicBezTo>
                    <a:cubicBezTo>
                      <a:pt x="21" y="232"/>
                      <a:pt x="18" y="455"/>
                      <a:pt x="145" y="467"/>
                    </a:cubicBezTo>
                    <a:cubicBezTo>
                      <a:pt x="208" y="473"/>
                      <a:pt x="271" y="477"/>
                      <a:pt x="334" y="478"/>
                    </a:cubicBezTo>
                    <a:cubicBezTo>
                      <a:pt x="615" y="484"/>
                      <a:pt x="897" y="485"/>
                      <a:pt x="1178" y="489"/>
                    </a:cubicBezTo>
                    <a:cubicBezTo>
                      <a:pt x="1179" y="489"/>
                      <a:pt x="1305" y="496"/>
                      <a:pt x="1334" y="511"/>
                    </a:cubicBezTo>
                    <a:cubicBezTo>
                      <a:pt x="1358" y="523"/>
                      <a:pt x="1400" y="556"/>
                      <a:pt x="1400" y="556"/>
                    </a:cubicBezTo>
                    <a:cubicBezTo>
                      <a:pt x="1451" y="631"/>
                      <a:pt x="1427" y="603"/>
                      <a:pt x="1467" y="645"/>
                    </a:cubicBezTo>
                    <a:cubicBezTo>
                      <a:pt x="1488" y="709"/>
                      <a:pt x="1500" y="736"/>
                      <a:pt x="1500" y="800"/>
                    </a:cubicBezTo>
                  </a:path>
                </a:pathLst>
              </a:custGeom>
              <a:noFill/>
              <a:ln cap="rnd" w="9360">
                <a:solidFill>
                  <a:srgbClr val="a50021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Marcelo Turine - UN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1249-9792-449E-B78B-FC8146AD90B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DFD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Técnica gráfica que pode ser muito valiosa durante a análise de requisi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Não confundir com FLUXOGR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DFD descreve o fluxo de informação sem uma representação explícita da lógica procedimental (por exemplo, loop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Marcelo Turine - UN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6DD8-2021-419B-B298-C72ED164031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83059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Modelo de Análise Estruturada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1143000" y="1600200"/>
            <a:ext cx="6781680" cy="4724280"/>
            <a:chOff x="1143000" y="1600200"/>
            <a:chExt cx="6781680" cy="4724280"/>
          </a:xfrm>
        </p:grpSpPr>
        <p:sp>
          <p:nvSpPr>
            <p:cNvPr id="565" name=""/>
            <p:cNvSpPr/>
            <p:nvPr/>
          </p:nvSpPr>
          <p:spPr>
            <a:xfrm>
              <a:off x="1143000" y="1600200"/>
              <a:ext cx="6781680" cy="4724280"/>
            </a:xfrm>
            <a:prstGeom prst="ellipse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286000" y="2514600"/>
              <a:ext cx="4572000" cy="281952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648320" y="1600200"/>
              <a:ext cx="0" cy="1828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1676520" y="4343400"/>
              <a:ext cx="2209680" cy="914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334120" y="3124080"/>
              <a:ext cx="1614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iagrama d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Flux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      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e Da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590920" y="3581280"/>
              <a:ext cx="1371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iagram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E-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581280" y="3352680"/>
              <a:ext cx="2057400" cy="11430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033080" y="3581280"/>
              <a:ext cx="1145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icionário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 Da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964680" y="4572000"/>
              <a:ext cx="2003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iagrama 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ransição de  Esta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10080" y="4267080"/>
              <a:ext cx="2210040" cy="762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105520" y="1981080"/>
              <a:ext cx="2286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99"/>
                  </a:solidFill>
                  <a:latin typeface="Times New Roman"/>
                </a:rPr>
                <a:t>Especificaçã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99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ff99"/>
                  </a:solidFill>
                  <a:latin typeface="Times New Roman"/>
                </a:rPr>
                <a:t>de Processo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99"/>
                  </a:solidFill>
                  <a:latin typeface="Times New Roman"/>
                </a:rPr>
                <a:t>                  </a:t>
              </a:r>
              <a:r>
                <a:rPr b="1" lang="en-US" sz="1600" spc="-1" strike="noStrike">
                  <a:solidFill>
                    <a:srgbClr val="ffff99"/>
                  </a:solidFill>
                  <a:latin typeface="Times New Roman"/>
                </a:rPr>
                <a:t>(PSPE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752480" y="2133720"/>
              <a:ext cx="2286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        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escrição 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   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Objet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e Da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505320" y="5410080"/>
              <a:ext cx="2590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Especificação de Contro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            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(CSPE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Marcelo Turine - UN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93D8-9F74-424A-A6FA-E81EC824740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83059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 Narrow"/>
              </a:rPr>
              <a:t>Especificação de Processo (PSPEC)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66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 PSPEC é usada para </a:t>
            </a:r>
            <a:r>
              <a:rPr b="0" lang="en-US" sz="3200" spc="-1" strike="noStrike">
                <a:solidFill>
                  <a:srgbClr val="3366cc"/>
                </a:solidFill>
                <a:latin typeface="Times New Roman"/>
              </a:rPr>
              <a:t>descrever todos os processos do DFD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 aparecem no nível de refinamento f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66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cc"/>
                </a:solidFill>
                <a:latin typeface="Times New Roman"/>
              </a:rPr>
              <a:t>Descreve a entrad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a uma função, o </a:t>
            </a:r>
            <a:r>
              <a:rPr b="0" lang="en-US" sz="2800" spc="-1" strike="noStrike">
                <a:solidFill>
                  <a:srgbClr val="3366cc"/>
                </a:solidFill>
                <a:latin typeface="Times New Roman"/>
              </a:rPr>
              <a:t>algoritm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 é aplicado às entradas e às saídas que são produzida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66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cc"/>
                </a:solidFill>
                <a:latin typeface="Times New Roman"/>
              </a:rPr>
              <a:t>Indica restrições e limitaçõ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mpostas ao processo (função), descrevendo características que são relevantes ao processo, e restrições de projet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914400" y="3581280"/>
            <a:ext cx="7620120" cy="2819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66cc"/>
                </a:solidFill>
                <a:latin typeface="Times New Roman"/>
              </a:rPr>
              <a:t>Pode inclui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texto narr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descrição do algoritmo do proces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(linguagem de projeto de programas -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pdl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quações matemáticas,  tabelas, diagram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u grá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Marcelo Turine - UN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C05F-9772-4A9A-AED4-5B48A673E0B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img00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Marcelo Turine - UNI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61F4-6205-49F0-9A3A-68BE5F3C99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83059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Modelo de Análise Estruturada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1143000" y="1600200"/>
            <a:ext cx="6781680" cy="4724280"/>
            <a:chOff x="1143000" y="1600200"/>
            <a:chExt cx="6781680" cy="4724280"/>
          </a:xfrm>
        </p:grpSpPr>
        <p:sp>
          <p:nvSpPr>
            <p:cNvPr id="583" name=""/>
            <p:cNvSpPr/>
            <p:nvPr/>
          </p:nvSpPr>
          <p:spPr>
            <a:xfrm>
              <a:off x="1143000" y="1600200"/>
              <a:ext cx="6781680" cy="4724280"/>
            </a:xfrm>
            <a:prstGeom prst="ellipse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286000" y="2514600"/>
              <a:ext cx="4572000" cy="281952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648320" y="1600200"/>
              <a:ext cx="0" cy="1828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V="1">
              <a:off x="1676520" y="4343400"/>
              <a:ext cx="2209680" cy="914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334120" y="3124080"/>
              <a:ext cx="1614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iagrama d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Flux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      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e Da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590920" y="3581280"/>
              <a:ext cx="1371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iagram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E-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581280" y="3352680"/>
              <a:ext cx="2057400" cy="11430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033080" y="3581280"/>
              <a:ext cx="1145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icionário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 Da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964680" y="4572000"/>
              <a:ext cx="2003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iagrama d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ransição de  Esta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410080" y="4267080"/>
              <a:ext cx="2210040" cy="762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105520" y="1981080"/>
              <a:ext cx="2286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Especificaçã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e Processo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             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(PSPE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752480" y="2133720"/>
              <a:ext cx="2286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        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escrição 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   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Objet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e Da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505320" y="5410080"/>
              <a:ext cx="2590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Especificação de Contro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            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(CSPE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6" name=""/>
          <p:cNvSpPr/>
          <p:nvPr/>
        </p:nvSpPr>
        <p:spPr>
          <a:xfrm>
            <a:off x="838080" y="2438280"/>
            <a:ext cx="7925040" cy="3886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Diagrama de Transição de Estado (DT-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ica </a:t>
            </a:r>
            <a:r>
              <a:rPr b="1" lang="en-US" sz="2400" spc="-1" strike="noStrike">
                <a:solidFill>
                  <a:srgbClr val="3366cc"/>
                </a:solidFill>
                <a:latin typeface="Times New Roman"/>
              </a:rPr>
              <a:t>como o sistema 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omo uma conseqüência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entos externo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resenta os </a:t>
            </a:r>
            <a:r>
              <a:rPr b="1" lang="en-US" sz="2400" spc="-1" strike="noStrike">
                <a:solidFill>
                  <a:srgbClr val="3366cc"/>
                </a:solidFill>
                <a:latin typeface="Times New Roman"/>
              </a:rPr>
              <a:t>estados do sistem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e o gerenciador no 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ições são feitas de estado para estad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é a base para a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modelagem comportament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ormações adicionais sobre os aspectos de contro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 software =&gt; </a:t>
            </a:r>
            <a:r>
              <a:rPr b="1" lang="en-US" sz="2400" spc="-1" strike="noStrike">
                <a:solidFill>
                  <a:srgbClr val="3366cc"/>
                </a:solidFill>
                <a:latin typeface="Times New Roman"/>
              </a:rPr>
              <a:t>Especificaçã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66cc"/>
                </a:solidFill>
                <a:latin typeface="Times New Roman"/>
              </a:rPr>
              <a:t>de Controle (CSPEC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Marcelo Turine - UN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DA43-A300-4E39-9BA4-0160BABE1C0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Modelagem Comportamental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3366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é um princípio operacional para todos os métodos de análise de requisito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3366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nte versões extendidas de análise estruturada produzem a notação para esta modelagem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3366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DT-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3366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representa o comportamen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 um sistema descrevendo os estados e os eventos que causam as mudanças de estado no sistem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3366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indica quais açõ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ativação de processo) são tomadas como uma conseqüência de um evento particula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Marcelo Turine - UN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04A4-8C87-4CA5-B674-BB79A219BCC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761760" y="34272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Modelagem Comportamental (cont.)</a:t>
            </a:r>
            <a:br>
              <a:rPr sz="4400"/>
            </a:b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Notação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819520" y="1752480"/>
            <a:ext cx="594360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-267480">
              <a:spcBef>
                <a:spcPts val="700"/>
              </a:spcBef>
              <a:buClr>
                <a:srgbClr val="3366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resenta os </a:t>
            </a: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estad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o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700"/>
              </a:spcBef>
              <a:buClr>
                <a:srgbClr val="3366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resenta as</a:t>
            </a: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 transiçõe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re os estados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700"/>
              </a:spcBef>
              <a:buClr>
                <a:srgbClr val="3366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da transição é nomeada com uma expressã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601"/>
              </a:spcBef>
              <a:buClr>
                <a:srgbClr val="3366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 valor do topo (x) indica o evento que causa a ocorrência da transiçã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601"/>
              </a:spcBef>
              <a:buClr>
                <a:srgbClr val="3366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 valor y indica a ação que ocorre como uma conseqüência do event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838080" y="1828800"/>
            <a:ext cx="1676160" cy="761760"/>
            <a:chOff x="838080" y="1828800"/>
            <a:chExt cx="1676160" cy="761760"/>
          </a:xfrm>
        </p:grpSpPr>
        <p:sp>
          <p:nvSpPr>
            <p:cNvPr id="602" name=""/>
            <p:cNvSpPr/>
            <p:nvPr/>
          </p:nvSpPr>
          <p:spPr>
            <a:xfrm>
              <a:off x="910800" y="1879560"/>
              <a:ext cx="1603440" cy="711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838080" y="1828800"/>
              <a:ext cx="1603440" cy="71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914400" y="35812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373400" y="2743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990720" y="3124080"/>
            <a:ext cx="1143000" cy="0"/>
          </a:xfrm>
          <a:prstGeom prst="line">
            <a:avLst/>
          </a:prstGeom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281240" y="30481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Marcelo Turine - UN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5AB9-A4A2-4C36-A5F3-906146D796A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83059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Modelo de Análise Estruturada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1143000" y="1600200"/>
            <a:ext cx="6781680" cy="4724280"/>
            <a:chOff x="1143000" y="1600200"/>
            <a:chExt cx="6781680" cy="4724280"/>
          </a:xfrm>
        </p:grpSpPr>
        <p:sp>
          <p:nvSpPr>
            <p:cNvPr id="610" name=""/>
            <p:cNvSpPr/>
            <p:nvPr/>
          </p:nvSpPr>
          <p:spPr>
            <a:xfrm>
              <a:off x="1143000" y="1600200"/>
              <a:ext cx="6781680" cy="4724280"/>
            </a:xfrm>
            <a:prstGeom prst="ellipse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286000" y="2514600"/>
              <a:ext cx="4572000" cy="281952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648320" y="1600200"/>
              <a:ext cx="0" cy="1828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1676520" y="4343400"/>
              <a:ext cx="2209680" cy="914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334120" y="3124080"/>
              <a:ext cx="1614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iagrama d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Flux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      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e Da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590920" y="3581280"/>
              <a:ext cx="1371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iagram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E-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581280" y="3352680"/>
              <a:ext cx="2057400" cy="11430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033080" y="3581280"/>
              <a:ext cx="1145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icionário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 Da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964680" y="4572000"/>
              <a:ext cx="1953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iagrama 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ransição de Esta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410080" y="4267080"/>
              <a:ext cx="2210040" cy="762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105520" y="1981080"/>
              <a:ext cx="2286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Especificaçã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e Processo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             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(PSPE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752480" y="2133720"/>
              <a:ext cx="2286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        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escrição 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   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Objet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e Da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505320" y="5410080"/>
              <a:ext cx="2590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99"/>
                  </a:solidFill>
                  <a:latin typeface="Times New Roman"/>
                </a:rPr>
                <a:t>Especificação de Contro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99"/>
                  </a:solidFill>
                  <a:latin typeface="Times New Roman"/>
                </a:rPr>
                <a:t>                 </a:t>
              </a:r>
              <a:r>
                <a:rPr b="1" lang="en-US" sz="1600" spc="-1" strike="noStrike">
                  <a:solidFill>
                    <a:srgbClr val="ffff99"/>
                  </a:solidFill>
                  <a:latin typeface="Times New Roman"/>
                </a:rPr>
                <a:t>(CSPE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Marcelo Turine - UN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3FC4-5903-4BF5-8CD8-C9987DAF5B1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37720" y="342720"/>
            <a:ext cx="8077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Especificação de Controle </a:t>
            </a:r>
            <a:br>
              <a:rPr sz="4400"/>
            </a:b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                                       (CSPEC)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66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as em tempo re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3366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ssam tanto informações orientadas a controle quanto dado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3366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sões para a notação básica da Análise Estruturada desenvolvidas p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3366cc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rd e Mellor (198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3366cc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tley e Pirbhai (198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Marcelo Turine - UN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7CA8-A24A-4761-BE03-F25FA87F80C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Extensões para Sistemas em Tempo Real - 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Ward e Mellor 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3366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omodam as seguintes demand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3366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cc"/>
                </a:solidFill>
                <a:latin typeface="Times New Roman"/>
              </a:rPr>
              <a:t>fluxo de informaçã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que é obtido ou produzido em uma base de tempo contínu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3366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cc"/>
                </a:solidFill>
                <a:latin typeface="Times New Roman"/>
              </a:rPr>
              <a:t>informações de contro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que transitam pelo sistema e o processamento de controle associa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3366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cc"/>
                </a:solidFill>
                <a:latin typeface="Times New Roman"/>
              </a:rPr>
              <a:t>instâncias múltiplas da mesma transformaçã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s quais são algumas vezes encontradas em situações multitaref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3366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cc"/>
                </a:solidFill>
                <a:latin typeface="Times New Roman"/>
              </a:rPr>
              <a:t>estados do sistem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 o </a:t>
            </a:r>
            <a:r>
              <a:rPr b="0" lang="en-US" sz="2800" spc="-1" strike="noStrike">
                <a:solidFill>
                  <a:srgbClr val="3366cc"/>
                </a:solidFill>
                <a:latin typeface="Times New Roman"/>
              </a:rPr>
              <a:t>mecanism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que causa transição entre os estado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Marcelo Turine - UN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09D0-028F-48C5-9A69-617FC156EF0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83059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Extensões para Sistemas em Tempo Real - 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Ward e Mellor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(cont.)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990720" y="1600200"/>
            <a:ext cx="7823520" cy="642600"/>
            <a:chOff x="990720" y="1600200"/>
            <a:chExt cx="7823520" cy="642600"/>
          </a:xfrm>
        </p:grpSpPr>
        <p:grpSp>
          <p:nvGrpSpPr>
            <p:cNvPr id="629" name=""/>
            <p:cNvGrpSpPr/>
            <p:nvPr/>
          </p:nvGrpSpPr>
          <p:grpSpPr>
            <a:xfrm>
              <a:off x="990720" y="1752480"/>
              <a:ext cx="1218960" cy="380880"/>
              <a:chOff x="990720" y="1752480"/>
              <a:chExt cx="1218960" cy="380880"/>
            </a:xfrm>
          </p:grpSpPr>
          <p:sp>
            <p:nvSpPr>
              <p:cNvPr id="630" name=""/>
              <p:cNvSpPr/>
              <p:nvPr/>
            </p:nvSpPr>
            <p:spPr>
              <a:xfrm flipV="1">
                <a:off x="990720" y="1752480"/>
                <a:ext cx="121896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V="1">
                <a:off x="990720" y="1781640"/>
                <a:ext cx="1066680" cy="351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2" name=""/>
            <p:cNvSpPr/>
            <p:nvPr/>
          </p:nvSpPr>
          <p:spPr>
            <a:xfrm>
              <a:off x="2209680" y="1600200"/>
              <a:ext cx="660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cc"/>
                  </a:solidFill>
                  <a:latin typeface="Times New Roman"/>
                </a:rPr>
                <a:t>Fluxo de dados quase contínuo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: um objeto de dados que é entra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u saída de um processo em uma base “contínua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914400" y="2286000"/>
            <a:ext cx="7772400" cy="1219320"/>
            <a:chOff x="914400" y="2286000"/>
            <a:chExt cx="7772400" cy="1219320"/>
          </a:xfrm>
        </p:grpSpPr>
        <p:grpSp>
          <p:nvGrpSpPr>
            <p:cNvPr id="634" name=""/>
            <p:cNvGrpSpPr/>
            <p:nvPr/>
          </p:nvGrpSpPr>
          <p:grpSpPr>
            <a:xfrm>
              <a:off x="914400" y="2286000"/>
              <a:ext cx="1295280" cy="1219320"/>
              <a:chOff x="914400" y="2286000"/>
              <a:chExt cx="1295280" cy="1219320"/>
            </a:xfrm>
          </p:grpSpPr>
          <p:sp>
            <p:nvSpPr>
              <p:cNvPr id="635" name=""/>
              <p:cNvSpPr/>
              <p:nvPr/>
            </p:nvSpPr>
            <p:spPr>
              <a:xfrm>
                <a:off x="990720" y="2362320"/>
                <a:ext cx="1218960" cy="1143000"/>
              </a:xfrm>
              <a:prstGeom prst="ellipse">
                <a:avLst/>
              </a:prstGeom>
              <a:solidFill>
                <a:srgbClr val="000000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914400" y="2286000"/>
                <a:ext cx="1219320" cy="1143000"/>
              </a:xfrm>
              <a:prstGeom prst="ellipse">
                <a:avLst/>
              </a:prstGeom>
              <a:solidFill>
                <a:srgbClr val="ffffcc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Processo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de contro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7" name=""/>
            <p:cNvSpPr/>
            <p:nvPr/>
          </p:nvSpPr>
          <p:spPr>
            <a:xfrm>
              <a:off x="2286000" y="2438280"/>
              <a:ext cx="6400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Um transformador de controle ou “eventos”;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conhece controle como entrada e produz controle como saí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1143000" y="3581280"/>
            <a:ext cx="7706880" cy="685800"/>
            <a:chOff x="1143000" y="3581280"/>
            <a:chExt cx="7706880" cy="685800"/>
          </a:xfrm>
        </p:grpSpPr>
        <p:sp>
          <p:nvSpPr>
            <p:cNvPr id="639" name=""/>
            <p:cNvSpPr/>
            <p:nvPr/>
          </p:nvSpPr>
          <p:spPr>
            <a:xfrm flipV="1">
              <a:off x="1143000" y="3809880"/>
              <a:ext cx="1066680" cy="4572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282040" y="3581280"/>
              <a:ext cx="6567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cc"/>
                  </a:solidFill>
                  <a:latin typeface="Times New Roman"/>
                </a:rPr>
                <a:t>Item de controle ou evento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: aceita um valor discreto ou booleano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 seta indica a direção do fluxo de dad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1" name=""/>
          <p:cNvGrpSpPr/>
          <p:nvPr/>
        </p:nvGrpSpPr>
        <p:grpSpPr>
          <a:xfrm>
            <a:off x="1066680" y="5410080"/>
            <a:ext cx="7594560" cy="1219320"/>
            <a:chOff x="1066680" y="5410080"/>
            <a:chExt cx="7594560" cy="1219320"/>
          </a:xfrm>
        </p:grpSpPr>
        <p:grpSp>
          <p:nvGrpSpPr>
            <p:cNvPr id="642" name=""/>
            <p:cNvGrpSpPr/>
            <p:nvPr/>
          </p:nvGrpSpPr>
          <p:grpSpPr>
            <a:xfrm>
              <a:off x="1066680" y="5410080"/>
              <a:ext cx="1295640" cy="1219320"/>
              <a:chOff x="1066680" y="5410080"/>
              <a:chExt cx="1295640" cy="1219320"/>
            </a:xfrm>
          </p:grpSpPr>
          <p:sp>
            <p:nvSpPr>
              <p:cNvPr id="643" name=""/>
              <p:cNvSpPr/>
              <p:nvPr/>
            </p:nvSpPr>
            <p:spPr>
              <a:xfrm>
                <a:off x="1143000" y="5486400"/>
                <a:ext cx="1219320" cy="1143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066680" y="5410080"/>
                <a:ext cx="1219320" cy="11430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Processo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5" name=""/>
            <p:cNvSpPr/>
            <p:nvPr/>
          </p:nvSpPr>
          <p:spPr>
            <a:xfrm>
              <a:off x="2514600" y="5486400"/>
              <a:ext cx="6146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nstâncias múltiplas equivalentes do mesmo processo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Usado quando múltiplos processos são criados em um sistema multitaref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914400" y="4572000"/>
            <a:ext cx="7696080" cy="642600"/>
            <a:chOff x="914400" y="4572000"/>
            <a:chExt cx="7696080" cy="642600"/>
          </a:xfrm>
        </p:grpSpPr>
        <p:sp>
          <p:nvSpPr>
            <p:cNvPr id="647" name=""/>
            <p:cNvSpPr/>
            <p:nvPr/>
          </p:nvSpPr>
          <p:spPr>
            <a:xfrm>
              <a:off x="2971800" y="4572000"/>
              <a:ext cx="5638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Um repositório de itens de controle que pode ser usado por um ou mais process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8" name=""/>
            <p:cNvGrpSpPr/>
            <p:nvPr/>
          </p:nvGrpSpPr>
          <p:grpSpPr>
            <a:xfrm>
              <a:off x="914400" y="4572000"/>
              <a:ext cx="1828800" cy="609480"/>
              <a:chOff x="914400" y="4572000"/>
              <a:chExt cx="1828800" cy="609480"/>
            </a:xfrm>
          </p:grpSpPr>
          <p:grpSp>
            <p:nvGrpSpPr>
              <p:cNvPr id="649" name=""/>
              <p:cNvGrpSpPr/>
              <p:nvPr/>
            </p:nvGrpSpPr>
            <p:grpSpPr>
              <a:xfrm>
                <a:off x="914400" y="4572000"/>
                <a:ext cx="1828800" cy="609480"/>
                <a:chOff x="914400" y="4572000"/>
                <a:chExt cx="1828800" cy="609480"/>
              </a:xfrm>
            </p:grpSpPr>
            <p:sp>
              <p:nvSpPr>
                <p:cNvPr id="650" name=""/>
                <p:cNvSpPr/>
                <p:nvPr/>
              </p:nvSpPr>
              <p:spPr>
                <a:xfrm>
                  <a:off x="990720" y="4648320"/>
                  <a:ext cx="1752480" cy="5331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914400" y="4572000"/>
                  <a:ext cx="1752480" cy="5335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Depósito d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control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2" name=""/>
              <p:cNvSpPr/>
              <p:nvPr/>
            </p:nvSpPr>
            <p:spPr>
              <a:xfrm>
                <a:off x="914400" y="4572000"/>
                <a:ext cx="152280" cy="53352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Marcelo Turine - UN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61F6-1927-4558-8755-6AC4889C010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83059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Extensões para Sistemas em Tempo Real - 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Ward e Mellor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(cont.)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990720" y="1523880"/>
            <a:ext cx="7899480" cy="4005000"/>
            <a:chOff x="990720" y="1523880"/>
            <a:chExt cx="7899480" cy="4005000"/>
          </a:xfrm>
        </p:grpSpPr>
        <p:grpSp>
          <p:nvGrpSpPr>
            <p:cNvPr id="655" name=""/>
            <p:cNvGrpSpPr/>
            <p:nvPr/>
          </p:nvGrpSpPr>
          <p:grpSpPr>
            <a:xfrm>
              <a:off x="990720" y="1628640"/>
              <a:ext cx="2057400" cy="736560"/>
              <a:chOff x="990720" y="1628640"/>
              <a:chExt cx="2057400" cy="736560"/>
            </a:xfrm>
          </p:grpSpPr>
          <p:sp>
            <p:nvSpPr>
              <p:cNvPr id="656" name=""/>
              <p:cNvSpPr/>
              <p:nvPr/>
            </p:nvSpPr>
            <p:spPr>
              <a:xfrm>
                <a:off x="990720" y="1733400"/>
                <a:ext cx="1062000" cy="63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1581120" y="1628640"/>
                <a:ext cx="1467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status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de cad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part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8" name=""/>
            <p:cNvGrpSpPr/>
            <p:nvPr/>
          </p:nvGrpSpPr>
          <p:grpSpPr>
            <a:xfrm>
              <a:off x="991440" y="2925720"/>
              <a:ext cx="2428200" cy="2603160"/>
              <a:chOff x="991440" y="2925720"/>
              <a:chExt cx="2428200" cy="2603160"/>
            </a:xfrm>
          </p:grpSpPr>
          <p:grpSp>
            <p:nvGrpSpPr>
              <p:cNvPr id="659" name=""/>
              <p:cNvGrpSpPr/>
              <p:nvPr/>
            </p:nvGrpSpPr>
            <p:grpSpPr>
              <a:xfrm>
                <a:off x="1444320" y="2925720"/>
                <a:ext cx="1975320" cy="647640"/>
                <a:chOff x="1444320" y="2925720"/>
                <a:chExt cx="1975320" cy="647640"/>
              </a:xfrm>
            </p:grpSpPr>
            <p:sp>
              <p:nvSpPr>
                <p:cNvPr id="660" name=""/>
                <p:cNvSpPr/>
                <p:nvPr/>
              </p:nvSpPr>
              <p:spPr>
                <a:xfrm>
                  <a:off x="2355840" y="2925720"/>
                  <a:ext cx="1063800" cy="63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1444320" y="3205080"/>
                  <a:ext cx="1458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cadeia de 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bit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2" name=""/>
              <p:cNvGrpSpPr/>
              <p:nvPr/>
            </p:nvGrpSpPr>
            <p:grpSpPr>
              <a:xfrm>
                <a:off x="991440" y="4676400"/>
                <a:ext cx="2048760" cy="852480"/>
                <a:chOff x="991440" y="4676400"/>
                <a:chExt cx="2048760" cy="852480"/>
              </a:xfrm>
            </p:grpSpPr>
            <p:sp>
              <p:nvSpPr>
                <p:cNvPr id="663" name=""/>
                <p:cNvSpPr/>
                <p:nvPr/>
              </p:nvSpPr>
              <p:spPr>
                <a:xfrm flipV="1">
                  <a:off x="2052720" y="4676400"/>
                  <a:ext cx="987480" cy="56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991440" y="4886280"/>
                  <a:ext cx="12808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comando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do operado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65" name=""/>
            <p:cNvGrpSpPr/>
            <p:nvPr/>
          </p:nvGrpSpPr>
          <p:grpSpPr>
            <a:xfrm>
              <a:off x="7365960" y="3556080"/>
              <a:ext cx="1524240" cy="972720"/>
              <a:chOff x="7365960" y="3556080"/>
              <a:chExt cx="1524240" cy="972720"/>
            </a:xfrm>
          </p:grpSpPr>
          <p:sp>
            <p:nvSpPr>
              <p:cNvPr id="666" name=""/>
              <p:cNvSpPr/>
              <p:nvPr/>
            </p:nvSpPr>
            <p:spPr>
              <a:xfrm>
                <a:off x="7619760" y="3886200"/>
                <a:ext cx="1270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comando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de posição 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V="1">
                <a:off x="7365960" y="3556080"/>
                <a:ext cx="909720" cy="49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8" name=""/>
            <p:cNvGrpSpPr/>
            <p:nvPr/>
          </p:nvGrpSpPr>
          <p:grpSpPr>
            <a:xfrm>
              <a:off x="6489720" y="1523880"/>
              <a:ext cx="1894680" cy="662040"/>
              <a:chOff x="6489720" y="1523880"/>
              <a:chExt cx="1894680" cy="662040"/>
            </a:xfrm>
          </p:grpSpPr>
          <p:sp>
            <p:nvSpPr>
              <p:cNvPr id="669" name=""/>
              <p:cNvSpPr/>
              <p:nvPr/>
            </p:nvSpPr>
            <p:spPr>
              <a:xfrm flipV="1">
                <a:off x="6489720" y="1836720"/>
                <a:ext cx="531720" cy="34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6985800" y="1523880"/>
                <a:ext cx="1398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alarme d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movimento 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1" name=""/>
          <p:cNvGrpSpPr/>
          <p:nvPr/>
        </p:nvGrpSpPr>
        <p:grpSpPr>
          <a:xfrm>
            <a:off x="6302520" y="3135240"/>
            <a:ext cx="1295640" cy="770040"/>
            <a:chOff x="6302520" y="3135240"/>
            <a:chExt cx="1295640" cy="770040"/>
          </a:xfrm>
        </p:grpSpPr>
        <p:sp>
          <p:nvSpPr>
            <p:cNvPr id="672" name=""/>
            <p:cNvSpPr/>
            <p:nvPr/>
          </p:nvSpPr>
          <p:spPr>
            <a:xfrm>
              <a:off x="6302520" y="3274920"/>
              <a:ext cx="152280" cy="630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378120" y="3135240"/>
              <a:ext cx="1220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tivação 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ocess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3644280" y="2714760"/>
            <a:ext cx="4737600" cy="3109320"/>
            <a:chOff x="3644280" y="2714760"/>
            <a:chExt cx="4737600" cy="3109320"/>
          </a:xfrm>
        </p:grpSpPr>
        <p:grpSp>
          <p:nvGrpSpPr>
            <p:cNvPr id="675" name=""/>
            <p:cNvGrpSpPr/>
            <p:nvPr/>
          </p:nvGrpSpPr>
          <p:grpSpPr>
            <a:xfrm>
              <a:off x="4557600" y="4885920"/>
              <a:ext cx="3824280" cy="938160"/>
              <a:chOff x="4557600" y="4885920"/>
              <a:chExt cx="3824280" cy="938160"/>
            </a:xfrm>
          </p:grpSpPr>
          <p:sp>
            <p:nvSpPr>
              <p:cNvPr id="676" name=""/>
              <p:cNvSpPr/>
              <p:nvPr/>
            </p:nvSpPr>
            <p:spPr>
              <a:xfrm>
                <a:off x="5638680" y="5181480"/>
                <a:ext cx="2743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registro d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movimentos do robô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V="1">
                <a:off x="4557600" y="4885920"/>
                <a:ext cx="1744920" cy="42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3644280" y="2714760"/>
              <a:ext cx="2431080" cy="2325240"/>
              <a:chOff x="3644280" y="2714760"/>
              <a:chExt cx="2431080" cy="2325240"/>
            </a:xfrm>
          </p:grpSpPr>
          <p:grpSp>
            <p:nvGrpSpPr>
              <p:cNvPr id="679" name=""/>
              <p:cNvGrpSpPr/>
              <p:nvPr/>
            </p:nvGrpSpPr>
            <p:grpSpPr>
              <a:xfrm>
                <a:off x="3644280" y="2714760"/>
                <a:ext cx="1823040" cy="1120320"/>
                <a:chOff x="3644280" y="2714760"/>
                <a:chExt cx="1823040" cy="1120320"/>
              </a:xfrm>
            </p:grpSpPr>
            <p:sp>
              <p:nvSpPr>
                <p:cNvPr id="680" name=""/>
                <p:cNvSpPr/>
                <p:nvPr/>
              </p:nvSpPr>
              <p:spPr>
                <a:xfrm flipV="1">
                  <a:off x="4102200" y="2995200"/>
                  <a:ext cx="1365120" cy="839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3644280" y="2714760"/>
                  <a:ext cx="13604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flag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iniciar/para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2" name=""/>
              <p:cNvGrpSpPr/>
              <p:nvPr/>
            </p:nvGrpSpPr>
            <p:grpSpPr>
              <a:xfrm>
                <a:off x="4254480" y="4116240"/>
                <a:ext cx="1820880" cy="923760"/>
                <a:chOff x="4254480" y="4116240"/>
                <a:chExt cx="1820880" cy="923760"/>
              </a:xfrm>
            </p:grpSpPr>
            <p:sp>
              <p:nvSpPr>
                <p:cNvPr id="683" name=""/>
                <p:cNvSpPr/>
                <p:nvPr/>
              </p:nvSpPr>
              <p:spPr>
                <a:xfrm>
                  <a:off x="4254480" y="4116240"/>
                  <a:ext cx="1820880" cy="420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4329720" y="4397400"/>
                  <a:ext cx="14655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configuraçõ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do operador 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85" name=""/>
          <p:cNvSpPr/>
          <p:nvPr/>
        </p:nvSpPr>
        <p:spPr>
          <a:xfrm>
            <a:off x="457200" y="60958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emplo: visão do fluxo de controle e de dados para u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élula de fabric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990720" y="2014560"/>
            <a:ext cx="6602040" cy="3852360"/>
            <a:chOff x="990720" y="2014560"/>
            <a:chExt cx="6602040" cy="3852360"/>
          </a:xfrm>
        </p:grpSpPr>
        <p:grpSp>
          <p:nvGrpSpPr>
            <p:cNvPr id="687" name=""/>
            <p:cNvGrpSpPr/>
            <p:nvPr/>
          </p:nvGrpSpPr>
          <p:grpSpPr>
            <a:xfrm>
              <a:off x="1066680" y="2014560"/>
              <a:ext cx="6526080" cy="3852360"/>
              <a:chOff x="1066680" y="2014560"/>
              <a:chExt cx="6526080" cy="3852360"/>
            </a:xfrm>
          </p:grpSpPr>
          <p:grpSp>
            <p:nvGrpSpPr>
              <p:cNvPr id="688" name=""/>
              <p:cNvGrpSpPr/>
              <p:nvPr/>
            </p:nvGrpSpPr>
            <p:grpSpPr>
              <a:xfrm>
                <a:off x="2811600" y="3556080"/>
                <a:ext cx="1517040" cy="1329840"/>
                <a:chOff x="2811600" y="3556080"/>
                <a:chExt cx="1517040" cy="1329840"/>
              </a:xfrm>
            </p:grpSpPr>
            <p:sp>
              <p:nvSpPr>
                <p:cNvPr id="689" name=""/>
                <p:cNvSpPr/>
                <p:nvPr/>
              </p:nvSpPr>
              <p:spPr>
                <a:xfrm>
                  <a:off x="2900880" y="3639240"/>
                  <a:ext cx="1427760" cy="12466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2811600" y="3556080"/>
                  <a:ext cx="1427760" cy="1246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Monitora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partes &amp;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interface d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operado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" name=""/>
              <p:cNvGrpSpPr/>
              <p:nvPr/>
            </p:nvGrpSpPr>
            <p:grpSpPr>
              <a:xfrm>
                <a:off x="1066680" y="2365200"/>
                <a:ext cx="1820520" cy="560160"/>
                <a:chOff x="1066680" y="2365200"/>
                <a:chExt cx="1820520" cy="56016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1142640" y="2435040"/>
                  <a:ext cx="1744560" cy="490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1066680" y="2365200"/>
                  <a:ext cx="1744560" cy="49068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Buffer 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do </a:t>
                  </a: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status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de cada part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4" name=""/>
              <p:cNvGrpSpPr/>
              <p:nvPr/>
            </p:nvGrpSpPr>
            <p:grpSpPr>
              <a:xfrm>
                <a:off x="5316480" y="2014560"/>
                <a:ext cx="1440720" cy="1260000"/>
                <a:chOff x="5316480" y="2014560"/>
                <a:chExt cx="1440720" cy="1260000"/>
              </a:xfrm>
            </p:grpSpPr>
            <p:sp>
              <p:nvSpPr>
                <p:cNvPr id="695" name=""/>
                <p:cNvSpPr/>
                <p:nvPr/>
              </p:nvSpPr>
              <p:spPr>
                <a:xfrm>
                  <a:off x="5401080" y="2093400"/>
                  <a:ext cx="1356120" cy="1181160"/>
                </a:xfrm>
                <a:prstGeom prst="ellipse">
                  <a:avLst/>
                </a:prstGeom>
                <a:solidFill>
                  <a:srgbClr val="000000"/>
                </a:solidFill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316480" y="2014560"/>
                  <a:ext cx="1356840" cy="1181160"/>
                </a:xfrm>
                <a:prstGeom prst="ellipse">
                  <a:avLst/>
                </a:prstGeom>
                <a:solidFill>
                  <a:srgbClr val="ffffcc"/>
                </a:solidFill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Control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inicializaçã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do robô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7" name=""/>
              <p:cNvGrpSpPr/>
              <p:nvPr/>
            </p:nvGrpSpPr>
            <p:grpSpPr>
              <a:xfrm>
                <a:off x="3722760" y="5307120"/>
                <a:ext cx="1820520" cy="559800"/>
                <a:chOff x="3722760" y="5307120"/>
                <a:chExt cx="1820520" cy="55980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3798720" y="5376960"/>
                  <a:ext cx="1744560" cy="489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3722760" y="5307120"/>
                  <a:ext cx="1744560" cy="4903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arquivo de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comandos do robô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0" name=""/>
              <p:cNvGrpSpPr/>
              <p:nvPr/>
            </p:nvGrpSpPr>
            <p:grpSpPr>
              <a:xfrm>
                <a:off x="6075360" y="3835440"/>
                <a:ext cx="1517400" cy="1261800"/>
                <a:chOff x="6075360" y="3835440"/>
                <a:chExt cx="1517400" cy="1261800"/>
              </a:xfrm>
            </p:grpSpPr>
            <p:sp>
              <p:nvSpPr>
                <p:cNvPr id="701" name=""/>
                <p:cNvSpPr/>
                <p:nvPr/>
              </p:nvSpPr>
              <p:spPr>
                <a:xfrm>
                  <a:off x="6164640" y="3914280"/>
                  <a:ext cx="1428120" cy="1182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6075360" y="3835440"/>
                  <a:ext cx="1428120" cy="118296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Processa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comandos d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robô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03" name=""/>
            <p:cNvSpPr/>
            <p:nvPr/>
          </p:nvSpPr>
          <p:spPr>
            <a:xfrm>
              <a:off x="3657600" y="5315040"/>
              <a:ext cx="171360" cy="4953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990720" y="2362320"/>
              <a:ext cx="152280" cy="4572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Marcelo Turine - UN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9848-A07F-4212-B182-CFBE8015A8A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83059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Extensões para Sistemas em Tempo Real - 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Hatley e Pirbhai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(cont.)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219320" y="3003480"/>
            <a:ext cx="7278840" cy="1191240"/>
            <a:chOff x="1219320" y="3003480"/>
            <a:chExt cx="7278840" cy="1191240"/>
          </a:xfrm>
        </p:grpSpPr>
        <p:sp>
          <p:nvSpPr>
            <p:cNvPr id="707" name=""/>
            <p:cNvSpPr/>
            <p:nvPr/>
          </p:nvSpPr>
          <p:spPr>
            <a:xfrm flipV="1">
              <a:off x="1219320" y="3384360"/>
              <a:ext cx="1066680" cy="4572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587320" y="3003480"/>
              <a:ext cx="5910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66cc"/>
                  </a:solidFill>
                  <a:latin typeface="Times New Roman"/>
                </a:rPr>
                <a:t>Item de controle ou evento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 aceita um valo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iscreto ou booleano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 seta indica a direção do fluxo de dad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1066680" y="4406760"/>
            <a:ext cx="8083080" cy="1922760"/>
            <a:chOff x="1066680" y="4406760"/>
            <a:chExt cx="8083080" cy="1922760"/>
          </a:xfrm>
        </p:grpSpPr>
        <p:grpSp>
          <p:nvGrpSpPr>
            <p:cNvPr id="710" name=""/>
            <p:cNvGrpSpPr/>
            <p:nvPr/>
          </p:nvGrpSpPr>
          <p:grpSpPr>
            <a:xfrm>
              <a:off x="1066680" y="5016600"/>
              <a:ext cx="1066680" cy="609480"/>
              <a:chOff x="1066680" y="5016600"/>
              <a:chExt cx="1066680" cy="609480"/>
            </a:xfrm>
          </p:grpSpPr>
          <p:sp>
            <p:nvSpPr>
              <p:cNvPr id="711" name=""/>
              <p:cNvSpPr/>
              <p:nvPr/>
            </p:nvSpPr>
            <p:spPr>
              <a:xfrm>
                <a:off x="1599840" y="501660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66680" y="5016600"/>
                <a:ext cx="53316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599840" y="5168880"/>
                <a:ext cx="533520" cy="304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4" name=""/>
            <p:cNvSpPr/>
            <p:nvPr/>
          </p:nvSpPr>
          <p:spPr>
            <a:xfrm>
              <a:off x="2536200" y="4406760"/>
              <a:ext cx="661356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1" lang="en-US" sz="2400" spc="-1" strike="noStrike">
                  <a:solidFill>
                    <a:srgbClr val="a50021"/>
                  </a:solidFill>
                  <a:latin typeface="Times New Roman"/>
                </a:rPr>
                <a:t>barra vertica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é uma referência à Especificaçã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e Controle (CSPEC) que descreve o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mportamento de um sistema e define como 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cessos são ativados como uma conseqüênci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e event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5" name=""/>
          <p:cNvSpPr/>
          <p:nvPr/>
        </p:nvSpPr>
        <p:spPr>
          <a:xfrm>
            <a:off x="970200" y="1717560"/>
            <a:ext cx="80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66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caliza menos a criação de símbolos gráficos adicionais 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is a representação e especificação de aspectos de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ientados a contro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295280" y="1905120"/>
            <a:ext cx="6858000" cy="2514600"/>
          </a:xfrm>
          <a:prstGeom prst="wedgeEllipseCallout">
            <a:avLst>
              <a:gd name="adj1" fmla="val -45000"/>
              <a:gd name="adj2" fmla="val 79101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rra sólid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de ser visualiza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o uma “janela” que controla os process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unções) representados no DFD baseado 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o que é passado p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médio da “janela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Marcelo Turine - UN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C005-CE4B-431F-BC70-B532437B2AB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83059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Extensões para Sistemas em Tempo Real - 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Hatley e Pirbhai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(cont.)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gere a definição de um Diagrama de Fluxo de Controle (DFC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FC =&gt; contém os mesmos processos como um DFD, mas o fluxo de controle é mostrado antes que o fluxo de dado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Marcelo Turine - UN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EA38-D852-49AE-B007-EC75E060E73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img00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Marcelo Turine - UNI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364D-EECF-4E3F-A7FB-412F7907685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83059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Especificação de Controle </a:t>
            </a:r>
            <a:br>
              <a:rPr sz="4400"/>
            </a:b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(CSPEC) 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(cont.)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62120" y="2057400"/>
            <a:ext cx="7772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ica </a:t>
            </a:r>
            <a:r>
              <a:rPr b="0" lang="en-US" sz="3200" spc="-1" strike="noStrike">
                <a:solidFill>
                  <a:srgbClr val="3366cc"/>
                </a:solidFill>
                <a:latin typeface="Times New Roman"/>
              </a:rPr>
              <a:t>como o software se compor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quando um evento ou sinal de controle é reconhecid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ica </a:t>
            </a:r>
            <a:r>
              <a:rPr b="0" lang="en-US" sz="3200" spc="-1" strike="noStrike">
                <a:solidFill>
                  <a:srgbClr val="3366cc"/>
                </a:solidFill>
                <a:latin typeface="Times New Roman"/>
              </a:rPr>
              <a:t>quais processos são invocad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o uma conseqüência da ocorrência do event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Marcelo Turine - UN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F97E-66AA-44A7-9689-B115E6245C9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837720" y="342720"/>
            <a:ext cx="8077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Relacionamento entre Modelo de Processo e Modelo de Controle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grpSp>
        <p:nvGrpSpPr>
          <p:cNvPr id="723" name=""/>
          <p:cNvGrpSpPr/>
          <p:nvPr/>
        </p:nvGrpSpPr>
        <p:grpSpPr>
          <a:xfrm>
            <a:off x="3481560" y="1752480"/>
            <a:ext cx="1852560" cy="2286000"/>
            <a:chOff x="3481560" y="1752480"/>
            <a:chExt cx="1852560" cy="2286000"/>
          </a:xfrm>
        </p:grpSpPr>
        <p:sp>
          <p:nvSpPr>
            <p:cNvPr id="724" name=""/>
            <p:cNvSpPr/>
            <p:nvPr/>
          </p:nvSpPr>
          <p:spPr>
            <a:xfrm>
              <a:off x="3581280" y="1828800"/>
              <a:ext cx="1752840" cy="2209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481560" y="1752480"/>
              <a:ext cx="1752480" cy="221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862440" y="2438280"/>
              <a:ext cx="1050840" cy="4651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F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862440" y="3276720"/>
              <a:ext cx="1050840" cy="4651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SPEC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V="1">
              <a:off x="4167360" y="2895120"/>
              <a:ext cx="1440" cy="40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624560" y="2895480"/>
              <a:ext cx="1440" cy="40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656880" y="1752480"/>
              <a:ext cx="1320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odelo 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rocess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3505320" y="4114800"/>
            <a:ext cx="1852560" cy="2286000"/>
            <a:chOff x="3505320" y="4114800"/>
            <a:chExt cx="1852560" cy="2286000"/>
          </a:xfrm>
        </p:grpSpPr>
        <p:sp>
          <p:nvSpPr>
            <p:cNvPr id="732" name=""/>
            <p:cNvSpPr/>
            <p:nvPr/>
          </p:nvSpPr>
          <p:spPr>
            <a:xfrm>
              <a:off x="3605040" y="4191120"/>
              <a:ext cx="1752840" cy="2209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505320" y="4114800"/>
              <a:ext cx="1752480" cy="22096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886200" y="4800600"/>
              <a:ext cx="1050840" cy="4651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F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886200" y="5638680"/>
              <a:ext cx="1050840" cy="4651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SPEC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4191120" y="5257440"/>
              <a:ext cx="1440" cy="40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648320" y="5257800"/>
              <a:ext cx="1440" cy="40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680640" y="4114800"/>
              <a:ext cx="1320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odelo 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ntro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9" name=""/>
          <p:cNvGrpSpPr/>
          <p:nvPr/>
        </p:nvGrpSpPr>
        <p:grpSpPr>
          <a:xfrm>
            <a:off x="1659600" y="2819520"/>
            <a:ext cx="2226600" cy="2133360"/>
            <a:chOff x="1659600" y="2819520"/>
            <a:chExt cx="2226600" cy="2133360"/>
          </a:xfrm>
        </p:grpSpPr>
        <p:sp>
          <p:nvSpPr>
            <p:cNvPr id="740" name=""/>
            <p:cNvSpPr/>
            <p:nvPr/>
          </p:nvSpPr>
          <p:spPr>
            <a:xfrm>
              <a:off x="2362320" y="281952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286000" y="28195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>
              <a:off x="2285640" y="49528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659600" y="3554280"/>
              <a:ext cx="1448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tivador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o process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286000" y="43434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5" name=""/>
          <p:cNvGrpSpPr/>
          <p:nvPr/>
        </p:nvGrpSpPr>
        <p:grpSpPr>
          <a:xfrm>
            <a:off x="4876920" y="3505320"/>
            <a:ext cx="2342160" cy="2209680"/>
            <a:chOff x="4876920" y="3505320"/>
            <a:chExt cx="2342160" cy="2209680"/>
          </a:xfrm>
        </p:grpSpPr>
        <p:sp>
          <p:nvSpPr>
            <p:cNvPr id="746" name=""/>
            <p:cNvSpPr/>
            <p:nvPr/>
          </p:nvSpPr>
          <p:spPr>
            <a:xfrm>
              <a:off x="6248520" y="350532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876920" y="35053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4952520" y="5715000"/>
              <a:ext cx="1295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672880" y="4114800"/>
              <a:ext cx="1546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ndições 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ad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248520" y="48006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1828800" y="1905120"/>
            <a:ext cx="2057400" cy="1008720"/>
            <a:chOff x="1828800" y="1905120"/>
            <a:chExt cx="2057400" cy="1008720"/>
          </a:xfrm>
        </p:grpSpPr>
        <p:sp>
          <p:nvSpPr>
            <p:cNvPr id="752" name=""/>
            <p:cNvSpPr/>
            <p:nvPr/>
          </p:nvSpPr>
          <p:spPr>
            <a:xfrm>
              <a:off x="1828800" y="259092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151720" y="1905120"/>
              <a:ext cx="12657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ntra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e dado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4" name=""/>
          <p:cNvGrpSpPr/>
          <p:nvPr/>
        </p:nvGrpSpPr>
        <p:grpSpPr>
          <a:xfrm>
            <a:off x="4876920" y="1905120"/>
            <a:ext cx="2133360" cy="761760"/>
            <a:chOff x="4876920" y="1905120"/>
            <a:chExt cx="2133360" cy="761760"/>
          </a:xfrm>
        </p:grpSpPr>
        <p:sp>
          <p:nvSpPr>
            <p:cNvPr id="755" name=""/>
            <p:cNvSpPr/>
            <p:nvPr/>
          </p:nvSpPr>
          <p:spPr>
            <a:xfrm>
              <a:off x="4876920" y="266688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529960" y="1905120"/>
              <a:ext cx="1201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aí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e dado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4952520" y="5943600"/>
            <a:ext cx="2972160" cy="398880"/>
            <a:chOff x="4952520" y="5943600"/>
            <a:chExt cx="2972160" cy="398880"/>
          </a:xfrm>
        </p:grpSpPr>
        <p:sp>
          <p:nvSpPr>
            <p:cNvPr id="758" name=""/>
            <p:cNvSpPr/>
            <p:nvPr/>
          </p:nvSpPr>
          <p:spPr>
            <a:xfrm flipH="1">
              <a:off x="4952520" y="594360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562720" y="594360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ntrada de contro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0" name=""/>
          <p:cNvGrpSpPr/>
          <p:nvPr/>
        </p:nvGrpSpPr>
        <p:grpSpPr>
          <a:xfrm>
            <a:off x="1295280" y="5943600"/>
            <a:ext cx="2590560" cy="398880"/>
            <a:chOff x="1295280" y="5943600"/>
            <a:chExt cx="2590560" cy="398880"/>
          </a:xfrm>
        </p:grpSpPr>
        <p:sp>
          <p:nvSpPr>
            <p:cNvPr id="761" name=""/>
            <p:cNvSpPr/>
            <p:nvPr/>
          </p:nvSpPr>
          <p:spPr>
            <a:xfrm>
              <a:off x="1295280" y="5943600"/>
              <a:ext cx="236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aída de contro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1752120" y="594360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2133720" y="1523880"/>
            <a:ext cx="6553080" cy="1981440"/>
          </a:xfrm>
          <a:prstGeom prst="cloudCallout">
            <a:avLst>
              <a:gd name="adj1" fmla="val 13370"/>
              <a:gd name="adj2" fmla="val 76921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correm sempre que a </a:t>
            </a:r>
            <a:r>
              <a:rPr b="1" i="1" lang="en-US" sz="2400" spc="-1" strike="noStrike">
                <a:solidFill>
                  <a:srgbClr val="3366cc"/>
                </a:solidFill>
                <a:latin typeface="Times New Roman"/>
              </a:rPr>
              <a:t>entrada de d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a um processo resulta em u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cc"/>
                </a:solidFill>
                <a:latin typeface="Times New Roman"/>
              </a:rPr>
              <a:t>saída de contro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Marcelo Turine - UN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306B-21B0-4076-840D-A46ABD8AE0B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83059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ondições de Dados </a:t>
            </a:r>
            <a:br>
              <a:rPr sz="44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emplo: parte de um modelo de fluxo para um sistema de controle e monitoramento automatizado de recepientes de pressão em uma refinaria de óleo.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grpSp>
        <p:nvGrpSpPr>
          <p:cNvPr id="765" name=""/>
          <p:cNvGrpSpPr/>
          <p:nvPr/>
        </p:nvGrpSpPr>
        <p:grpSpPr>
          <a:xfrm>
            <a:off x="4572000" y="2362320"/>
            <a:ext cx="4296960" cy="2743200"/>
            <a:chOff x="4572000" y="2362320"/>
            <a:chExt cx="4296960" cy="2743200"/>
          </a:xfrm>
        </p:grpSpPr>
        <p:grpSp>
          <p:nvGrpSpPr>
            <p:cNvPr id="766" name=""/>
            <p:cNvGrpSpPr/>
            <p:nvPr/>
          </p:nvGrpSpPr>
          <p:grpSpPr>
            <a:xfrm>
              <a:off x="6019560" y="2972160"/>
              <a:ext cx="1440720" cy="1260000"/>
              <a:chOff x="6019560" y="2972160"/>
              <a:chExt cx="1440720" cy="1260000"/>
            </a:xfrm>
          </p:grpSpPr>
          <p:sp>
            <p:nvSpPr>
              <p:cNvPr id="767" name=""/>
              <p:cNvSpPr/>
              <p:nvPr/>
            </p:nvSpPr>
            <p:spPr>
              <a:xfrm>
                <a:off x="6104160" y="3051000"/>
                <a:ext cx="1356120" cy="11811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6019560" y="2972160"/>
                <a:ext cx="1356840" cy="11811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checa 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conver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pressã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9" name=""/>
            <p:cNvSpPr/>
            <p:nvPr/>
          </p:nvSpPr>
          <p:spPr>
            <a:xfrm>
              <a:off x="6987960" y="4266000"/>
              <a:ext cx="403200" cy="5349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162200" y="4038840"/>
              <a:ext cx="137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essão alta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572000" y="2362320"/>
              <a:ext cx="429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66cc"/>
                  </a:solidFill>
                  <a:latin typeface="Times New Roman"/>
                </a:rPr>
                <a:t>Diagrama de Fluxo de Contro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391160" y="44960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3" name=""/>
          <p:cNvGrpSpPr/>
          <p:nvPr/>
        </p:nvGrpSpPr>
        <p:grpSpPr>
          <a:xfrm>
            <a:off x="914040" y="1600200"/>
            <a:ext cx="6096240" cy="5045040"/>
            <a:chOff x="914040" y="1600200"/>
            <a:chExt cx="6096240" cy="5045040"/>
          </a:xfrm>
        </p:grpSpPr>
        <p:sp>
          <p:nvSpPr>
            <p:cNvPr id="774" name=""/>
            <p:cNvSpPr/>
            <p:nvPr/>
          </p:nvSpPr>
          <p:spPr>
            <a:xfrm>
              <a:off x="916200" y="1600200"/>
              <a:ext cx="395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66cc"/>
                  </a:solidFill>
                  <a:latin typeface="Times New Roman"/>
                </a:rPr>
                <a:t>Diagrama de Fluxo de Dad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5" name=""/>
            <p:cNvGrpSpPr/>
            <p:nvPr/>
          </p:nvGrpSpPr>
          <p:grpSpPr>
            <a:xfrm>
              <a:off x="2255760" y="3098880"/>
              <a:ext cx="1336320" cy="1107720"/>
              <a:chOff x="2255760" y="3098880"/>
              <a:chExt cx="1336320" cy="1107720"/>
            </a:xfrm>
          </p:grpSpPr>
          <p:sp>
            <p:nvSpPr>
              <p:cNvPr id="776" name=""/>
              <p:cNvSpPr/>
              <p:nvPr/>
            </p:nvSpPr>
            <p:spPr>
              <a:xfrm>
                <a:off x="2334240" y="3168000"/>
                <a:ext cx="1257840" cy="103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2255760" y="3098880"/>
                <a:ext cx="1257840" cy="10386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8" name=""/>
            <p:cNvSpPr/>
            <p:nvPr/>
          </p:nvSpPr>
          <p:spPr>
            <a:xfrm>
              <a:off x="1719360" y="2844720"/>
              <a:ext cx="738000" cy="44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914760" y="2336760"/>
              <a:ext cx="1688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essão absolu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o tanq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1587600" y="4032360"/>
              <a:ext cx="869760" cy="46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914040" y="4494240"/>
              <a:ext cx="1035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essã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áxima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>
              <a:off x="3392640" y="2895120"/>
              <a:ext cx="645840" cy="43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429000" y="2286000"/>
              <a:ext cx="1414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essã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nverti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441160" y="3276720"/>
              <a:ext cx="924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heca 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nver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ressã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38280" y="4724280"/>
              <a:ext cx="4496040" cy="19051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438280" y="4038480"/>
              <a:ext cx="4496040" cy="685800"/>
            </a:xfrm>
            <a:prstGeom prst="triangle">
              <a:avLst>
                <a:gd name="adj" fmla="val 1704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438280" y="502920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592360" y="4738680"/>
              <a:ext cx="90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SPE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422440" y="5091120"/>
              <a:ext cx="441792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ressão absoluta do tanq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&gt;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ressão máxim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ntão setar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ressão alta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ra “verdadeiro”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não setar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ressão alta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ra “falso”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iciar o algoritmo de conversão x-01a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mputar a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ressão convertid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im-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Marcelo Turine - UN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51F4-CE64-4025-A284-F9C7D8C278F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83059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Especificação de Controle </a:t>
            </a:r>
            <a:br>
              <a:rPr sz="4400"/>
            </a:b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(CSPEC) 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(cont.)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3366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é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99"/>
              </a:spcBef>
              <a:buClr>
                <a:srgbClr val="3366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m 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Diagrama de Transição-Estado (DT-E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que é uma especificação seqüencial de comportament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99"/>
              </a:spcBef>
              <a:buClr>
                <a:srgbClr val="3366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ma 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Tabela de Ativação de Process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(TAP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que é uma especificação combinatória de comportamento (usada para indicar quais processos são ativados por um dado evento que flui por intermédio da barra vertical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Marcelo Turine - UN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CC72-B2BC-44FC-82CB-2C10EA56A15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"/>
          <p:cNvGrpSpPr/>
          <p:nvPr/>
        </p:nvGrpSpPr>
        <p:grpSpPr>
          <a:xfrm>
            <a:off x="1143000" y="1600200"/>
            <a:ext cx="6781680" cy="4724280"/>
            <a:chOff x="1143000" y="1600200"/>
            <a:chExt cx="6781680" cy="4724280"/>
          </a:xfrm>
        </p:grpSpPr>
        <p:sp>
          <p:nvSpPr>
            <p:cNvPr id="793" name=""/>
            <p:cNvSpPr/>
            <p:nvPr/>
          </p:nvSpPr>
          <p:spPr>
            <a:xfrm>
              <a:off x="1143000" y="1600200"/>
              <a:ext cx="6781680" cy="4724280"/>
            </a:xfrm>
            <a:prstGeom prst="ellipse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2514600"/>
              <a:ext cx="4572000" cy="281952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648320" y="1600200"/>
              <a:ext cx="0" cy="1828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1676520" y="4343400"/>
              <a:ext cx="2209680" cy="914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334120" y="3124080"/>
              <a:ext cx="1614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iagrama d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Flux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      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e Da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590920" y="3581280"/>
              <a:ext cx="1371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iagram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E-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581280" y="3352680"/>
              <a:ext cx="2057400" cy="11430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033080" y="3581280"/>
              <a:ext cx="1145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icionário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 Da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964680" y="4572000"/>
              <a:ext cx="1953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iagrama 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ransição de Esta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410080" y="4267080"/>
              <a:ext cx="2210040" cy="762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105520" y="1981080"/>
              <a:ext cx="2286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Especificaçã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e Processo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             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(PSPE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752480" y="2133720"/>
              <a:ext cx="2286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        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escrição 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   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Objet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e Da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505320" y="5410080"/>
              <a:ext cx="2590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Especificação de Contro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            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(CSPE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6" name=""/>
          <p:cNvSpPr/>
          <p:nvPr/>
        </p:nvSpPr>
        <p:spPr>
          <a:xfrm>
            <a:off x="1828800" y="3048120"/>
            <a:ext cx="5410080" cy="2286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Dicionário de Dados (D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sitório que contém </a:t>
            </a:r>
            <a:r>
              <a:rPr b="1" lang="en-US" sz="2400" spc="-1" strike="noStrike">
                <a:solidFill>
                  <a:srgbClr val="3366cc"/>
                </a:solidFill>
                <a:latin typeface="Times New Roman"/>
              </a:rPr>
              <a:t>descriçõ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 todos os </a:t>
            </a:r>
            <a:r>
              <a:rPr b="1" lang="en-US" sz="2400" spc="-1" strike="noStrike">
                <a:solidFill>
                  <a:srgbClr val="3366cc"/>
                </a:solidFill>
                <a:latin typeface="Times New Roman"/>
              </a:rPr>
              <a:t>objetos de dado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umidos ou produzid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lo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83059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Modelo de Análise Estruturada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Marcelo Turine - UN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320B-3FB3-4896-AAFD-9D024435F65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 Narrow"/>
              </a:rPr>
              <a:t>Dicionário de Dados (DD)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posto como gramática quase formal para descrever o conteúdo de objetos definidos durante a análise estruturada; geralmente implementado como parte de uma "ferramenta de projeto e análise estruturada"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901"/>
              </a:spcBef>
              <a:spcAft>
                <a:spcPts val="300"/>
              </a:spcAft>
              <a:buClr>
                <a:srgbClr val="3366cc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66cc"/>
                </a:solidFill>
                <a:latin typeface="Times New Roman"/>
              </a:rPr>
              <a:t>Nome</a:t>
            </a:r>
            <a:r>
              <a:rPr b="1" lang="en-US" sz="2000" spc="-1" strike="noStrike">
                <a:solidFill>
                  <a:srgbClr val="3366cc"/>
                </a:solidFill>
                <a:latin typeface="Times New Roman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o nome principal do item de dados, do depósito de dados ou de uma entidade externa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901"/>
              </a:spcBef>
              <a:spcAft>
                <a:spcPts val="300"/>
              </a:spcAft>
              <a:buClr>
                <a:srgbClr val="3366cc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66cc"/>
                </a:solidFill>
                <a:latin typeface="Times New Roman"/>
              </a:rPr>
              <a:t>Alias</a:t>
            </a:r>
            <a:r>
              <a:rPr b="1" lang="en-US" sz="2000" spc="-1" strike="noStrike">
                <a:solidFill>
                  <a:srgbClr val="3366cc"/>
                </a:solidFill>
                <a:latin typeface="Times New Roman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outros nomes usados para a primeira ent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901"/>
              </a:spcBef>
              <a:spcAft>
                <a:spcPts val="300"/>
              </a:spcAft>
              <a:buClr>
                <a:srgbClr val="3366cc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66cc"/>
                </a:solidFill>
                <a:latin typeface="Times New Roman"/>
              </a:rPr>
              <a:t>Onde é usado / Como é usad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 listagem dos processos que usam o item de dados ou controle e como ele é usado. Ex: entrada ao processo, saída do processo, como um depósito de dados, como uma entidade exte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901"/>
              </a:spcBef>
              <a:spcAft>
                <a:spcPts val="300"/>
              </a:spcAft>
              <a:buClr>
                <a:srgbClr val="3366cc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66cc"/>
                </a:solidFill>
                <a:latin typeface="Times New Roman"/>
              </a:rPr>
              <a:t>Descrição de Conteúdo</a:t>
            </a:r>
            <a:r>
              <a:rPr b="1" lang="en-US" sz="2000" spc="-1" strike="noStrike">
                <a:solidFill>
                  <a:srgbClr val="3366cc"/>
                </a:solidFill>
                <a:latin typeface="Times New Roman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notação para representar o conteú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901"/>
              </a:spcBef>
              <a:spcAft>
                <a:spcPts val="300"/>
              </a:spcAft>
              <a:buClr>
                <a:srgbClr val="3366cc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66cc"/>
                </a:solidFill>
                <a:latin typeface="Times New Roman"/>
              </a:rPr>
              <a:t>Informação Complementar</a:t>
            </a:r>
            <a:r>
              <a:rPr b="1" lang="en-US" sz="2000" spc="-1" strike="noStrike">
                <a:solidFill>
                  <a:srgbClr val="3366cc"/>
                </a:solidFill>
                <a:latin typeface="Times New Roman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outras informações sobre tipos de dados, valores previamente estabelecidos (se conhecidos), restrições ou limitaçõ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Marcelo Turine - UN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A41A-FC07-48A7-A165-434F012120C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 Narrow"/>
              </a:rPr>
              <a:t>Notação para Descrição de Conteúdo</a:t>
            </a:r>
            <a:endParaRPr b="0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66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sibilita a representação 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ados compost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uma das 3 formas fundamentais em que eles podem ser construíd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 Como um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eqüênci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itens de d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 Como um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eleçã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tre um conjunto de itens de d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- Como um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grupame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petido de itens de d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da entrada de item de dados que é representada como parte de uma 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</a:rPr>
              <a:t>seqüênc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</a:rPr>
              <a:t>seleção</a:t>
            </a: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</a:t>
            </a:r>
            <a:r>
              <a:rPr b="0" i="1" lang="en-US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</a:rPr>
              <a:t>repetiçã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de, em si mesma, ser outro item de dados composto que precisa de refinamento adicional dentro do dicionár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Marcelo Turine - UN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26CC-324B-496D-9D7C-FCA1A1BC92C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83059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 Narrow"/>
              </a:rPr>
              <a:t>Notação para Descrição de Conteúdo </a:t>
            </a: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Arial Narrow"/>
              </a:rPr>
              <a:t>                   </a:t>
            </a:r>
            <a:r>
              <a:rPr b="1" lang="en-US" sz="4000" spc="-1" strike="noStrike">
                <a:solidFill>
                  <a:srgbClr val="a50021"/>
                </a:solidFill>
                <a:latin typeface="Arial Narrow"/>
              </a:rPr>
              <a:t>	</a:t>
            </a:r>
            <a:r>
              <a:rPr b="1" lang="en-US" sz="4000" spc="-1" strike="noStrike">
                <a:solidFill>
                  <a:srgbClr val="a50021"/>
                </a:solidFill>
                <a:latin typeface="Arial Narrow"/>
              </a:rPr>
              <a:t>	</a:t>
            </a:r>
            <a:r>
              <a:rPr b="1" lang="en-US" sz="4000" spc="-1" strike="noStrike">
                <a:solidFill>
                  <a:srgbClr val="a50021"/>
                </a:solidFill>
                <a:latin typeface="Arial Narrow"/>
              </a:rPr>
              <a:t>	</a:t>
            </a:r>
            <a:r>
              <a:rPr b="1" lang="en-US" sz="4000" spc="-1" strike="noStrike">
                <a:solidFill>
                  <a:srgbClr val="a50021"/>
                </a:solidFill>
                <a:latin typeface="Arial Narrow"/>
              </a:rPr>
              <a:t>	</a:t>
            </a:r>
            <a:r>
              <a:rPr b="1" lang="en-US" sz="4000" spc="-1" strike="noStrike">
                <a:solidFill>
                  <a:srgbClr val="a50021"/>
                </a:solidFill>
                <a:latin typeface="Arial Narrow"/>
              </a:rPr>
              <a:t>	</a:t>
            </a:r>
            <a:r>
              <a:rPr b="1" lang="en-US" sz="4000" spc="-1" strike="noStrike">
                <a:solidFill>
                  <a:srgbClr val="a50021"/>
                </a:solidFill>
                <a:latin typeface="Arial Narrow"/>
              </a:rPr>
              <a:t>(cont.)</a:t>
            </a:r>
            <a:endParaRPr b="0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813" name=""/>
          <p:cNvGraphicFramePr/>
          <p:nvPr/>
        </p:nvGraphicFramePr>
        <p:xfrm>
          <a:off x="863640" y="2595600"/>
          <a:ext cx="7797600" cy="3274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63640" y="2595600"/>
                    <a:ext cx="7797600" cy="32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15" name=""/>
          <p:cNvGrpSpPr/>
          <p:nvPr/>
        </p:nvGrpSpPr>
        <p:grpSpPr>
          <a:xfrm>
            <a:off x="1218960" y="2590920"/>
            <a:ext cx="7467840" cy="2666880"/>
            <a:chOff x="1218960" y="2590920"/>
            <a:chExt cx="7467840" cy="2666880"/>
          </a:xfrm>
        </p:grpSpPr>
        <p:sp>
          <p:nvSpPr>
            <p:cNvPr id="816" name=""/>
            <p:cNvSpPr/>
            <p:nvPr/>
          </p:nvSpPr>
          <p:spPr>
            <a:xfrm>
              <a:off x="1219320" y="3886200"/>
              <a:ext cx="746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219320" y="3505320"/>
              <a:ext cx="746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8686800" y="2590920"/>
              <a:ext cx="0" cy="266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>
              <a:off x="1218960" y="5257800"/>
              <a:ext cx="746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Marcelo Turine - UN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3D60-D4B7-4DDC-9059-211FA14F4AF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emplo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tem de dado </a:t>
            </a:r>
            <a:r>
              <a:rPr b="0" i="1" lang="en-US" sz="3200" spc="-1" strike="noStrike">
                <a:solidFill>
                  <a:srgbClr val="990000"/>
                </a:solidFill>
                <a:latin typeface="Times New Roman"/>
              </a:rPr>
              <a:t>NRO TELEFÔNICO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821" name=""/>
          <p:cNvGraphicFramePr/>
          <p:nvPr/>
        </p:nvGraphicFramePr>
        <p:xfrm>
          <a:off x="380880" y="990720"/>
          <a:ext cx="8274240" cy="6119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990720"/>
                    <a:ext cx="8274240" cy="61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Marcelo Turine - UN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679D-9839-4198-BF65-C369E3FBF552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 Narrow"/>
              </a:rPr>
              <a:t>Descrição de Conteúdo</a:t>
            </a:r>
            <a:endParaRPr b="0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762120" y="2437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é ampliada 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(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té que todos os itens de dados compostos tenham sido representados como itens elementares ou 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(2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té que todos os itens compostos sejam representados em termos conhecidos e inequívo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Marcelo Turine - UN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708F-7E21-4ED2-8247-0FB3009BF46D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1143000" y="1600200"/>
            <a:ext cx="6781680" cy="4724280"/>
            <a:chOff x="1143000" y="1600200"/>
            <a:chExt cx="6781680" cy="4724280"/>
          </a:xfrm>
        </p:grpSpPr>
        <p:sp>
          <p:nvSpPr>
            <p:cNvPr id="115" name=""/>
            <p:cNvSpPr/>
            <p:nvPr/>
          </p:nvSpPr>
          <p:spPr>
            <a:xfrm>
              <a:off x="1143000" y="1600200"/>
              <a:ext cx="6781680" cy="4724280"/>
            </a:xfrm>
            <a:prstGeom prst="ellipse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286000" y="2514600"/>
              <a:ext cx="4572000" cy="281952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648320" y="1600200"/>
              <a:ext cx="0" cy="1828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1676520" y="4343400"/>
              <a:ext cx="2209680" cy="914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334120" y="3124080"/>
              <a:ext cx="1614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iagrama d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Flux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      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e Da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90920" y="3581280"/>
              <a:ext cx="1371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iagram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E-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581280" y="3352680"/>
              <a:ext cx="2057400" cy="11430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033080" y="3581280"/>
              <a:ext cx="1145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icionário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 Da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964680" y="4572000"/>
              <a:ext cx="1953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iagrama 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ransição de Esta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10080" y="4267080"/>
              <a:ext cx="2210040" cy="762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105520" y="1981080"/>
              <a:ext cx="2286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Especificaçã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e Processo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             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(PSPE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752480" y="2133720"/>
              <a:ext cx="2286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        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escrição 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   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Objet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e Da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505320" y="5410080"/>
              <a:ext cx="2590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Especificação de Contro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            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(CSPE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457200" y="1981080"/>
            <a:ext cx="6781680" cy="3124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Diagrama Entidade-Relacionamento (DE-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screve relacionamentos entre objetos de dado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duz à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modelagem de dado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ributos de cada objeto =&gt; </a:t>
            </a:r>
            <a:r>
              <a:rPr b="1" lang="en-US" sz="2400" spc="-1" strike="noStrike">
                <a:solidFill>
                  <a:srgbClr val="3366cc"/>
                </a:solidFill>
                <a:latin typeface="Times New Roman"/>
              </a:rPr>
              <a:t>Descri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Times New Roman"/>
              </a:rPr>
              <a:t>                                                  </a:t>
            </a:r>
            <a:r>
              <a:rPr b="1" lang="en-US" sz="2400" spc="-1" strike="noStrike">
                <a:solidFill>
                  <a:srgbClr val="3366cc"/>
                </a:solidFill>
                <a:latin typeface="Times New Roman"/>
              </a:rPr>
              <a:t>de Objetos de Dado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83059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Modelo de Análise Estruturada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Marcelo Turine - UN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D712-56A4-4B0D-A5EC-3E0912C8F1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a50021"/>
                </a:solidFill>
                <a:latin typeface="Arial Narrow"/>
              </a:rPr>
              <a:t>Exemplo: </a:t>
            </a:r>
            <a:r>
              <a:rPr b="1" i="1" lang="pt-BR" sz="4400" spc="-1" strike="noStrike">
                <a:solidFill>
                  <a:srgbClr val="a50021"/>
                </a:solidFill>
                <a:latin typeface="Arial Narrow"/>
              </a:rPr>
              <a:t>SAFEHOME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a50021"/>
                </a:solidFill>
                <a:latin typeface="Arial Narrow"/>
              </a:rPr>
              <a:t>Processamento Narrativo</a:t>
            </a:r>
            <a:r>
              <a:rPr b="1" lang="pt-BR" sz="4400" spc="-1" strike="noStrike">
                <a:solidFill>
                  <a:srgbClr val="000000"/>
                </a:solidFill>
                <a:latin typeface="Arial Narrow"/>
              </a:rPr>
              <a:t> (safehome)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ware possibilita que o dono da casa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66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gure o sistema de segurança quando ele for instal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66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itore todos os sensores ligados ao sistema de seguranç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66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ja com o sistema através de um teclado e teclas de função contidas no painel de contr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Marcelo Turine - UN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9A62-3330-4CC3-8195-F64A9438409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a50021"/>
                </a:solidFill>
                <a:latin typeface="Arial Narrow"/>
              </a:rPr>
              <a:t>Safehome </a:t>
            </a:r>
            <a:r>
              <a:rPr b="1" lang="pt-BR" sz="4000" spc="-1" strike="noStrike">
                <a:solidFill>
                  <a:srgbClr val="a50021"/>
                </a:solidFill>
                <a:latin typeface="Arial Narrow"/>
              </a:rPr>
              <a:t>(painel de controle)</a:t>
            </a:r>
            <a:endParaRPr b="0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830" name=""/>
          <p:cNvGraphicFramePr/>
          <p:nvPr/>
        </p:nvGraphicFramePr>
        <p:xfrm>
          <a:off x="4060800" y="1371600"/>
          <a:ext cx="5083200" cy="5105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60800" y="1371600"/>
                    <a:ext cx="508320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2" name=""/>
          <p:cNvSpPr/>
          <p:nvPr/>
        </p:nvSpPr>
        <p:spPr>
          <a:xfrm>
            <a:off x="914400" y="1600200"/>
            <a:ext cx="297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urante a instalaçã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 painel de controle é usado para programar e configurar o sist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Marcelo Turine - UN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4DEF-CBC2-448A-AD91-B45CBA4223D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a50021"/>
                </a:solidFill>
                <a:latin typeface="Arial Narrow"/>
              </a:rPr>
              <a:t>Processamento Narrativo (cont.)</a:t>
            </a:r>
            <a:br>
              <a:rPr sz="4400"/>
            </a:br>
            <a:r>
              <a:rPr b="1" lang="pt-BR" sz="4400" spc="-1" strike="noStrike">
                <a:solidFill>
                  <a:srgbClr val="000000"/>
                </a:solidFill>
                <a:latin typeface="Arial Narrow"/>
              </a:rPr>
              <a:t>(safehome)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3366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cada sensor é atribuído um número e tipo, uma senha de gerente para armar e desarmar o sistema, e número(s) de telefone (entrada para discagem quando o evento sensor ocorre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3366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uando o evento sensor é reconhecido, o software invoca um alarme; depois de um tempo de espera que é especificado pelo dono da casa durante a configuração do sistema, o software disca um nr de telefone de um serviço de monitoramento, produz informação sobre a localização e relata a natureza do evento que foi detectado. O nr será discado novamente a cada 20 segundos até que a conexão de telefone é obtid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3366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da interação com o SafeHome é gerenciada por um subsistema de interação-usuário que lê a entrada produzida pelo teclado ou teclas de função, edita mensagens de pronto 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do sistema sobre um LC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Marcelo Turine - UN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D53E-D751-4CDB-B308-966AC7AFAADE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/>
          <p:nvPr/>
        </p:nvSpPr>
        <p:spPr>
          <a:xfrm>
            <a:off x="609480" y="1676520"/>
            <a:ext cx="4191120" cy="2590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DER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38862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isas” relevantes no sistem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66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ono da cas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66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inel de contro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66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nsor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66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stema de seguranç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66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iço de monitoramen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8" name=""/>
          <p:cNvGrpSpPr/>
          <p:nvPr/>
        </p:nvGrpSpPr>
        <p:grpSpPr>
          <a:xfrm>
            <a:off x="4648320" y="3886200"/>
            <a:ext cx="4190760" cy="2590920"/>
            <a:chOff x="4648320" y="3886200"/>
            <a:chExt cx="4190760" cy="2590920"/>
          </a:xfrm>
        </p:grpSpPr>
        <p:sp>
          <p:nvSpPr>
            <p:cNvPr id="839" name=""/>
            <p:cNvSpPr/>
            <p:nvPr/>
          </p:nvSpPr>
          <p:spPr>
            <a:xfrm>
              <a:off x="4648320" y="3886200"/>
              <a:ext cx="4190760" cy="25909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876920" y="3962520"/>
              <a:ext cx="388620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spcBef>
                  <a:spcPts val="499"/>
                </a:spcBef>
                <a:buClr>
                  <a:srgbClr val="3366cc"/>
                </a:buClr>
                <a:buSzPct val="75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lações são exploradas entre essas “coisas”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499"/>
                </a:spcBef>
                <a:buClr>
                  <a:srgbClr val="3366cc"/>
                </a:buClr>
                <a:buSzPct val="75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uma vez que as relações são definidas, um ou mais pares de objeto-relacionamento são identificados para cada relação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Marcelo Turine - UN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BC70-AB00-47E6-A8D1-C4249D0264B6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DER (cont.)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685440" y="3962520"/>
            <a:ext cx="807732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3000"/>
          </a:bodyPr>
          <a:p>
            <a:pPr marL="250200" indent="-250200">
              <a:spcBef>
                <a:spcPts val="601"/>
              </a:spcBef>
              <a:buClr>
                <a:srgbClr val="3366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ção entre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sensor e sistema de seguranç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pares objeto-relacionamento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spcBef>
                <a:spcPts val="601"/>
              </a:spcBef>
              <a:buClr>
                <a:srgbClr val="3366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Times New Roman"/>
              </a:rPr>
              <a:t>sistema de seguranç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onitora </a:t>
            </a:r>
            <a:r>
              <a:rPr b="1" lang="en-US" sz="2400" spc="-1" strike="noStrike">
                <a:solidFill>
                  <a:srgbClr val="3366cc"/>
                </a:solidFill>
                <a:latin typeface="Times New Roman"/>
              </a:rPr>
              <a:t>sen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spcBef>
                <a:spcPts val="601"/>
              </a:spcBef>
              <a:buClr>
                <a:srgbClr val="3366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Times New Roman"/>
              </a:rPr>
              <a:t>sistema de seguranç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habilita/desabilita </a:t>
            </a:r>
            <a:r>
              <a:rPr b="1" lang="en-US" sz="2400" spc="-1" strike="noStrike">
                <a:solidFill>
                  <a:srgbClr val="3366cc"/>
                </a:solidFill>
                <a:latin typeface="Times New Roman"/>
              </a:rPr>
              <a:t>sen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spcBef>
                <a:spcPts val="601"/>
              </a:spcBef>
              <a:buClr>
                <a:srgbClr val="3366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Times New Roman"/>
              </a:rPr>
              <a:t>sistema de seguranç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esta </a:t>
            </a:r>
            <a:r>
              <a:rPr b="1" lang="en-US" sz="2400" spc="-1" strike="noStrike">
                <a:solidFill>
                  <a:srgbClr val="3366cc"/>
                </a:solidFill>
                <a:latin typeface="Times New Roman"/>
              </a:rPr>
              <a:t>sen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spcBef>
                <a:spcPts val="601"/>
              </a:spcBef>
              <a:buClr>
                <a:srgbClr val="3366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Times New Roman"/>
              </a:rPr>
              <a:t>sistema de seguranç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rograma </a:t>
            </a:r>
            <a:r>
              <a:rPr b="1" lang="en-US" sz="2400" spc="-1" strike="noStrike">
                <a:solidFill>
                  <a:srgbClr val="3366cc"/>
                </a:solidFill>
                <a:latin typeface="Times New Roman"/>
              </a:rPr>
              <a:t>sen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3" name=""/>
          <p:cNvGrpSpPr/>
          <p:nvPr/>
        </p:nvGrpSpPr>
        <p:grpSpPr>
          <a:xfrm>
            <a:off x="990720" y="1600200"/>
            <a:ext cx="7543800" cy="2209680"/>
            <a:chOff x="990720" y="1600200"/>
            <a:chExt cx="7543800" cy="2209680"/>
          </a:xfrm>
        </p:grpSpPr>
        <p:sp>
          <p:nvSpPr>
            <p:cNvPr id="844" name=""/>
            <p:cNvSpPr/>
            <p:nvPr/>
          </p:nvSpPr>
          <p:spPr>
            <a:xfrm>
              <a:off x="4873680" y="1820880"/>
              <a:ext cx="671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545080" y="1820880"/>
              <a:ext cx="0" cy="1271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351320" y="3368520"/>
              <a:ext cx="447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1962000" y="3368520"/>
              <a:ext cx="447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1962000" y="2760840"/>
              <a:ext cx="0" cy="60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V="1">
              <a:off x="1962000" y="1820880"/>
              <a:ext cx="0" cy="442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>
              <a:off x="1961640" y="1820880"/>
              <a:ext cx="970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454560" y="2097000"/>
              <a:ext cx="0" cy="99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454560" y="3589200"/>
              <a:ext cx="0" cy="22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454560" y="3809880"/>
              <a:ext cx="418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V="1">
              <a:off x="7637400" y="2539800"/>
              <a:ext cx="0" cy="1269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011400" y="1676520"/>
              <a:ext cx="1941480" cy="49680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932200" y="1600200"/>
              <a:ext cx="1941480" cy="49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ono da cas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066680" y="2362320"/>
              <a:ext cx="1941480" cy="49680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990720" y="2263680"/>
              <a:ext cx="1941480" cy="49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ainel d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ntro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593040" y="2133720"/>
              <a:ext cx="1941480" cy="49680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516720" y="2041560"/>
              <a:ext cx="1941480" cy="49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ens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478240" y="3160800"/>
              <a:ext cx="1941480" cy="49680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409840" y="3092400"/>
              <a:ext cx="1941480" cy="49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istema d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eguranç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876920" y="3160800"/>
              <a:ext cx="1941480" cy="49680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799160" y="3092400"/>
              <a:ext cx="1941480" cy="49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erviço 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onitoramen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5" name=""/>
          <p:cNvSpPr/>
          <p:nvPr/>
        </p:nvSpPr>
        <p:spPr>
          <a:xfrm>
            <a:off x="2133720" y="1066680"/>
            <a:ext cx="6476760" cy="2819520"/>
          </a:xfrm>
          <a:prstGeom prst="cloudCallout">
            <a:avLst>
              <a:gd name="adj1" fmla="val -41398"/>
              <a:gd name="adj2" fmla="val 7809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da par objeto-relacionamento 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alisado para determina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66cc"/>
                </a:solidFill>
                <a:latin typeface="Times New Roman"/>
              </a:rPr>
              <a:t>cardinalida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1" lang="en-US" sz="2400" spc="-1" strike="noStrike">
                <a:solidFill>
                  <a:srgbClr val="3366cc"/>
                </a:solidFill>
                <a:latin typeface="Times New Roman"/>
              </a:rPr>
              <a:t> modal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Marcelo Turine - UN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69FA-1889-4684-AE83-5F0AC53260E9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DER (cont.)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685440" y="4191120"/>
            <a:ext cx="807732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3366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da objeto é estudado para determinar seus atributo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3366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mplo: atributos do objet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ns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tipo de sensor, nr de identificação interna, zona de localização e nível de alarm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8" name=""/>
          <p:cNvGrpSpPr/>
          <p:nvPr/>
        </p:nvGrpSpPr>
        <p:grpSpPr>
          <a:xfrm>
            <a:off x="1066680" y="1523880"/>
            <a:ext cx="7086600" cy="2593440"/>
            <a:chOff x="1066680" y="1523880"/>
            <a:chExt cx="7086600" cy="2593440"/>
          </a:xfrm>
        </p:grpSpPr>
        <p:sp>
          <p:nvSpPr>
            <p:cNvPr id="869" name=""/>
            <p:cNvSpPr/>
            <p:nvPr/>
          </p:nvSpPr>
          <p:spPr>
            <a:xfrm>
              <a:off x="6019920" y="2666880"/>
              <a:ext cx="2133360" cy="9907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867280" y="2549520"/>
              <a:ext cx="2133720" cy="99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ns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200400" y="277812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200400" y="331164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V="1">
              <a:off x="2133720" y="20160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133720" y="2016000"/>
              <a:ext cx="480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34320" y="20160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133720" y="35402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133720" y="4073400"/>
              <a:ext cx="480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934320" y="35402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9" name=""/>
            <p:cNvGrpSpPr/>
            <p:nvPr/>
          </p:nvGrpSpPr>
          <p:grpSpPr>
            <a:xfrm>
              <a:off x="6781320" y="3540600"/>
              <a:ext cx="304920" cy="380520"/>
              <a:chOff x="6781320" y="3540600"/>
              <a:chExt cx="304920" cy="380520"/>
            </a:xfrm>
          </p:grpSpPr>
          <p:sp>
            <p:nvSpPr>
              <p:cNvPr id="880" name=""/>
              <p:cNvSpPr/>
              <p:nvPr/>
            </p:nvSpPr>
            <p:spPr>
              <a:xfrm rot="16200000">
                <a:off x="6852600" y="3725280"/>
                <a:ext cx="163080" cy="2286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1" name=""/>
              <p:cNvGrpSpPr/>
              <p:nvPr/>
            </p:nvGrpSpPr>
            <p:grpSpPr>
              <a:xfrm>
                <a:off x="6781320" y="3540600"/>
                <a:ext cx="304920" cy="217440"/>
                <a:chOff x="6781320" y="3540600"/>
                <a:chExt cx="304920" cy="217440"/>
              </a:xfrm>
            </p:grpSpPr>
            <p:sp>
              <p:nvSpPr>
                <p:cNvPr id="882" name=""/>
                <p:cNvSpPr/>
                <p:nvPr/>
              </p:nvSpPr>
              <p:spPr>
                <a:xfrm flipV="1">
                  <a:off x="6933960" y="3540600"/>
                  <a:ext cx="0" cy="217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 flipH="1" flipV="1">
                  <a:off x="6781320" y="3540600"/>
                  <a:ext cx="152280" cy="217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 flipV="1">
                  <a:off x="6933960" y="3540600"/>
                  <a:ext cx="152280" cy="217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85" name=""/>
            <p:cNvGrpSpPr/>
            <p:nvPr/>
          </p:nvGrpSpPr>
          <p:grpSpPr>
            <a:xfrm>
              <a:off x="5562720" y="3158640"/>
              <a:ext cx="304560" cy="305280"/>
              <a:chOff x="5562720" y="3158640"/>
              <a:chExt cx="304560" cy="305280"/>
            </a:xfrm>
          </p:grpSpPr>
          <p:grpSp>
            <p:nvGrpSpPr>
              <p:cNvPr id="886" name=""/>
              <p:cNvGrpSpPr/>
              <p:nvPr/>
            </p:nvGrpSpPr>
            <p:grpSpPr>
              <a:xfrm>
                <a:off x="5562720" y="3158640"/>
                <a:ext cx="304560" cy="304920"/>
                <a:chOff x="5562720" y="3158640"/>
                <a:chExt cx="304560" cy="304920"/>
              </a:xfrm>
            </p:grpSpPr>
            <p:sp>
              <p:nvSpPr>
                <p:cNvPr id="887" name=""/>
                <p:cNvSpPr/>
                <p:nvPr/>
              </p:nvSpPr>
              <p:spPr>
                <a:xfrm>
                  <a:off x="5562720" y="331128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 flipV="1">
                  <a:off x="5562720" y="3158640"/>
                  <a:ext cx="30456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5562720" y="3311280"/>
                  <a:ext cx="30456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90" name=""/>
              <p:cNvSpPr/>
              <p:nvPr/>
            </p:nvSpPr>
            <p:spPr>
              <a:xfrm>
                <a:off x="5562720" y="3159000"/>
                <a:ext cx="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1" name=""/>
            <p:cNvGrpSpPr/>
            <p:nvPr/>
          </p:nvGrpSpPr>
          <p:grpSpPr>
            <a:xfrm>
              <a:off x="5562720" y="2625480"/>
              <a:ext cx="304560" cy="304920"/>
              <a:chOff x="5562720" y="2625480"/>
              <a:chExt cx="304560" cy="304920"/>
            </a:xfrm>
          </p:grpSpPr>
          <p:grpSp>
            <p:nvGrpSpPr>
              <p:cNvPr id="892" name=""/>
              <p:cNvGrpSpPr/>
              <p:nvPr/>
            </p:nvGrpSpPr>
            <p:grpSpPr>
              <a:xfrm>
                <a:off x="5562720" y="2625480"/>
                <a:ext cx="304560" cy="304920"/>
                <a:chOff x="5562720" y="2625480"/>
                <a:chExt cx="304560" cy="304920"/>
              </a:xfrm>
            </p:grpSpPr>
            <p:sp>
              <p:nvSpPr>
                <p:cNvPr id="893" name=""/>
                <p:cNvSpPr/>
                <p:nvPr/>
              </p:nvSpPr>
              <p:spPr>
                <a:xfrm>
                  <a:off x="5562720" y="277812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 flipV="1">
                  <a:off x="5562720" y="2625480"/>
                  <a:ext cx="30456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5562720" y="2778120"/>
                  <a:ext cx="30456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96" name=""/>
              <p:cNvSpPr/>
              <p:nvPr/>
            </p:nvSpPr>
            <p:spPr>
              <a:xfrm>
                <a:off x="5562720" y="2625840"/>
                <a:ext cx="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7" name=""/>
            <p:cNvGrpSpPr/>
            <p:nvPr/>
          </p:nvGrpSpPr>
          <p:grpSpPr>
            <a:xfrm>
              <a:off x="6781320" y="2244600"/>
              <a:ext cx="305280" cy="304920"/>
              <a:chOff x="6781320" y="2244600"/>
              <a:chExt cx="305280" cy="304920"/>
            </a:xfrm>
          </p:grpSpPr>
          <p:grpSp>
            <p:nvGrpSpPr>
              <p:cNvPr id="898" name=""/>
              <p:cNvGrpSpPr/>
              <p:nvPr/>
            </p:nvGrpSpPr>
            <p:grpSpPr>
              <a:xfrm>
                <a:off x="6781680" y="2244600"/>
                <a:ext cx="304920" cy="304920"/>
                <a:chOff x="6781680" y="2244600"/>
                <a:chExt cx="304920" cy="304920"/>
              </a:xfrm>
            </p:grpSpPr>
            <p:sp>
              <p:nvSpPr>
                <p:cNvPr id="899" name=""/>
                <p:cNvSpPr/>
                <p:nvPr/>
              </p:nvSpPr>
              <p:spPr>
                <a:xfrm>
                  <a:off x="6933960" y="224460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6934320" y="2244600"/>
                  <a:ext cx="152280" cy="30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 flipH="1">
                  <a:off x="6781680" y="2244600"/>
                  <a:ext cx="152280" cy="30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02" name=""/>
              <p:cNvSpPr/>
              <p:nvPr/>
            </p:nvSpPr>
            <p:spPr>
              <a:xfrm flipH="1">
                <a:off x="6781320" y="224460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1980720" y="3809880"/>
              <a:ext cx="304920" cy="76320"/>
              <a:chOff x="1980720" y="3809880"/>
              <a:chExt cx="304920" cy="76320"/>
            </a:xfrm>
          </p:grpSpPr>
          <p:sp>
            <p:nvSpPr>
              <p:cNvPr id="904" name=""/>
              <p:cNvSpPr/>
              <p:nvPr/>
            </p:nvSpPr>
            <p:spPr>
              <a:xfrm flipH="1">
                <a:off x="1980720" y="380988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flipH="1">
                <a:off x="1980720" y="388620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6" name=""/>
            <p:cNvGrpSpPr/>
            <p:nvPr/>
          </p:nvGrpSpPr>
          <p:grpSpPr>
            <a:xfrm>
              <a:off x="3429000" y="3159000"/>
              <a:ext cx="76320" cy="304920"/>
              <a:chOff x="3429000" y="3159000"/>
              <a:chExt cx="76320" cy="304920"/>
            </a:xfrm>
          </p:grpSpPr>
          <p:sp>
            <p:nvSpPr>
              <p:cNvPr id="907" name=""/>
              <p:cNvSpPr/>
              <p:nvPr/>
            </p:nvSpPr>
            <p:spPr>
              <a:xfrm>
                <a:off x="3429000" y="3159000"/>
                <a:ext cx="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505320" y="3159000"/>
                <a:ext cx="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9" name=""/>
            <p:cNvGrpSpPr/>
            <p:nvPr/>
          </p:nvGrpSpPr>
          <p:grpSpPr>
            <a:xfrm>
              <a:off x="3429000" y="2625840"/>
              <a:ext cx="76320" cy="304560"/>
              <a:chOff x="3429000" y="2625840"/>
              <a:chExt cx="76320" cy="304560"/>
            </a:xfrm>
          </p:grpSpPr>
          <p:sp>
            <p:nvSpPr>
              <p:cNvPr id="910" name=""/>
              <p:cNvSpPr/>
              <p:nvPr/>
            </p:nvSpPr>
            <p:spPr>
              <a:xfrm>
                <a:off x="3429000" y="2625840"/>
                <a:ext cx="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505320" y="2625840"/>
                <a:ext cx="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2" name=""/>
            <p:cNvGrpSpPr/>
            <p:nvPr/>
          </p:nvGrpSpPr>
          <p:grpSpPr>
            <a:xfrm>
              <a:off x="1980720" y="2397240"/>
              <a:ext cx="304920" cy="75960"/>
              <a:chOff x="1980720" y="2397240"/>
              <a:chExt cx="304920" cy="75960"/>
            </a:xfrm>
          </p:grpSpPr>
          <p:sp>
            <p:nvSpPr>
              <p:cNvPr id="913" name=""/>
              <p:cNvSpPr/>
              <p:nvPr/>
            </p:nvSpPr>
            <p:spPr>
              <a:xfrm flipH="1">
                <a:off x="1980720" y="239724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 flipH="1">
                <a:off x="1980720" y="247320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5" name=""/>
            <p:cNvSpPr/>
            <p:nvPr/>
          </p:nvSpPr>
          <p:spPr>
            <a:xfrm>
              <a:off x="3564720" y="1523880"/>
              <a:ext cx="128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onito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581280" y="2397240"/>
              <a:ext cx="199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abilita/desabili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962520" y="2930400"/>
              <a:ext cx="74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es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718080" y="3657600"/>
              <a:ext cx="135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gram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219320" y="2666880"/>
              <a:ext cx="2133360" cy="9907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066680" y="2549520"/>
              <a:ext cx="2133720" cy="99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istema 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guranç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Marcelo Turine - UN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474F-725D-4847-B12D-575CB82FD728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"/>
          <p:cNvSpPr/>
          <p:nvPr/>
        </p:nvSpPr>
        <p:spPr>
          <a:xfrm>
            <a:off x="3657600" y="3276720"/>
            <a:ext cx="1752480" cy="1523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 Narrow"/>
              </a:rPr>
              <a:t>DFD 0  - nível de contexto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581280" y="3200400"/>
            <a:ext cx="1752840" cy="15238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4" name=""/>
          <p:cNvGrpSpPr/>
          <p:nvPr/>
        </p:nvGrpSpPr>
        <p:grpSpPr>
          <a:xfrm>
            <a:off x="1219320" y="2286000"/>
            <a:ext cx="3733560" cy="2971800"/>
            <a:chOff x="1219320" y="2286000"/>
            <a:chExt cx="3733560" cy="2971800"/>
          </a:xfrm>
        </p:grpSpPr>
        <p:sp>
          <p:nvSpPr>
            <p:cNvPr id="925" name=""/>
            <p:cNvSpPr/>
            <p:nvPr/>
          </p:nvSpPr>
          <p:spPr>
            <a:xfrm>
              <a:off x="1371600" y="2362320"/>
              <a:ext cx="1295280" cy="91440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295280" y="4343400"/>
              <a:ext cx="1295640" cy="91440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295280" y="2286000"/>
              <a:ext cx="129564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219320" y="4267080"/>
              <a:ext cx="12952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447920" y="2438280"/>
              <a:ext cx="2057400" cy="7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Painel 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contro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295280" y="457200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Sensor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895480" y="236232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comandos e dados do usuári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514600" y="480060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00"/>
                  </a:solidFill>
                  <a:latin typeface="Arial Narrow"/>
                </a:rPr>
                <a:t>status</a:t>
              </a:r>
              <a:r>
                <a:rPr b="1" lang="pt-BR" sz="2000" spc="-1" strike="noStrike">
                  <a:solidFill>
                    <a:srgbClr val="000000"/>
                  </a:solidFill>
                  <a:latin typeface="Arial Narrow"/>
                </a:rPr>
                <a:t> do sensor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590920" y="2666880"/>
              <a:ext cx="11430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flipV="1">
              <a:off x="2514600" y="4343040"/>
              <a:ext cx="12193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5" name=""/>
          <p:cNvSpPr/>
          <p:nvPr/>
        </p:nvSpPr>
        <p:spPr>
          <a:xfrm>
            <a:off x="3886200" y="35053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Software </a:t>
            </a:r>
            <a:r>
              <a:rPr b="1" i="1" lang="pt-BR" sz="2400" spc="-1" strike="noStrike">
                <a:solidFill>
                  <a:srgbClr val="000000"/>
                </a:solidFill>
                <a:latin typeface="Arial Narrow"/>
              </a:rPr>
              <a:t>safe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6" name=""/>
          <p:cNvGrpSpPr/>
          <p:nvPr/>
        </p:nvGrpSpPr>
        <p:grpSpPr>
          <a:xfrm>
            <a:off x="4800600" y="1981080"/>
            <a:ext cx="4343400" cy="3886200"/>
            <a:chOff x="4800600" y="1981080"/>
            <a:chExt cx="4343400" cy="3886200"/>
          </a:xfrm>
        </p:grpSpPr>
        <p:sp>
          <p:nvSpPr>
            <p:cNvPr id="937" name=""/>
            <p:cNvSpPr/>
            <p:nvPr/>
          </p:nvSpPr>
          <p:spPr>
            <a:xfrm>
              <a:off x="6705720" y="4952880"/>
              <a:ext cx="1295280" cy="91440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086600" y="3505320"/>
              <a:ext cx="1295280" cy="91440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934320" y="2133720"/>
              <a:ext cx="1371600" cy="9903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629400" y="4876920"/>
              <a:ext cx="12952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010280" y="3429000"/>
              <a:ext cx="129564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781680" y="1981080"/>
              <a:ext cx="1447920" cy="106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334120" y="365760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tipo de alarm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800600" y="236232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pt-BR" sz="2000" spc="-1" strike="noStrike">
                  <a:solidFill>
                    <a:srgbClr val="000000"/>
                  </a:solidFill>
                  <a:latin typeface="Arial Narrow"/>
                </a:rPr>
                <a:t>informações de displa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876920" y="464832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 Narrow"/>
                </a:rPr>
                <a:t>nro.telefôni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 flipV="1">
              <a:off x="5029200" y="2438280"/>
              <a:ext cx="16765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334120" y="403848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257800" y="4419720"/>
              <a:ext cx="12952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858000" y="1981080"/>
              <a:ext cx="1600200" cy="110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 Narrow"/>
                </a:rPr>
                <a:t>Display d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 Narrow"/>
                </a:rPr>
                <a:t>Painel 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pt-BR" sz="2000" spc="-1" strike="noStrike">
                  <a:solidFill>
                    <a:srgbClr val="000000"/>
                  </a:solidFill>
                  <a:latin typeface="Arial Narrow"/>
                </a:rPr>
                <a:t>contro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086600" y="365760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Alar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629400" y="4952880"/>
              <a:ext cx="20574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Linh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telefôn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Marcelo Turine - UN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C308-ADD8-4E17-B44C-B734D1D74403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 Narrow"/>
              </a:rPr>
              <a:t>Abordagem de Expansão do DF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Times New Roman"/>
              </a:rPr>
              <a:t>Efetuar uma "análise gramatical" sobre a narrativa de processamento que descreve a bolh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solar nomes e locuções nominais, verbos e locuções verb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nomes e verbos que são sinônimos ou que não tem nenhuma relação com o processo de modelagem são omit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odos os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verb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são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cess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ou seja, em última análise, eles são representados como bolhas num DFD subsequ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Marcelo Turine - UN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B591-6C3B-4090-87E4-9C594E7BCB20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83059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 Narrow"/>
              </a:rPr>
              <a:t>Abordagem de Expansão do DFD (cont.)</a:t>
            </a:r>
            <a:endParaRPr b="0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os o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m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ã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idades extern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ens de dad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 contro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pósitos de d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m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b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dem estar ligados uns aos outros. Por conseguinte, ao se realizar uma análise gramatical, pode-se gerar muitas informações úteis sobre como prosseguir com o refinamento até o próximo ní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Marcelo Turine - UN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BAB8-5BC5-4A53-BF7C-C8E142A1F189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838080" y="1371600"/>
            <a:ext cx="7772400" cy="3276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Modelagem de Dados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ais são os </a:t>
            </a:r>
            <a:r>
              <a:rPr b="1" lang="en-US" sz="2400" spc="-1" strike="noStrike">
                <a:solidFill>
                  <a:srgbClr val="3366cc"/>
                </a:solidFill>
                <a:latin typeface="Times New Roman"/>
              </a:rPr>
              <a:t>objetos de dado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 serem processados pelo sistem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al é a </a:t>
            </a:r>
            <a:r>
              <a:rPr b="1" lang="en-US" sz="2400" spc="-1" strike="noStrike">
                <a:solidFill>
                  <a:srgbClr val="3366cc"/>
                </a:solidFill>
                <a:latin typeface="Times New Roman"/>
              </a:rPr>
              <a:t>composição de cada objet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66cc"/>
                </a:solidFill>
                <a:latin typeface="Times New Roman"/>
              </a:rPr>
              <a:t>de dad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e quais </a:t>
            </a:r>
            <a:r>
              <a:rPr b="1" lang="en-US" sz="2400" spc="-1" strike="noStrike">
                <a:solidFill>
                  <a:srgbClr val="3366cc"/>
                </a:solidFill>
                <a:latin typeface="Times New Roman"/>
              </a:rPr>
              <a:t>atributo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screvem o obje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de os objetos estão localizad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ais são os </a:t>
            </a:r>
            <a:r>
              <a:rPr b="1" lang="en-US" sz="2400" spc="-1" strike="noStrike">
                <a:solidFill>
                  <a:srgbClr val="3366cc"/>
                </a:solidFill>
                <a:latin typeface="Times New Roman"/>
              </a:rPr>
              <a:t>relacionamento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tre os objet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al é o </a:t>
            </a:r>
            <a:r>
              <a:rPr b="1" lang="en-US" sz="2400" spc="-1" strike="noStrike">
                <a:solidFill>
                  <a:srgbClr val="3366cc"/>
                </a:solidFill>
                <a:latin typeface="Times New Roman"/>
              </a:rPr>
              <a:t>relacionamento entre os objetos e os processo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que os transform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133720" y="4648320"/>
            <a:ext cx="5029200" cy="2057400"/>
            <a:chOff x="2133720" y="4648320"/>
            <a:chExt cx="5029200" cy="2057400"/>
          </a:xfrm>
        </p:grpSpPr>
        <p:grpSp>
          <p:nvGrpSpPr>
            <p:cNvPr id="134" name=""/>
            <p:cNvGrpSpPr/>
            <p:nvPr/>
          </p:nvGrpSpPr>
          <p:grpSpPr>
            <a:xfrm>
              <a:off x="2133720" y="5410080"/>
              <a:ext cx="5029200" cy="1295640"/>
              <a:chOff x="2133720" y="5410080"/>
              <a:chExt cx="5029200" cy="1295640"/>
            </a:xfrm>
          </p:grpSpPr>
          <p:sp>
            <p:nvSpPr>
              <p:cNvPr id="135" name=""/>
              <p:cNvSpPr/>
              <p:nvPr/>
            </p:nvSpPr>
            <p:spPr>
              <a:xfrm>
                <a:off x="2133720" y="5410080"/>
                <a:ext cx="5029200" cy="129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6" name=""/>
              <p:cNvGrpSpPr/>
              <p:nvPr/>
            </p:nvGrpSpPr>
            <p:grpSpPr>
              <a:xfrm>
                <a:off x="2743200" y="5715000"/>
                <a:ext cx="3809520" cy="685800"/>
                <a:chOff x="2743200" y="5715000"/>
                <a:chExt cx="3809520" cy="68580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5181480" y="6060960"/>
                  <a:ext cx="456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flipH="1">
                  <a:off x="3656880" y="6060960"/>
                  <a:ext cx="456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743200" y="5715000"/>
                  <a:ext cx="990360" cy="685800"/>
                </a:xfrm>
                <a:prstGeom prst="rect">
                  <a:avLst/>
                </a:prstGeom>
                <a:solidFill>
                  <a:srgbClr val="66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5562360" y="5715000"/>
                  <a:ext cx="990360" cy="685800"/>
                </a:xfrm>
                <a:prstGeom prst="rect">
                  <a:avLst/>
                </a:prstGeom>
                <a:solidFill>
                  <a:srgbClr val="66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114440" y="5715000"/>
                  <a:ext cx="1066680" cy="685800"/>
                </a:xfrm>
                <a:prstGeom prst="diamond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2" name=""/>
            <p:cNvSpPr/>
            <p:nvPr/>
          </p:nvSpPr>
          <p:spPr>
            <a:xfrm>
              <a:off x="4648320" y="4648320"/>
              <a:ext cx="0" cy="7617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Marcelo Turine - UN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9142-C9F8-46E5-86F3-4450C4A70B0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 Narrow"/>
              </a:rPr>
              <a:t>Exemplo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Times New Roman"/>
              </a:rPr>
              <a:t>Software Safehome </a:t>
            </a:r>
            <a:r>
              <a:rPr b="1" lang="pt-BR" sz="1800" spc="-1" strike="noStrike">
                <a:solidFill>
                  <a:srgbClr val="a50021"/>
                </a:solidFill>
                <a:latin typeface="Times New Roman"/>
              </a:rPr>
              <a:t>possibilita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 que o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Times New Roman"/>
              </a:rPr>
              <a:t>dono da casa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1800" spc="-1" strike="noStrike">
                <a:solidFill>
                  <a:srgbClr val="a50021"/>
                </a:solidFill>
                <a:latin typeface="Times New Roman"/>
              </a:rPr>
              <a:t>configure 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Times New Roman"/>
              </a:rPr>
              <a:t>sistema de segurança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 quando ele for </a:t>
            </a:r>
            <a:r>
              <a:rPr b="1" lang="pt-BR" sz="1800" spc="-1" strike="noStrike">
                <a:solidFill>
                  <a:srgbClr val="a50021"/>
                </a:solidFill>
                <a:latin typeface="Times New Roman"/>
              </a:rPr>
              <a:t>instalado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pt-BR" sz="1800" spc="-1" strike="noStrike">
                <a:solidFill>
                  <a:srgbClr val="a50021"/>
                </a:solidFill>
                <a:latin typeface="Times New Roman"/>
              </a:rPr>
              <a:t>monitore 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todos os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Times New Roman"/>
              </a:rPr>
              <a:t>sensores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1800" spc="-1" strike="noStrike">
                <a:solidFill>
                  <a:srgbClr val="a50021"/>
                </a:solidFill>
                <a:latin typeface="Times New Roman"/>
              </a:rPr>
              <a:t>ligados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 ao sistema de segurança e interaja com o sistema através de um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Times New Roman"/>
              </a:rPr>
              <a:t>teclado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Times New Roman"/>
              </a:rPr>
              <a:t>teclas de função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1800" spc="-1" strike="noStrike">
                <a:solidFill>
                  <a:srgbClr val="a50021"/>
                </a:solidFill>
                <a:latin typeface="Times New Roman"/>
              </a:rPr>
              <a:t>contidas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 no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Times New Roman"/>
              </a:rPr>
              <a:t>painel de contro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Durante a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Times New Roman"/>
              </a:rPr>
              <a:t>instalação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, o painel de controle é </a:t>
            </a:r>
            <a:r>
              <a:rPr b="1" lang="pt-BR" sz="1800" spc="-1" strike="noStrike">
                <a:solidFill>
                  <a:srgbClr val="a50021"/>
                </a:solidFill>
                <a:latin typeface="Times New Roman"/>
              </a:rPr>
              <a:t>usado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 para </a:t>
            </a:r>
            <a:r>
              <a:rPr b="1" lang="pt-BR" sz="1800" spc="-1" strike="noStrike">
                <a:solidFill>
                  <a:srgbClr val="a50021"/>
                </a:solidFill>
                <a:latin typeface="Times New Roman"/>
              </a:rPr>
              <a:t>programar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1" lang="pt-BR" sz="1800" spc="-1" strike="noStrike">
                <a:solidFill>
                  <a:srgbClr val="a50021"/>
                </a:solidFill>
                <a:latin typeface="Times New Roman"/>
              </a:rPr>
              <a:t>configurar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 o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Times New Roman"/>
              </a:rPr>
              <a:t>sistema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. 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cada sensor é </a:t>
            </a: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atribuído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m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númer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tip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um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enha de gerent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para </a:t>
            </a: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arma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desarmar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 sistema, 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número(s) de telefon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entrad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para </a:t>
            </a: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discage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quando 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evento senso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ocorre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uando o evento sensor é </a:t>
            </a: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reconhecid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o software </a:t>
            </a: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invoc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um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alarm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 Depois de um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tempo de esper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que é </a:t>
            </a: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especificad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pelo dono da casa durante a configuração do sistema, o software disca um nr de telefone de um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erviço de monitorament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produz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nformaçã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sobre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localizaçã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rela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a natureza do evento que foi detectado. O nr será </a:t>
            </a: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discado novament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a cada 20 segundos até que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nexão de telefon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é </a:t>
            </a: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obtid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d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nteraçã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com o SafeHome é </a:t>
            </a: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gerenciad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por um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ubsistema de interação-usuári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que </a:t>
            </a: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lê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entrad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produzida pelo teclado ou teclas de função, </a:t>
            </a: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edi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mensagens de pront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tatus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do sistem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sobre 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LC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Marcelo Turine - UN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2859-7789-40E4-A9C0-3519C38699BA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2895480" y="5791320"/>
            <a:ext cx="1292400" cy="874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 Narrow"/>
              </a:rPr>
              <a:t>DFD 1 - nível de expansão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995480" y="6172200"/>
            <a:ext cx="82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tatus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ns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1" name=""/>
          <p:cNvGrpSpPr/>
          <p:nvPr/>
        </p:nvGrpSpPr>
        <p:grpSpPr>
          <a:xfrm>
            <a:off x="7497720" y="3436920"/>
            <a:ext cx="1569960" cy="601200"/>
            <a:chOff x="7497720" y="3436920"/>
            <a:chExt cx="1569960" cy="601200"/>
          </a:xfrm>
        </p:grpSpPr>
        <p:grpSp>
          <p:nvGrpSpPr>
            <p:cNvPr id="962" name=""/>
            <p:cNvGrpSpPr/>
            <p:nvPr/>
          </p:nvGrpSpPr>
          <p:grpSpPr>
            <a:xfrm>
              <a:off x="7574040" y="3436920"/>
              <a:ext cx="1395000" cy="601200"/>
              <a:chOff x="7574040" y="3436920"/>
              <a:chExt cx="1395000" cy="601200"/>
            </a:xfrm>
          </p:grpSpPr>
          <p:sp>
            <p:nvSpPr>
              <p:cNvPr id="963" name=""/>
              <p:cNvSpPr/>
              <p:nvPr/>
            </p:nvSpPr>
            <p:spPr>
              <a:xfrm>
                <a:off x="7689600" y="3511800"/>
                <a:ext cx="1279440" cy="526320"/>
              </a:xfrm>
              <a:prstGeom prst="rect">
                <a:avLst/>
              </a:prstGeom>
              <a:solidFill>
                <a:srgbClr val="a5002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7574040" y="3436920"/>
                <a:ext cx="1279440" cy="526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5" name=""/>
            <p:cNvSpPr/>
            <p:nvPr/>
          </p:nvSpPr>
          <p:spPr>
            <a:xfrm>
              <a:off x="7497720" y="3436920"/>
              <a:ext cx="1569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400" spc="-1" strike="noStrike">
                  <a:solidFill>
                    <a:srgbClr val="000000"/>
                  </a:solidFill>
                  <a:latin typeface="Times New Roman"/>
                </a:rPr>
                <a:t>Display</a:t>
              </a: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 do painel de contro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7534440" y="4495680"/>
            <a:ext cx="1685880" cy="601200"/>
            <a:chOff x="7534440" y="4495680"/>
            <a:chExt cx="1685880" cy="601200"/>
          </a:xfrm>
        </p:grpSpPr>
        <p:grpSp>
          <p:nvGrpSpPr>
            <p:cNvPr id="967" name=""/>
            <p:cNvGrpSpPr/>
            <p:nvPr/>
          </p:nvGrpSpPr>
          <p:grpSpPr>
            <a:xfrm>
              <a:off x="7534440" y="4495680"/>
              <a:ext cx="1395000" cy="601200"/>
              <a:chOff x="7534440" y="4495680"/>
              <a:chExt cx="1395000" cy="601200"/>
            </a:xfrm>
          </p:grpSpPr>
          <p:sp>
            <p:nvSpPr>
              <p:cNvPr id="968" name=""/>
              <p:cNvSpPr/>
              <p:nvPr/>
            </p:nvSpPr>
            <p:spPr>
              <a:xfrm>
                <a:off x="7650000" y="4570560"/>
                <a:ext cx="1279440" cy="526320"/>
              </a:xfrm>
              <a:prstGeom prst="rect">
                <a:avLst/>
              </a:prstGeom>
              <a:solidFill>
                <a:srgbClr val="a5002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7534440" y="4495680"/>
                <a:ext cx="1279440" cy="526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0" name=""/>
            <p:cNvSpPr/>
            <p:nvPr/>
          </p:nvSpPr>
          <p:spPr>
            <a:xfrm>
              <a:off x="7650360" y="4495680"/>
              <a:ext cx="1569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lar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1" name=""/>
          <p:cNvGrpSpPr/>
          <p:nvPr/>
        </p:nvGrpSpPr>
        <p:grpSpPr>
          <a:xfrm>
            <a:off x="457200" y="1676520"/>
            <a:ext cx="8315280" cy="4913280"/>
            <a:chOff x="457200" y="1676520"/>
            <a:chExt cx="8315280" cy="4913280"/>
          </a:xfrm>
        </p:grpSpPr>
        <p:sp>
          <p:nvSpPr>
            <p:cNvPr id="972" name=""/>
            <p:cNvSpPr/>
            <p:nvPr/>
          </p:nvSpPr>
          <p:spPr>
            <a:xfrm>
              <a:off x="5261040" y="4267080"/>
              <a:ext cx="1292040" cy="874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124080" y="3581280"/>
              <a:ext cx="1433520" cy="1073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219320" y="4495680"/>
              <a:ext cx="1295280" cy="982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914400" y="2971800"/>
              <a:ext cx="1295280" cy="982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325680" y="1819440"/>
              <a:ext cx="1246320" cy="923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827440" y="5715000"/>
              <a:ext cx="1292040" cy="8748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819520" y="5864400"/>
              <a:ext cx="1263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Monitorar     senso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048120" y="3505320"/>
              <a:ext cx="1433520" cy="10731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130560" y="3668760"/>
              <a:ext cx="127476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tivar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esativar o siste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3276720" y="1752480"/>
              <a:ext cx="1245960" cy="9241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298680" y="1924200"/>
              <a:ext cx="1128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onfigurar     siste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181480" y="1676520"/>
              <a:ext cx="196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ados de configuraçã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219320" y="2362320"/>
              <a:ext cx="1676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mandos e dados do usuári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5" name=""/>
            <p:cNvGrpSpPr/>
            <p:nvPr/>
          </p:nvGrpSpPr>
          <p:grpSpPr>
            <a:xfrm>
              <a:off x="457200" y="1752480"/>
              <a:ext cx="1685880" cy="631440"/>
              <a:chOff x="457200" y="1752480"/>
              <a:chExt cx="1685880" cy="631440"/>
            </a:xfrm>
          </p:grpSpPr>
          <p:grpSp>
            <p:nvGrpSpPr>
              <p:cNvPr id="986" name=""/>
              <p:cNvGrpSpPr/>
              <p:nvPr/>
            </p:nvGrpSpPr>
            <p:grpSpPr>
              <a:xfrm>
                <a:off x="457200" y="1752480"/>
                <a:ext cx="1395000" cy="601200"/>
                <a:chOff x="457200" y="1752480"/>
                <a:chExt cx="1395000" cy="601200"/>
              </a:xfrm>
            </p:grpSpPr>
            <p:sp>
              <p:nvSpPr>
                <p:cNvPr id="987" name=""/>
                <p:cNvSpPr/>
                <p:nvPr/>
              </p:nvSpPr>
              <p:spPr>
                <a:xfrm>
                  <a:off x="572760" y="1827360"/>
                  <a:ext cx="1279440" cy="526320"/>
                </a:xfrm>
                <a:prstGeom prst="rect">
                  <a:avLst/>
                </a:prstGeom>
                <a:solidFill>
                  <a:srgbClr val="a5002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457200" y="1752480"/>
                  <a:ext cx="1279440" cy="526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9" name=""/>
              <p:cNvSpPr/>
              <p:nvPr/>
            </p:nvSpPr>
            <p:spPr>
              <a:xfrm>
                <a:off x="573120" y="1752480"/>
                <a:ext cx="1569960" cy="63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Painel 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ontrol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0" name=""/>
            <p:cNvSpPr/>
            <p:nvPr/>
          </p:nvSpPr>
          <p:spPr>
            <a:xfrm>
              <a:off x="838080" y="2895480"/>
              <a:ext cx="1295640" cy="9828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teragir c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usuár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327640" y="2209680"/>
              <a:ext cx="1616040" cy="416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257800" y="2133720"/>
              <a:ext cx="1616040" cy="4381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formação 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onfiguraçã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143000" y="4419720"/>
              <a:ext cx="1295280" cy="9824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rocessar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enh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143000" y="2362320"/>
              <a:ext cx="15228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1523880" y="3886200"/>
              <a:ext cx="1526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584720" y="3897360"/>
              <a:ext cx="58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enh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V="1">
              <a:off x="2057400" y="2437920"/>
              <a:ext cx="1295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743200" y="266688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olicitação de configuraçã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267080" y="1828800"/>
              <a:ext cx="1752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0" name=""/>
            <p:cNvGrpSpPr/>
            <p:nvPr/>
          </p:nvGrpSpPr>
          <p:grpSpPr>
            <a:xfrm>
              <a:off x="533520" y="5867280"/>
              <a:ext cx="1685880" cy="601200"/>
              <a:chOff x="533520" y="5867280"/>
              <a:chExt cx="1685880" cy="601200"/>
            </a:xfrm>
          </p:grpSpPr>
          <p:grpSp>
            <p:nvGrpSpPr>
              <p:cNvPr id="1001" name=""/>
              <p:cNvGrpSpPr/>
              <p:nvPr/>
            </p:nvGrpSpPr>
            <p:grpSpPr>
              <a:xfrm>
                <a:off x="533520" y="5867280"/>
                <a:ext cx="1395000" cy="601200"/>
                <a:chOff x="533520" y="5867280"/>
                <a:chExt cx="1395000" cy="601200"/>
              </a:xfrm>
            </p:grpSpPr>
            <p:sp>
              <p:nvSpPr>
                <p:cNvPr id="1002" name=""/>
                <p:cNvSpPr/>
                <p:nvPr/>
              </p:nvSpPr>
              <p:spPr>
                <a:xfrm>
                  <a:off x="649080" y="5942160"/>
                  <a:ext cx="1279440" cy="526320"/>
                </a:xfrm>
                <a:prstGeom prst="rect">
                  <a:avLst/>
                </a:prstGeom>
                <a:solidFill>
                  <a:srgbClr val="a5002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533520" y="5867280"/>
                  <a:ext cx="1279440" cy="526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4" name=""/>
              <p:cNvSpPr/>
              <p:nvPr/>
            </p:nvSpPr>
            <p:spPr>
              <a:xfrm>
                <a:off x="649440" y="5867280"/>
                <a:ext cx="1569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Sensor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5" name=""/>
            <p:cNvGrpSpPr/>
            <p:nvPr/>
          </p:nvGrpSpPr>
          <p:grpSpPr>
            <a:xfrm>
              <a:off x="7086600" y="5700600"/>
              <a:ext cx="1685880" cy="631440"/>
              <a:chOff x="7086600" y="5700600"/>
              <a:chExt cx="1685880" cy="631440"/>
            </a:xfrm>
          </p:grpSpPr>
          <p:grpSp>
            <p:nvGrpSpPr>
              <p:cNvPr id="1006" name=""/>
              <p:cNvGrpSpPr/>
              <p:nvPr/>
            </p:nvGrpSpPr>
            <p:grpSpPr>
              <a:xfrm>
                <a:off x="7086600" y="5700600"/>
                <a:ext cx="1395000" cy="601200"/>
                <a:chOff x="7086600" y="5700600"/>
                <a:chExt cx="1395000" cy="601200"/>
              </a:xfrm>
            </p:grpSpPr>
            <p:sp>
              <p:nvSpPr>
                <p:cNvPr id="1007" name=""/>
                <p:cNvSpPr/>
                <p:nvPr/>
              </p:nvSpPr>
              <p:spPr>
                <a:xfrm>
                  <a:off x="7202160" y="5775480"/>
                  <a:ext cx="1279440" cy="526320"/>
                </a:xfrm>
                <a:prstGeom prst="rect">
                  <a:avLst/>
                </a:prstGeom>
                <a:solidFill>
                  <a:srgbClr val="a5002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7086600" y="5700600"/>
                  <a:ext cx="1279440" cy="526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9" name=""/>
              <p:cNvSpPr/>
              <p:nvPr/>
            </p:nvSpPr>
            <p:spPr>
              <a:xfrm>
                <a:off x="7202520" y="5700600"/>
                <a:ext cx="1569960" cy="63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Linha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telefônic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0" name=""/>
            <p:cNvSpPr/>
            <p:nvPr/>
          </p:nvSpPr>
          <p:spPr>
            <a:xfrm>
              <a:off x="2133720" y="3505320"/>
              <a:ext cx="9144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283840" y="3352680"/>
              <a:ext cx="105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niciar/par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905120" y="61722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189400" y="4191120"/>
              <a:ext cx="1292400" cy="8744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181480" y="4340160"/>
              <a:ext cx="1263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Emitir mensagens e </a:t>
              </a:r>
              <a:r>
                <a:rPr b="1" i="1" lang="pt-BR" sz="1400" spc="-1" strike="noStrike">
                  <a:solidFill>
                    <a:srgbClr val="000000"/>
                  </a:solidFill>
                  <a:latin typeface="Times New Roman"/>
                </a:rPr>
                <a:t>stat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 flipH="1">
              <a:off x="3733920" y="2590920"/>
              <a:ext cx="1828800" cy="312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H="1">
              <a:off x="5943240" y="2590920"/>
              <a:ext cx="22860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6172200" y="2743200"/>
              <a:ext cx="12193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ados d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nfiguraçã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419720" y="3886200"/>
              <a:ext cx="8380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876920" y="3962520"/>
              <a:ext cx="78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/d msg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438280" y="4876920"/>
              <a:ext cx="281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512440" y="4952880"/>
              <a:ext cx="1404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ensg. id válid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V="1">
              <a:off x="3962520" y="5028840"/>
              <a:ext cx="16002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951800" y="5257800"/>
              <a:ext cx="996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nformaçã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o sens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V="1">
              <a:off x="6324480" y="3580920"/>
              <a:ext cx="129564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V="1">
              <a:off x="4114800" y="5105160"/>
              <a:ext cx="426708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V="1">
              <a:off x="4038480" y="6019920"/>
              <a:ext cx="30481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475680" y="5105520"/>
              <a:ext cx="12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ipo de alar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103000" y="6248520"/>
              <a:ext cx="109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r telefôni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6477120" y="3886200"/>
              <a:ext cx="1218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informações de </a:t>
              </a:r>
              <a:r>
                <a:rPr b="0" i="1" lang="pt-BR" sz="1400" spc="-1" strike="noStrike">
                  <a:solidFill>
                    <a:srgbClr val="000000"/>
                  </a:solidFill>
                  <a:latin typeface="Times New Roman"/>
                </a:rPr>
                <a:t>displ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181480" y="2133720"/>
              <a:ext cx="228600" cy="4381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Marcelo Turine - UN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6EFB-BE00-4DF2-9127-3DC28A68CA51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"/>
          <p:cNvSpPr/>
          <p:nvPr/>
        </p:nvSpPr>
        <p:spPr>
          <a:xfrm>
            <a:off x="2819520" y="5791320"/>
            <a:ext cx="1292040" cy="874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DFC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grpSp>
        <p:nvGrpSpPr>
          <p:cNvPr id="1033" name=""/>
          <p:cNvGrpSpPr/>
          <p:nvPr/>
        </p:nvGrpSpPr>
        <p:grpSpPr>
          <a:xfrm>
            <a:off x="7421400" y="3436920"/>
            <a:ext cx="1569960" cy="601200"/>
            <a:chOff x="7421400" y="3436920"/>
            <a:chExt cx="1569960" cy="601200"/>
          </a:xfrm>
        </p:grpSpPr>
        <p:grpSp>
          <p:nvGrpSpPr>
            <p:cNvPr id="1034" name=""/>
            <p:cNvGrpSpPr/>
            <p:nvPr/>
          </p:nvGrpSpPr>
          <p:grpSpPr>
            <a:xfrm>
              <a:off x="7497720" y="3436920"/>
              <a:ext cx="1395000" cy="601200"/>
              <a:chOff x="7497720" y="3436920"/>
              <a:chExt cx="1395000" cy="601200"/>
            </a:xfrm>
          </p:grpSpPr>
          <p:sp>
            <p:nvSpPr>
              <p:cNvPr id="1035" name=""/>
              <p:cNvSpPr/>
              <p:nvPr/>
            </p:nvSpPr>
            <p:spPr>
              <a:xfrm>
                <a:off x="7613280" y="3511800"/>
                <a:ext cx="1279440" cy="526320"/>
              </a:xfrm>
              <a:prstGeom prst="rect">
                <a:avLst/>
              </a:prstGeom>
              <a:solidFill>
                <a:srgbClr val="a5002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7497720" y="3436920"/>
                <a:ext cx="1279440" cy="526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7" name=""/>
            <p:cNvSpPr/>
            <p:nvPr/>
          </p:nvSpPr>
          <p:spPr>
            <a:xfrm>
              <a:off x="7421400" y="3436920"/>
              <a:ext cx="1569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400" spc="-1" strike="noStrike">
                  <a:solidFill>
                    <a:srgbClr val="000000"/>
                  </a:solidFill>
                  <a:latin typeface="Times New Roman"/>
                </a:rPr>
                <a:t>Display </a:t>
              </a: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 do painel de contro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8" name=""/>
          <p:cNvGrpSpPr/>
          <p:nvPr/>
        </p:nvGrpSpPr>
        <p:grpSpPr>
          <a:xfrm>
            <a:off x="7458120" y="4495680"/>
            <a:ext cx="1685880" cy="601200"/>
            <a:chOff x="7458120" y="4495680"/>
            <a:chExt cx="1685880" cy="601200"/>
          </a:xfrm>
        </p:grpSpPr>
        <p:grpSp>
          <p:nvGrpSpPr>
            <p:cNvPr id="1039" name=""/>
            <p:cNvGrpSpPr/>
            <p:nvPr/>
          </p:nvGrpSpPr>
          <p:grpSpPr>
            <a:xfrm>
              <a:off x="7458120" y="4495680"/>
              <a:ext cx="1395000" cy="601200"/>
              <a:chOff x="7458120" y="4495680"/>
              <a:chExt cx="1395000" cy="601200"/>
            </a:xfrm>
          </p:grpSpPr>
          <p:sp>
            <p:nvSpPr>
              <p:cNvPr id="1040" name=""/>
              <p:cNvSpPr/>
              <p:nvPr/>
            </p:nvSpPr>
            <p:spPr>
              <a:xfrm>
                <a:off x="7573680" y="4570560"/>
                <a:ext cx="1279440" cy="526320"/>
              </a:xfrm>
              <a:prstGeom prst="rect">
                <a:avLst/>
              </a:prstGeom>
              <a:solidFill>
                <a:srgbClr val="a5002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7458120" y="4495680"/>
                <a:ext cx="1279440" cy="526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2" name=""/>
            <p:cNvSpPr/>
            <p:nvPr/>
          </p:nvSpPr>
          <p:spPr>
            <a:xfrm>
              <a:off x="7574040" y="4495680"/>
              <a:ext cx="1569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lar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3" name=""/>
          <p:cNvSpPr/>
          <p:nvPr/>
        </p:nvSpPr>
        <p:spPr>
          <a:xfrm>
            <a:off x="2751120" y="5715000"/>
            <a:ext cx="1292400" cy="8748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4" name=""/>
          <p:cNvGrpSpPr/>
          <p:nvPr/>
        </p:nvGrpSpPr>
        <p:grpSpPr>
          <a:xfrm>
            <a:off x="380880" y="1523880"/>
            <a:ext cx="8458200" cy="4944600"/>
            <a:chOff x="380880" y="1523880"/>
            <a:chExt cx="8458200" cy="4944600"/>
          </a:xfrm>
        </p:grpSpPr>
        <p:sp>
          <p:nvSpPr>
            <p:cNvPr id="1045" name=""/>
            <p:cNvSpPr/>
            <p:nvPr/>
          </p:nvSpPr>
          <p:spPr>
            <a:xfrm>
              <a:off x="5181480" y="4267080"/>
              <a:ext cx="1292400" cy="874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048120" y="3581280"/>
              <a:ext cx="1433520" cy="1073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143000" y="4495680"/>
              <a:ext cx="1295280" cy="982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838080" y="2971800"/>
              <a:ext cx="1295640" cy="982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3276720" y="1600200"/>
              <a:ext cx="1245960" cy="923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836640" y="5486400"/>
              <a:ext cx="116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a50021"/>
                  </a:solidFill>
                  <a:latin typeface="Times New Roman"/>
                </a:rPr>
                <a:t>evento sens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743200" y="5864400"/>
              <a:ext cx="1263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Monitorar     senso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971800" y="3505320"/>
              <a:ext cx="1433520" cy="10731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3054240" y="3668760"/>
              <a:ext cx="127476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tivar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esativar o siste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200400" y="1523880"/>
              <a:ext cx="1246320" cy="9241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222720" y="1695600"/>
              <a:ext cx="1128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onfigurar     siste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6" name=""/>
            <p:cNvGrpSpPr/>
            <p:nvPr/>
          </p:nvGrpSpPr>
          <p:grpSpPr>
            <a:xfrm>
              <a:off x="380880" y="1752480"/>
              <a:ext cx="1685880" cy="631440"/>
              <a:chOff x="380880" y="1752480"/>
              <a:chExt cx="1685880" cy="631440"/>
            </a:xfrm>
          </p:grpSpPr>
          <p:grpSp>
            <p:nvGrpSpPr>
              <p:cNvPr id="1057" name=""/>
              <p:cNvGrpSpPr/>
              <p:nvPr/>
            </p:nvGrpSpPr>
            <p:grpSpPr>
              <a:xfrm>
                <a:off x="380880" y="1752480"/>
                <a:ext cx="1395000" cy="601200"/>
                <a:chOff x="380880" y="1752480"/>
                <a:chExt cx="1395000" cy="601200"/>
              </a:xfrm>
            </p:grpSpPr>
            <p:sp>
              <p:nvSpPr>
                <p:cNvPr id="1058" name=""/>
                <p:cNvSpPr/>
                <p:nvPr/>
              </p:nvSpPr>
              <p:spPr>
                <a:xfrm>
                  <a:off x="496440" y="1827360"/>
                  <a:ext cx="1279440" cy="526320"/>
                </a:xfrm>
                <a:prstGeom prst="rect">
                  <a:avLst/>
                </a:prstGeom>
                <a:solidFill>
                  <a:srgbClr val="a5002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380880" y="1752480"/>
                  <a:ext cx="1279440" cy="526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0" name=""/>
              <p:cNvSpPr/>
              <p:nvPr/>
            </p:nvSpPr>
            <p:spPr>
              <a:xfrm>
                <a:off x="496800" y="1752480"/>
                <a:ext cx="1569960" cy="63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Painel 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ontrol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1" name=""/>
            <p:cNvSpPr/>
            <p:nvPr/>
          </p:nvSpPr>
          <p:spPr>
            <a:xfrm>
              <a:off x="762120" y="2895480"/>
              <a:ext cx="1295280" cy="9828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teragir c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usuár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175360" y="2755800"/>
              <a:ext cx="1616040" cy="327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181480" y="2590920"/>
              <a:ext cx="1540080" cy="4381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066680" y="4419720"/>
              <a:ext cx="1295640" cy="9824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rocessar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enh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066680" y="2362320"/>
              <a:ext cx="15264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447920" y="3886200"/>
              <a:ext cx="1522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V="1">
              <a:off x="1981080" y="2209680"/>
              <a:ext cx="129564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343400" y="2362320"/>
              <a:ext cx="762120" cy="4572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9" name=""/>
            <p:cNvGrpSpPr/>
            <p:nvPr/>
          </p:nvGrpSpPr>
          <p:grpSpPr>
            <a:xfrm>
              <a:off x="457200" y="5867280"/>
              <a:ext cx="1685880" cy="601200"/>
              <a:chOff x="457200" y="5867280"/>
              <a:chExt cx="1685880" cy="601200"/>
            </a:xfrm>
          </p:grpSpPr>
          <p:grpSp>
            <p:nvGrpSpPr>
              <p:cNvPr id="1070" name=""/>
              <p:cNvGrpSpPr/>
              <p:nvPr/>
            </p:nvGrpSpPr>
            <p:grpSpPr>
              <a:xfrm>
                <a:off x="457200" y="5867280"/>
                <a:ext cx="1395000" cy="601200"/>
                <a:chOff x="457200" y="5867280"/>
                <a:chExt cx="1395000" cy="601200"/>
              </a:xfrm>
            </p:grpSpPr>
            <p:sp>
              <p:nvSpPr>
                <p:cNvPr id="1071" name=""/>
                <p:cNvSpPr/>
                <p:nvPr/>
              </p:nvSpPr>
              <p:spPr>
                <a:xfrm>
                  <a:off x="572760" y="5942160"/>
                  <a:ext cx="1279440" cy="526320"/>
                </a:xfrm>
                <a:prstGeom prst="rect">
                  <a:avLst/>
                </a:prstGeom>
                <a:solidFill>
                  <a:srgbClr val="a5002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457200" y="5867280"/>
                  <a:ext cx="1279440" cy="526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73" name=""/>
              <p:cNvSpPr/>
              <p:nvPr/>
            </p:nvSpPr>
            <p:spPr>
              <a:xfrm>
                <a:off x="573120" y="5867280"/>
                <a:ext cx="1569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Sensor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4" name=""/>
            <p:cNvGrpSpPr/>
            <p:nvPr/>
          </p:nvGrpSpPr>
          <p:grpSpPr>
            <a:xfrm>
              <a:off x="7010280" y="5700600"/>
              <a:ext cx="1685880" cy="631440"/>
              <a:chOff x="7010280" y="5700600"/>
              <a:chExt cx="1685880" cy="631440"/>
            </a:xfrm>
          </p:grpSpPr>
          <p:grpSp>
            <p:nvGrpSpPr>
              <p:cNvPr id="1075" name=""/>
              <p:cNvGrpSpPr/>
              <p:nvPr/>
            </p:nvGrpSpPr>
            <p:grpSpPr>
              <a:xfrm>
                <a:off x="7010280" y="5700600"/>
                <a:ext cx="1395000" cy="601200"/>
                <a:chOff x="7010280" y="5700600"/>
                <a:chExt cx="1395000" cy="601200"/>
              </a:xfrm>
            </p:grpSpPr>
            <p:sp>
              <p:nvSpPr>
                <p:cNvPr id="1076" name=""/>
                <p:cNvSpPr/>
                <p:nvPr/>
              </p:nvSpPr>
              <p:spPr>
                <a:xfrm>
                  <a:off x="7125840" y="5775480"/>
                  <a:ext cx="1279440" cy="526320"/>
                </a:xfrm>
                <a:prstGeom prst="rect">
                  <a:avLst/>
                </a:prstGeom>
                <a:solidFill>
                  <a:srgbClr val="a5002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>
                  <a:off x="7010280" y="5700600"/>
                  <a:ext cx="1279440" cy="526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78" name=""/>
              <p:cNvSpPr/>
              <p:nvPr/>
            </p:nvSpPr>
            <p:spPr>
              <a:xfrm>
                <a:off x="7126200" y="5700600"/>
                <a:ext cx="1569960" cy="63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Linha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telefônic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9" name=""/>
            <p:cNvSpPr/>
            <p:nvPr/>
          </p:nvSpPr>
          <p:spPr>
            <a:xfrm>
              <a:off x="2057400" y="3505320"/>
              <a:ext cx="914400" cy="4572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960000" y="2666880"/>
              <a:ext cx="8895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a50021"/>
                  </a:solidFill>
                  <a:latin typeface="Times New Roman"/>
                </a:rPr>
                <a:t>cha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a50021"/>
                  </a:solidFill>
                  <a:latin typeface="Times New Roman"/>
                </a:rPr>
                <a:t>início/fi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a50021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828800" y="61722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113440" y="4191120"/>
              <a:ext cx="1292040" cy="8744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105520" y="4340160"/>
              <a:ext cx="1263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Emitir  mensagens e </a:t>
              </a:r>
              <a:r>
                <a:rPr b="1" i="1" lang="pt-BR" sz="1400" spc="-1" strike="noStrike">
                  <a:solidFill>
                    <a:srgbClr val="000000"/>
                  </a:solidFill>
                  <a:latin typeface="Times New Roman"/>
                </a:rPr>
                <a:t>stat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H="1">
              <a:off x="3657600" y="3048120"/>
              <a:ext cx="1828800" cy="266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H="1">
              <a:off x="5867280" y="3124080"/>
              <a:ext cx="76320" cy="10670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7467480" y="2438280"/>
              <a:ext cx="13716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400" spc="-1" strike="noStrike">
                  <a:solidFill>
                    <a:srgbClr val="000000"/>
                  </a:solidFill>
                  <a:latin typeface="Times New Roman"/>
                </a:rPr>
                <a:t>Display </a:t>
              </a: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do </a:t>
              </a:r>
              <a:r>
                <a:rPr b="0" i="1" lang="pt-BR" sz="1400" spc="-1" strike="noStrike">
                  <a:solidFill>
                    <a:srgbClr val="000000"/>
                  </a:solidFill>
                  <a:latin typeface="Times New Roman"/>
                </a:rPr>
                <a:t>status</a:t>
              </a: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 de ação (completo, em progresso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343400" y="3886200"/>
              <a:ext cx="8380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362320" y="4876920"/>
              <a:ext cx="28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 flipV="1">
              <a:off x="3886200" y="5028840"/>
              <a:ext cx="16002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V="1">
              <a:off x="6248520" y="3580920"/>
              <a:ext cx="12952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V="1">
              <a:off x="4038480" y="5105160"/>
              <a:ext cx="426744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V="1">
              <a:off x="3962520" y="6019920"/>
              <a:ext cx="30477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5943600" y="1676520"/>
              <a:ext cx="0" cy="533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V="1">
              <a:off x="2057400" y="1980720"/>
              <a:ext cx="3886200" cy="12956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V="1">
              <a:off x="4191120" y="2133360"/>
              <a:ext cx="1752480" cy="15238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V="1">
              <a:off x="6095880" y="2742840"/>
              <a:ext cx="1371600" cy="15238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H="1" flipV="1">
              <a:off x="5943600" y="1752480"/>
              <a:ext cx="1447920" cy="990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646160" y="1828800"/>
              <a:ext cx="109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a50021"/>
                  </a:solidFill>
                  <a:latin typeface="Times New Roman"/>
                </a:rPr>
                <a:t>flag </a:t>
              </a:r>
              <a:r>
                <a:rPr b="0" lang="en-US" sz="1400" spc="-1" strike="noStrike">
                  <a:solidFill>
                    <a:srgbClr val="a50021"/>
                  </a:solidFill>
                  <a:latin typeface="Times New Roman"/>
                </a:rPr>
                <a:t>piscan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934320" y="4419720"/>
              <a:ext cx="0" cy="533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438280" y="5257800"/>
              <a:ext cx="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V="1">
              <a:off x="1447920" y="5486400"/>
              <a:ext cx="990360" cy="3808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V="1">
              <a:off x="2438280" y="5334120"/>
              <a:ext cx="685800" cy="3045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420640" y="5105520"/>
              <a:ext cx="127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a50021"/>
                  </a:solidFill>
                  <a:latin typeface="Times New Roman"/>
                </a:rPr>
                <a:t>sinal do alar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400800" y="4724280"/>
              <a:ext cx="533520" cy="763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H="1" flipV="1">
              <a:off x="6933960" y="4495680"/>
              <a:ext cx="533160" cy="1526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6095880" y="4876920"/>
              <a:ext cx="891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a50021"/>
                  </a:solidFill>
                  <a:latin typeface="Times New Roman"/>
                </a:rPr>
                <a:t>status</a:t>
              </a:r>
              <a:r>
                <a:rPr b="0" lang="en-US" sz="1400" spc="-1" strike="noStrike">
                  <a:solidFill>
                    <a:srgbClr val="a50021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a50021"/>
                  </a:solidFill>
                  <a:latin typeface="Times New Roman"/>
                </a:rPr>
                <a:t>do alar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009920" y="4267080"/>
              <a:ext cx="71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a50021"/>
                  </a:solidFill>
                  <a:latin typeface="Times New Roman"/>
                </a:rPr>
                <a:t>time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105520" y="2610000"/>
              <a:ext cx="152280" cy="4381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Marcelo Turine - UN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C63F-CDB5-44BC-B13F-64780360C6F9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"/>
          <p:cNvSpPr/>
          <p:nvPr/>
        </p:nvSpPr>
        <p:spPr>
          <a:xfrm>
            <a:off x="3657600" y="5486400"/>
            <a:ext cx="2286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1066680" y="3200400"/>
            <a:ext cx="2057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6553080" y="3276720"/>
            <a:ext cx="198144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3352680" y="1676520"/>
            <a:ext cx="198144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CSPEC / DT-E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276720" y="1600200"/>
            <a:ext cx="19810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ndo a ent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usuá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914400" y="3124080"/>
            <a:ext cx="21337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ando 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o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6477120" y="3200400"/>
            <a:ext cx="19810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ivando 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to sen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3505320" y="5410080"/>
            <a:ext cx="23619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itind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eed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o usuá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H="1">
            <a:off x="1752480" y="2133720"/>
            <a:ext cx="152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1752480" y="2133720"/>
            <a:ext cx="18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 flipV="1">
            <a:off x="3048120" y="342900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flipV="1">
            <a:off x="3276720" y="2819160"/>
            <a:ext cx="14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H="1">
            <a:off x="2666880" y="2819520"/>
            <a:ext cx="609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666880" y="2819520"/>
            <a:ext cx="18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flipH="1">
            <a:off x="609120" y="2362320"/>
            <a:ext cx="2667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09480" y="2362320"/>
            <a:ext cx="1800" cy="35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1752480" y="403848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752480" y="541008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752480" y="5638680"/>
            <a:ext cx="17528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H="1">
            <a:off x="2971800" y="5486400"/>
            <a:ext cx="533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flipV="1">
            <a:off x="2971800" y="4038480"/>
            <a:ext cx="144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 flipV="1">
            <a:off x="8686800" y="1676520"/>
            <a:ext cx="1440" cy="39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 flipH="1">
            <a:off x="5257440" y="1676520"/>
            <a:ext cx="34290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 flipV="1">
            <a:off x="7391520" y="1981080"/>
            <a:ext cx="14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 flipH="1">
            <a:off x="5257440" y="1981080"/>
            <a:ext cx="2133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048120" y="3581280"/>
            <a:ext cx="34290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6" name=""/>
          <p:cNvGrpSpPr/>
          <p:nvPr/>
        </p:nvGrpSpPr>
        <p:grpSpPr>
          <a:xfrm>
            <a:off x="3273840" y="2498760"/>
            <a:ext cx="2304720" cy="1008720"/>
            <a:chOff x="3273840" y="2498760"/>
            <a:chExt cx="2304720" cy="1008720"/>
          </a:xfrm>
        </p:grpSpPr>
        <p:sp>
          <p:nvSpPr>
            <p:cNvPr id="1137" name=""/>
            <p:cNvSpPr/>
            <p:nvPr/>
          </p:nvSpPr>
          <p:spPr>
            <a:xfrm>
              <a:off x="3368520" y="2830680"/>
              <a:ext cx="2210040" cy="0"/>
            </a:xfrm>
            <a:prstGeom prst="line">
              <a:avLst/>
            </a:prstGeom>
            <a:ln w="93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349440" y="2498760"/>
              <a:ext cx="176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a50021"/>
                  </a:solidFill>
                  <a:latin typeface="Times New Roman"/>
                </a:rPr>
                <a:t>evento sens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273840" y="2803680"/>
              <a:ext cx="2161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a50021"/>
                  </a:solidFill>
                  <a:latin typeface="Times New Roman"/>
                </a:rPr>
                <a:t>invoca </a:t>
              </a:r>
              <a:r>
                <a:rPr b="0" i="1" lang="en-US" sz="2000" spc="-1" strike="noStrike">
                  <a:solidFill>
                    <a:srgbClr val="a50021"/>
                  </a:solidFill>
                  <a:latin typeface="Times New Roman"/>
                </a:rPr>
                <a:t>monitor &amp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a50021"/>
                  </a:solidFill>
                  <a:latin typeface="Times New Roman"/>
                </a:rPr>
                <a:t>sistema de contro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0" name=""/>
          <p:cNvGrpSpPr/>
          <p:nvPr/>
        </p:nvGrpSpPr>
        <p:grpSpPr>
          <a:xfrm>
            <a:off x="514440" y="1050840"/>
            <a:ext cx="2746440" cy="1085040"/>
            <a:chOff x="514440" y="1050840"/>
            <a:chExt cx="2746440" cy="1085040"/>
          </a:xfrm>
        </p:grpSpPr>
        <p:sp>
          <p:nvSpPr>
            <p:cNvPr id="1141" name=""/>
            <p:cNvSpPr/>
            <p:nvPr/>
          </p:nvSpPr>
          <p:spPr>
            <a:xfrm>
              <a:off x="746280" y="1447920"/>
              <a:ext cx="2514600" cy="0"/>
            </a:xfrm>
            <a:prstGeom prst="line">
              <a:avLst/>
            </a:prstGeom>
            <a:ln w="93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14440" y="1050840"/>
              <a:ext cx="203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a50021"/>
                  </a:solidFill>
                  <a:latin typeface="Times New Roman"/>
                </a:rPr>
                <a:t>chave início/fi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819360" y="1432080"/>
              <a:ext cx="2161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a50021"/>
                  </a:solidFill>
                  <a:latin typeface="Times New Roman"/>
                </a:rPr>
                <a:t>invoca </a:t>
              </a:r>
              <a:r>
                <a:rPr b="0" i="1" lang="en-US" sz="2000" spc="-1" strike="noStrike">
                  <a:solidFill>
                    <a:srgbClr val="a50021"/>
                  </a:solidFill>
                  <a:latin typeface="Times New Roman"/>
                </a:rPr>
                <a:t>monitor &amp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a50021"/>
                  </a:solidFill>
                  <a:latin typeface="Times New Roman"/>
                </a:rPr>
                <a:t>sistema de contro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4" name=""/>
          <p:cNvGrpSpPr/>
          <p:nvPr/>
        </p:nvGrpSpPr>
        <p:grpSpPr>
          <a:xfrm>
            <a:off x="605160" y="4332240"/>
            <a:ext cx="2306160" cy="1004040"/>
            <a:chOff x="605160" y="4332240"/>
            <a:chExt cx="2306160" cy="1004040"/>
          </a:xfrm>
        </p:grpSpPr>
        <p:sp>
          <p:nvSpPr>
            <p:cNvPr id="1145" name=""/>
            <p:cNvSpPr/>
            <p:nvPr/>
          </p:nvSpPr>
          <p:spPr>
            <a:xfrm>
              <a:off x="701640" y="4664160"/>
              <a:ext cx="2209680" cy="0"/>
            </a:xfrm>
            <a:prstGeom prst="line">
              <a:avLst/>
            </a:prstGeom>
            <a:ln w="93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82560" y="4332240"/>
              <a:ext cx="176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a50021"/>
                  </a:solidFill>
                  <a:latin typeface="Times New Roman"/>
                </a:rPr>
                <a:t>evento sens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05160" y="4632480"/>
              <a:ext cx="2285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a50021"/>
                  </a:solidFill>
                  <a:latin typeface="Times New Roman"/>
                </a:rPr>
                <a:t>invoca emissão 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a50021"/>
                  </a:solidFill>
                  <a:latin typeface="Times New Roman"/>
                </a:rPr>
                <a:t> </a:t>
              </a:r>
              <a:r>
                <a:rPr b="0" i="1" lang="en-US" sz="2000" spc="-1" strike="noStrike">
                  <a:solidFill>
                    <a:srgbClr val="a50021"/>
                  </a:solidFill>
                  <a:latin typeface="Times New Roman"/>
                </a:rPr>
                <a:t>mensagens &amp; stat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8" name=""/>
          <p:cNvGrpSpPr/>
          <p:nvPr/>
        </p:nvGrpSpPr>
        <p:grpSpPr>
          <a:xfrm>
            <a:off x="3881880" y="3505320"/>
            <a:ext cx="2306160" cy="1008360"/>
            <a:chOff x="3881880" y="3505320"/>
            <a:chExt cx="2306160" cy="1008360"/>
          </a:xfrm>
        </p:grpSpPr>
        <p:sp>
          <p:nvSpPr>
            <p:cNvPr id="1149" name=""/>
            <p:cNvSpPr/>
            <p:nvPr/>
          </p:nvSpPr>
          <p:spPr>
            <a:xfrm>
              <a:off x="3978360" y="3836880"/>
              <a:ext cx="2209680" cy="0"/>
            </a:xfrm>
            <a:prstGeom prst="line">
              <a:avLst/>
            </a:prstGeom>
            <a:ln w="93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959280" y="3505320"/>
              <a:ext cx="176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a50021"/>
                  </a:solidFill>
                  <a:latin typeface="Times New Roman"/>
                </a:rPr>
                <a:t>evento sens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881880" y="3809880"/>
              <a:ext cx="2285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a50021"/>
                  </a:solidFill>
                  <a:latin typeface="Times New Roman"/>
                </a:rPr>
                <a:t>invoca emissão 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a50021"/>
                  </a:solidFill>
                  <a:latin typeface="Times New Roman"/>
                </a:rPr>
                <a:t> </a:t>
              </a:r>
              <a:r>
                <a:rPr b="0" i="1" lang="en-US" sz="2000" spc="-1" strike="noStrike">
                  <a:solidFill>
                    <a:srgbClr val="a50021"/>
                  </a:solidFill>
                  <a:latin typeface="Times New Roman"/>
                </a:rPr>
                <a:t>mensagens &amp; stat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2" name=""/>
          <p:cNvSpPr/>
          <p:nvPr/>
        </p:nvSpPr>
        <p:spPr>
          <a:xfrm>
            <a:off x="5867280" y="5638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3" name=""/>
          <p:cNvGrpSpPr/>
          <p:nvPr/>
        </p:nvGrpSpPr>
        <p:grpSpPr>
          <a:xfrm>
            <a:off x="5943600" y="5638680"/>
            <a:ext cx="2973240" cy="1068840"/>
            <a:chOff x="5943600" y="5638680"/>
            <a:chExt cx="2973240" cy="1068840"/>
          </a:xfrm>
        </p:grpSpPr>
        <p:sp>
          <p:nvSpPr>
            <p:cNvPr id="1154" name=""/>
            <p:cNvSpPr/>
            <p:nvPr/>
          </p:nvSpPr>
          <p:spPr>
            <a:xfrm>
              <a:off x="6095880" y="6035400"/>
              <a:ext cx="2590920" cy="0"/>
            </a:xfrm>
            <a:prstGeom prst="line">
              <a:avLst/>
            </a:prstGeom>
            <a:ln w="93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943600" y="5638680"/>
              <a:ext cx="297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Times New Roman"/>
                </a:rPr>
                <a:t>   </a:t>
              </a:r>
              <a:r>
                <a:rPr b="0" i="1" lang="en-US" sz="2000" spc="-1" strike="noStrike">
                  <a:solidFill>
                    <a:srgbClr val="a50021"/>
                  </a:solidFill>
                  <a:latin typeface="Times New Roman"/>
                </a:rPr>
                <a:t>display </a:t>
              </a:r>
              <a:r>
                <a:rPr b="0" lang="en-US" sz="2000" spc="-1" strike="noStrike">
                  <a:solidFill>
                    <a:srgbClr val="a50021"/>
                  </a:solidFill>
                  <a:latin typeface="Times New Roman"/>
                </a:rPr>
                <a:t>do </a:t>
              </a:r>
              <a:r>
                <a:rPr b="0" i="1" lang="en-US" sz="2000" spc="-1" strike="noStrike">
                  <a:solidFill>
                    <a:srgbClr val="a50021"/>
                  </a:solidFill>
                  <a:latin typeface="Times New Roman"/>
                </a:rPr>
                <a:t>status </a:t>
              </a:r>
              <a:r>
                <a:rPr b="0" lang="en-US" sz="2000" spc="-1" strike="noStrike">
                  <a:solidFill>
                    <a:srgbClr val="a50021"/>
                  </a:solidFill>
                  <a:latin typeface="Times New Roman"/>
                </a:rPr>
                <a:t>de açã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6037920" y="6003720"/>
              <a:ext cx="2424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a50021"/>
                  </a:solidFill>
                  <a:latin typeface="Times New Roman"/>
                </a:rPr>
                <a:t>invoca interação c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Times New Roman"/>
                </a:rPr>
                <a:t>o usuár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7" name=""/>
          <p:cNvGrpSpPr/>
          <p:nvPr/>
        </p:nvGrpSpPr>
        <p:grpSpPr>
          <a:xfrm>
            <a:off x="3801240" y="4708440"/>
            <a:ext cx="4123440" cy="643320"/>
            <a:chOff x="3801240" y="4708440"/>
            <a:chExt cx="4123440" cy="643320"/>
          </a:xfrm>
        </p:grpSpPr>
        <p:sp>
          <p:nvSpPr>
            <p:cNvPr id="1158" name=""/>
            <p:cNvSpPr/>
            <p:nvPr/>
          </p:nvSpPr>
          <p:spPr>
            <a:xfrm flipV="1">
              <a:off x="3825720" y="5029200"/>
              <a:ext cx="4098960" cy="9360"/>
            </a:xfrm>
            <a:prstGeom prst="line">
              <a:avLst/>
            </a:prstGeom>
            <a:ln w="93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882960" y="4708440"/>
              <a:ext cx="176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a50021"/>
                  </a:solidFill>
                  <a:latin typeface="Times New Roman"/>
                </a:rPr>
                <a:t>evento sens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801240" y="4952880"/>
              <a:ext cx="410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a50021"/>
                  </a:solidFill>
                  <a:latin typeface="Times New Roman"/>
                </a:rPr>
                <a:t>invoca </a:t>
              </a:r>
              <a:r>
                <a:rPr b="0" i="1" lang="en-US" sz="2000" spc="-1" strike="noStrike">
                  <a:solidFill>
                    <a:srgbClr val="a50021"/>
                  </a:solidFill>
                  <a:latin typeface="Times New Roman"/>
                </a:rPr>
                <a:t>monitor &amp; sistema de contro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1" name=""/>
          <p:cNvSpPr/>
          <p:nvPr/>
        </p:nvSpPr>
        <p:spPr>
          <a:xfrm>
            <a:off x="912240" y="5851440"/>
            <a:ext cx="166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   </a:t>
            </a:r>
            <a:r>
              <a:rPr b="0" i="1" lang="en-US" sz="2000" spc="-1" strike="noStrike">
                <a:solidFill>
                  <a:srgbClr val="a50021"/>
                </a:solidFill>
                <a:latin typeface="Times New Roman"/>
              </a:rPr>
              <a:t>flag 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pisc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2" name=""/>
          <p:cNvGrpSpPr/>
          <p:nvPr/>
        </p:nvGrpSpPr>
        <p:grpSpPr>
          <a:xfrm>
            <a:off x="609480" y="5943600"/>
            <a:ext cx="2895840" cy="856080"/>
            <a:chOff x="609480" y="5943600"/>
            <a:chExt cx="2895840" cy="856080"/>
          </a:xfrm>
        </p:grpSpPr>
        <p:sp>
          <p:nvSpPr>
            <p:cNvPr id="1163" name=""/>
            <p:cNvSpPr/>
            <p:nvPr/>
          </p:nvSpPr>
          <p:spPr>
            <a:xfrm>
              <a:off x="609480" y="5943600"/>
              <a:ext cx="2895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930240" y="6183360"/>
              <a:ext cx="2209680" cy="0"/>
            </a:xfrm>
            <a:prstGeom prst="line">
              <a:avLst/>
            </a:prstGeom>
            <a:ln w="93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833760" y="6095880"/>
              <a:ext cx="2285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a50021"/>
                  </a:solidFill>
                  <a:latin typeface="Times New Roman"/>
                </a:rPr>
                <a:t>invoca emissão 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a50021"/>
                  </a:solidFill>
                  <a:latin typeface="Times New Roman"/>
                </a:rPr>
                <a:t> </a:t>
              </a:r>
              <a:r>
                <a:rPr b="0" i="1" lang="en-US" sz="2000" spc="-1" strike="noStrike">
                  <a:solidFill>
                    <a:srgbClr val="a50021"/>
                  </a:solidFill>
                  <a:latin typeface="Times New Roman"/>
                </a:rPr>
                <a:t>mensagens &amp; stat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6" name=""/>
          <p:cNvSpPr/>
          <p:nvPr/>
        </p:nvSpPr>
        <p:spPr>
          <a:xfrm flipV="1">
            <a:off x="7467480" y="30477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7" name=""/>
          <p:cNvGrpSpPr/>
          <p:nvPr/>
        </p:nvGrpSpPr>
        <p:grpSpPr>
          <a:xfrm>
            <a:off x="6168960" y="2057400"/>
            <a:ext cx="2499840" cy="1008720"/>
            <a:chOff x="6168960" y="2057400"/>
            <a:chExt cx="2499840" cy="1008720"/>
          </a:xfrm>
        </p:grpSpPr>
        <p:sp>
          <p:nvSpPr>
            <p:cNvPr id="1168" name=""/>
            <p:cNvSpPr/>
            <p:nvPr/>
          </p:nvSpPr>
          <p:spPr>
            <a:xfrm>
              <a:off x="6340320" y="2389320"/>
              <a:ext cx="2210040" cy="0"/>
            </a:xfrm>
            <a:prstGeom prst="line">
              <a:avLst/>
            </a:prstGeom>
            <a:ln w="93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168960" y="2057400"/>
              <a:ext cx="184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Times New Roman"/>
                </a:rPr>
                <a:t>              </a:t>
              </a:r>
              <a:r>
                <a:rPr b="0" i="1" lang="en-US" sz="2000" spc="-1" strike="noStrike">
                  <a:solidFill>
                    <a:srgbClr val="a50021"/>
                  </a:solidFill>
                  <a:latin typeface="Times New Roman"/>
                </a:rPr>
                <a:t>timeo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244560" y="2362320"/>
              <a:ext cx="2424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a50021"/>
                  </a:solidFill>
                  <a:latin typeface="Times New Roman"/>
                </a:rPr>
                <a:t>invoca interação c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Times New Roman"/>
                </a:rPr>
                <a:t>o usuár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Marcelo Turine - UN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8266-06A2-40A5-BCA6-D27104CDA9FE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CSPEC / TAP </a:t>
            </a:r>
            <a:br>
              <a:rPr sz="4400"/>
            </a:b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TAP para o nível 1 do DFD de SafeHome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1172" name=""/>
          <p:cNvGraphicFramePr/>
          <p:nvPr/>
        </p:nvGraphicFramePr>
        <p:xfrm>
          <a:off x="853920" y="2286000"/>
          <a:ext cx="7713720" cy="3846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3920" y="2286000"/>
                    <a:ext cx="7713720" cy="38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4" name=""/>
          <p:cNvSpPr/>
          <p:nvPr/>
        </p:nvSpPr>
        <p:spPr>
          <a:xfrm>
            <a:off x="838080" y="41148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914400" y="228600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914400" y="464832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Marcelo Turine - UN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BCCD-76EB-41D6-8A3B-3AF8ABDBA533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42720"/>
            <a:ext cx="8077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omponentes do Modelo de Dados 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1905120"/>
            <a:ext cx="1600200" cy="838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96920" y="2022480"/>
            <a:ext cx="35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52680" y="1793880"/>
            <a:ext cx="5410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tidade exter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lgo que produz 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ome informaçã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is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relatório ou ediçã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corrênci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event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mada telefônica, alarm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p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vended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idade organizacion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depto de  conta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ug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rmazé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strutu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rquiv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3352320" y="1828800"/>
            <a:ext cx="1080" cy="3582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Marcelo Turine - UN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F396-B4C8-4A6D-BCF2-C19D1E2CE9B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83059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omponentes do Modelo de Dados</a:t>
            </a:r>
            <a:br>
              <a:rPr sz="4400"/>
            </a:b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                                              (cont.)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04920" y="179388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ribu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804760" y="1717560"/>
            <a:ext cx="6048720" cy="2702160"/>
            <a:chOff x="2804760" y="1717560"/>
            <a:chExt cx="6048720" cy="2702160"/>
          </a:xfrm>
        </p:grpSpPr>
        <p:sp>
          <p:nvSpPr>
            <p:cNvPr id="151" name=""/>
            <p:cNvSpPr/>
            <p:nvPr/>
          </p:nvSpPr>
          <p:spPr>
            <a:xfrm>
              <a:off x="2804760" y="1793880"/>
              <a:ext cx="42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05320" y="1828800"/>
              <a:ext cx="0" cy="259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49680" y="1717560"/>
              <a:ext cx="520380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odem ser usados par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1) nomear uma instância de um objeto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2) descrever uma instância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3) fazer referência a outra instância 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utra tabela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m ou mais atributos precisam se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efinidos como um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identificador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686160" y="4800600"/>
            <a:ext cx="7300440" cy="1330200"/>
            <a:chOff x="686160" y="4800600"/>
            <a:chExt cx="7300440" cy="1330200"/>
          </a:xfrm>
        </p:grpSpPr>
        <p:sp>
          <p:nvSpPr>
            <p:cNvPr id="155" name=""/>
            <p:cNvSpPr/>
            <p:nvPr/>
          </p:nvSpPr>
          <p:spPr>
            <a:xfrm>
              <a:off x="686160" y="4911840"/>
              <a:ext cx="240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lacionament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957400" y="49528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505320" y="491184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62200" y="4800600"/>
              <a:ext cx="4424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ão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nexõe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relevantes entre o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bjetos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idirecionais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540360" y="2209680"/>
            <a:ext cx="2789640" cy="1496160"/>
            <a:chOff x="540360" y="2209680"/>
            <a:chExt cx="2789640" cy="1496160"/>
          </a:xfrm>
        </p:grpSpPr>
        <p:sp>
          <p:nvSpPr>
            <p:cNvPr id="160" name=""/>
            <p:cNvSpPr/>
            <p:nvPr/>
          </p:nvSpPr>
          <p:spPr>
            <a:xfrm>
              <a:off x="540360" y="2514600"/>
              <a:ext cx="2789640" cy="1191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efinem a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priedades d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m objeto de dado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828800" y="22096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Marcelo Turine - UN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77AC-5838-4A7C-98E5-09E19EB8074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42720"/>
            <a:ext cx="8077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omponentes do Modelo de Dados</a:t>
            </a:r>
            <a:br>
              <a:rPr sz="4400"/>
            </a:b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Exemplo                              (cont.)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914400" y="1641600"/>
            <a:ext cx="7583040" cy="3816720"/>
            <a:chOff x="914400" y="1641600"/>
            <a:chExt cx="7583040" cy="3816720"/>
          </a:xfrm>
        </p:grpSpPr>
        <p:pic>
          <p:nvPicPr>
            <p:cNvPr id="164" name="" descr=""/>
            <p:cNvPicPr/>
            <p:nvPr/>
          </p:nvPicPr>
          <p:blipFill>
            <a:blip r:embed="rId2"/>
            <a:stretch/>
          </p:blipFill>
          <p:spPr>
            <a:xfrm>
              <a:off x="914400" y="4572000"/>
              <a:ext cx="1673280" cy="70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3"/>
            <a:stretch/>
          </p:blipFill>
          <p:spPr>
            <a:xfrm>
              <a:off x="6632640" y="4648320"/>
              <a:ext cx="1673280" cy="70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6" name=""/>
            <p:cNvGrpSpPr/>
            <p:nvPr/>
          </p:nvGrpSpPr>
          <p:grpSpPr>
            <a:xfrm>
              <a:off x="1447560" y="2286000"/>
              <a:ext cx="609840" cy="1066680"/>
              <a:chOff x="1447560" y="2286000"/>
              <a:chExt cx="609840" cy="1066680"/>
            </a:xfrm>
          </p:grpSpPr>
          <p:sp>
            <p:nvSpPr>
              <p:cNvPr id="167" name=""/>
              <p:cNvSpPr/>
              <p:nvPr/>
            </p:nvSpPr>
            <p:spPr>
              <a:xfrm>
                <a:off x="1600200" y="2286000"/>
                <a:ext cx="304920" cy="228600"/>
              </a:xfrm>
              <a:prstGeom prst="ellipse">
                <a:avLst/>
              </a:prstGeom>
              <a:solidFill>
                <a:srgbClr val="ffffcc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600200" y="2590560"/>
                <a:ext cx="304920" cy="381240"/>
              </a:xfrm>
              <a:prstGeom prst="rect">
                <a:avLst/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1447560" y="2666880"/>
                <a:ext cx="152280" cy="763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905120" y="2666880"/>
                <a:ext cx="152280" cy="15228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447920" y="2743200"/>
                <a:ext cx="152280" cy="759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>
                <a:off x="1981080" y="2819160"/>
                <a:ext cx="76320" cy="763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1600200" y="2971800"/>
                <a:ext cx="76320" cy="2286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>
                <a:off x="1752480" y="2971800"/>
                <a:ext cx="76320" cy="2286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600200" y="3200400"/>
                <a:ext cx="76320" cy="15228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752480" y="3200400"/>
                <a:ext cx="76320" cy="759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>
                <a:off x="1600200" y="3352680"/>
                <a:ext cx="7632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1752480" y="3276360"/>
                <a:ext cx="7632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752480" y="2514600"/>
                <a:ext cx="0" cy="759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7009920" y="2286000"/>
              <a:ext cx="609840" cy="1066680"/>
              <a:chOff x="7009920" y="2286000"/>
              <a:chExt cx="609840" cy="1066680"/>
            </a:xfrm>
          </p:grpSpPr>
          <p:sp>
            <p:nvSpPr>
              <p:cNvPr id="181" name=""/>
              <p:cNvSpPr/>
              <p:nvPr/>
            </p:nvSpPr>
            <p:spPr>
              <a:xfrm>
                <a:off x="7162560" y="2286000"/>
                <a:ext cx="304920" cy="228600"/>
              </a:xfrm>
              <a:prstGeom prst="ellipse">
                <a:avLst/>
              </a:prstGeom>
              <a:solidFill>
                <a:srgbClr val="ffffcc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162560" y="2590560"/>
                <a:ext cx="304920" cy="381240"/>
              </a:xfrm>
              <a:prstGeom prst="rect">
                <a:avLst/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>
                <a:off x="7009920" y="2666880"/>
                <a:ext cx="152280" cy="763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467480" y="2666880"/>
                <a:ext cx="152280" cy="15228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010280" y="2743200"/>
                <a:ext cx="152280" cy="759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>
                <a:off x="7543440" y="2819160"/>
                <a:ext cx="76320" cy="763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H="1">
                <a:off x="7162560" y="2971800"/>
                <a:ext cx="76320" cy="2286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7314840" y="2971800"/>
                <a:ext cx="76320" cy="2286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162560" y="3200400"/>
                <a:ext cx="76320" cy="15228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314840" y="3200400"/>
                <a:ext cx="76320" cy="759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>
                <a:off x="7162560" y="3352680"/>
                <a:ext cx="7632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>
                <a:off x="7314840" y="3276360"/>
                <a:ext cx="7632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314840" y="2514600"/>
                <a:ext cx="0" cy="759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1238760" y="1641600"/>
              <a:ext cx="119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bjet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83080" y="1676520"/>
              <a:ext cx="143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tribut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96240" y="1676520"/>
              <a:ext cx="240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lacionament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438280" y="281952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611520" y="2247840"/>
              <a:ext cx="21056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o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ndereç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da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icença de motoris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úmer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666880" y="48769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658680" y="4267080"/>
              <a:ext cx="1229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ar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odel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úmero 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315200" y="3581280"/>
              <a:ext cx="0" cy="83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Marcelo Turine - UNI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2752-5F69-4F2A-9734-54B616FB5AE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26T20:51:02Z</dcterms:created>
  <dc:creator>Renata Pontin de Mattos Fortes</dc:creator>
  <dc:description/>
  <dc:language>en-US</dc:language>
  <cp:lastModifiedBy>Marcelo Turine</cp:lastModifiedBy>
  <cp:lastPrinted>1998-09-07T15:21:03Z</cp:lastPrinted>
  <dcterms:modified xsi:type="dcterms:W3CDTF">2001-04-26T15:37:36Z</dcterms:modified>
  <cp:revision>384</cp:revision>
  <dc:subject/>
  <dc:title>Análise Estruturada de Sistemas para Aplicações Convencionais Engenharia de Software - Pressman</dc:title>
</cp:coreProperties>
</file>