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B73-78AB-4726-B50B-29D09C6C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380-971D-455B-876B-984B74AD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09F-669F-4AFF-A4AB-9A6D3CFD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F88-B2DD-46B4-A897-FD02ADEE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ED3B-6237-4521-8090-420C3DC1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B6D5-69EA-449D-8BAE-E61F87D9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AFA4-4B78-4CDE-97D3-53EE765E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E955-1A43-41F4-950D-9B3A475F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F4A3-2993-4F95-94C5-F0C97CC9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8005-61CF-492F-B130-64E63FC0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9B94-F8FF-46FF-A425-8CC3D03D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DD0-FDBE-4F76-B93C-0B5ACA4D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A806-C849-4C30-AB27-B67B11B0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43BC-AEA1-4122-87F7-9D10AC97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E885-A769-4C69-8FA6-1D376C4A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3E27-4C46-4CE1-B917-25494736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F5A2-F4CC-43AA-A0DD-992E868E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90A-296E-4268-A6F3-2920F258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558-C32B-4D0F-81F9-42F0B40E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729-FDE2-46E9-89F0-A1E5246F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7BA-92F7-4F51-AAC6-19B7D3CF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858-D69D-45ED-93C7-59C39BFF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3BD-806B-4F12-8578-ED17A44F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21D-3F0C-4544-B945-38E5538A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F712-6F77-40F2-A4CA-6BE2699AF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B73E-CE2E-4213-BCB9-3CC32BC6B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505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dade 11: 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Princípios e Conceitos de Análise de Requisit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895120" y="533376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. Dr.  Marcelo Augusto Santos T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CT - UF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st@dct.ufms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0492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ódulo I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étodos Convencionais de Engenharia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6ED1-272B-4D4A-A0F0-97C24C11D3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finição: Requisitos e Especif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ário de Engenharia de Software (IEEE) e do Auré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sito (IE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condição ou capacidade necessitada por um usuário para resolver um problema ou alcançar um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condição ou capacidade que deve ser satisfeita por um sistema para satisfazer um contrato ou um padr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DE7-D4D8-49D0-A022-C617FAADAA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sito (Aurél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ção necessária para a obtenção de certo objetivo, ou para o preenchimento de certo f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ecifica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ção rigorosa e minuciosa das características que um material, uma obra, ou um serviço deverá apres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 de representação dos requisitos de uma forma que leva à implementação bem-suc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127-681F-458B-BBD9-6F606224FC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8720" y="198108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sistema deve rodar em microcomputadores da linha IBM PC que possuam microprocessador 486 DX ou superio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nterface do sistema deve ser gráfica, de acordo com um padrão de interface dirigida a menu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mente, o sistema deve possibilitar o seu uso através de linhas de comando, para usuários avanç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3DC-CDB2-41B4-A0D1-B58CA9359F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ipos de Requisito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(divisão utilizada na literatura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5724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Funcion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724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ão Funcionais (de Qualida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66cc"/>
                </a:solidFill>
                <a:latin typeface="Arial"/>
              </a:rPr>
              <a:t>I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he International Organization for Standardizat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66cc"/>
                </a:solidFill>
                <a:latin typeface="Arial"/>
              </a:rPr>
              <a:t>IE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The International Electrotechnical Comm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formam o sistema especializado para padronização mais conhec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0A5-A15D-46D8-9905-CA1C6DE4E2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quisitos de Softw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Norma ISO/IEC 9126 define seis características de qualidade de software que devem ser avali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unciona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finalidade do produt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Usa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sforço para utilizar, aprender o produ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Confia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freqüência de falhas, recuperabilid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Efici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sempen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Manuteni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sforço necessário para modific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Porta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capacidade de transferir o produto para outros ambi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0FA-242E-4CB0-9540-FA664EB971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981080" y="0"/>
            <a:ext cx="7162920" cy="6767640"/>
            <a:chOff x="1981080" y="0"/>
            <a:chExt cx="7162920" cy="6767640"/>
          </a:xfrm>
        </p:grpSpPr>
        <p:sp>
          <p:nvSpPr>
            <p:cNvPr id="208" name=""/>
            <p:cNvSpPr/>
            <p:nvPr/>
          </p:nvSpPr>
          <p:spPr>
            <a:xfrm>
              <a:off x="1981080" y="0"/>
              <a:ext cx="7162920" cy="67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255400" y="4479840"/>
              <a:ext cx="20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81480" y="46623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8400" y="539424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718080" y="53038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70560" y="274320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352320" y="274320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75280" y="0"/>
              <a:ext cx="2286000" cy="7300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19720" y="152280"/>
              <a:ext cx="2011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elementos alocados ao soft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21200" y="3016080"/>
              <a:ext cx="265284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Arial"/>
                </a:rPr>
                <a:t>determinar domínio das informações e das funções, interfaces, restrições de projeto e critérios de valid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30440" y="3108240"/>
              <a:ext cx="191916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Arial"/>
                </a:rPr>
                <a:t>construir protótipo para estabelecer os requisi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92400" y="2376360"/>
              <a:ext cx="2468880" cy="681120"/>
            </a:xfrm>
            <a:prstGeom prst="diamond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2558880"/>
              <a:ext cx="1920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os requisitos são conhecido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4560" y="1554120"/>
              <a:ext cx="2376720" cy="639720"/>
            </a:xfrm>
            <a:prstGeom prst="diamond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1760" y="1633680"/>
              <a:ext cx="14623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revisão administra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6827760" y="639720"/>
              <a:ext cx="2087640" cy="1112760"/>
              <a:chOff x="6827760" y="639720"/>
              <a:chExt cx="2087640" cy="1112760"/>
            </a:xfrm>
          </p:grpSpPr>
          <p:sp>
            <p:nvSpPr>
              <p:cNvPr id="224" name=""/>
              <p:cNvSpPr/>
              <p:nvPr/>
            </p:nvSpPr>
            <p:spPr>
              <a:xfrm>
                <a:off x="7017480" y="639720"/>
                <a:ext cx="1897920" cy="910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22440" y="740880"/>
                <a:ext cx="1897920" cy="910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827760" y="842040"/>
                <a:ext cx="1897920" cy="910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80"/>
                    </a:solidFill>
                    <a:latin typeface="Times New Roman"/>
                  </a:rPr>
                  <a:t>Plano de Desenvolvimento do Softwa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992400" y="912960"/>
              <a:ext cx="2637000" cy="53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estabelecimento do alc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recursos, custo cronogr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3240" y="5029200"/>
              <a:ext cx="164484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Arial"/>
                </a:rPr>
                <a:t>revisar </a:t>
              </a: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1200" spc="-1" strike="noStrike">
                  <a:solidFill>
                    <a:srgbClr val="800000"/>
                  </a:solidFill>
                  <a:latin typeface="Arial"/>
                </a:rPr>
                <a:t> justificar recursos, custos</a:t>
              </a: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 e</a:t>
              </a:r>
              <a:r>
                <a:rPr b="1" lang="en-US" sz="1200" spc="-1" strike="noStrike">
                  <a:solidFill>
                    <a:srgbClr val="800000"/>
                  </a:solidFill>
                  <a:latin typeface="Arial"/>
                </a:rPr>
                <a:t> cronogra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645240" y="4022640"/>
              <a:ext cx="2101680" cy="1082880"/>
              <a:chOff x="6645240" y="4022640"/>
              <a:chExt cx="2101680" cy="1082880"/>
            </a:xfrm>
          </p:grpSpPr>
          <p:sp>
            <p:nvSpPr>
              <p:cNvPr id="230" name=""/>
              <p:cNvSpPr/>
              <p:nvPr/>
            </p:nvSpPr>
            <p:spPr>
              <a:xfrm>
                <a:off x="6827760" y="4022640"/>
                <a:ext cx="1919160" cy="8859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36320" y="4120920"/>
                <a:ext cx="1919160" cy="8859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645240" y="4219560"/>
                <a:ext cx="1919160" cy="8859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Times New Roman"/>
                  </a:rPr>
                  <a:t>Especificação dos Requisitos do Softwa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084560" y="6035760"/>
              <a:ext cx="2102040" cy="7300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59240" y="6127920"/>
              <a:ext cx="191916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ício da fase de desenvolv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44840" y="1644480"/>
              <a:ext cx="100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revis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73640" y="2101680"/>
              <a:ext cx="109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aceitável</a:t>
              </a:r>
              <a:r>
                <a:rPr b="0" i="1" lang="en-US" sz="16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78000" y="4205160"/>
              <a:ext cx="1036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revisã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44840" y="2468520"/>
              <a:ext cx="73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não</a:t>
              </a:r>
              <a:r>
                <a:rPr b="0" i="1" lang="en-US" sz="16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61280" y="2468520"/>
              <a:ext cx="73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sim</a:t>
              </a:r>
              <a:r>
                <a:rPr b="0" i="1" lang="en-US" sz="16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92400" y="4205160"/>
              <a:ext cx="2378160" cy="549360"/>
            </a:xfrm>
            <a:prstGeom prst="diamond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49600" y="4297320"/>
              <a:ext cx="15544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revisã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técn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92400" y="4937040"/>
              <a:ext cx="2378160" cy="824040"/>
            </a:xfrm>
            <a:prstGeom prst="diamond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75280" y="5119560"/>
              <a:ext cx="20127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revisão do plano de projeto do 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3640" y="730080"/>
              <a:ext cx="0" cy="182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73640" y="1371600"/>
              <a:ext cx="0" cy="1825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257800" y="2193840"/>
              <a:ext cx="1584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92800" y="274320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27432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37479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52680" y="4022640"/>
              <a:ext cx="37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02440" y="38401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81480" y="4022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81480" y="57610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3444480" y="1919160"/>
              <a:ext cx="7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444840" y="1096920"/>
              <a:ext cx="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4840" y="109692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255760" y="2286000"/>
              <a:ext cx="0" cy="21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55760" y="22860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81480" y="4662360"/>
              <a:ext cx="109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aceitável</a:t>
              </a:r>
              <a:r>
                <a:rPr b="0" i="1" lang="en-US" sz="16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67480" y="5394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7640" y="5851440"/>
              <a:ext cx="447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87640" y="56689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70560" y="5119560"/>
              <a:ext cx="109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aceitáv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45240" y="1096920"/>
              <a:ext cx="182520" cy="182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50000" y="3840120"/>
              <a:ext cx="274680" cy="2746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 txBox="1"/>
          <p:nvPr/>
        </p:nvSpPr>
        <p:spPr>
          <a:xfrm rot="16200000">
            <a:off x="-1247400" y="2923920"/>
            <a:ext cx="5505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ase de Análise de Requisitos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0A9-0DBF-40DA-8A12-9301BE18F5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651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lema do Engenheiro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65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claração de um cliente anôn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i que você acredita que entendeu o que acha que eu disse, mas não estou certo de que percebe que aquilo que ouviu não é o que eu pretendia dizer ... 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08C-10E9-43E4-A556-70266D6477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TIVIDADES de ANÁLISE: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Reconhecimento do problem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aliação do problema e síntese da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Modelage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Especificação dos requisitos do 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R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evi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5867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299-8A2C-4D08-A4E9-012B337205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648320" y="5029200"/>
            <a:ext cx="685800" cy="83808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5105520"/>
            <a:ext cx="685800" cy="83808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5105520"/>
            <a:ext cx="761760" cy="609480"/>
          </a:xfrm>
          <a:prstGeom prst="rect">
            <a:avLst/>
          </a:prstGeom>
          <a:solidFill>
            <a:srgbClr val="0033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5181480"/>
            <a:ext cx="762120" cy="609840"/>
          </a:xfrm>
          <a:prstGeom prst="rect">
            <a:avLst/>
          </a:prstGeom>
          <a:solidFill>
            <a:srgbClr val="0033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5257800"/>
            <a:ext cx="762120" cy="609480"/>
          </a:xfrm>
          <a:prstGeom prst="rect">
            <a:avLst/>
          </a:prstGeom>
          <a:solidFill>
            <a:srgbClr val="0033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02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Atividade 1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pt-BR" sz="4400" spc="-1" strike="noStrike">
                <a:solidFill>
                  <a:srgbClr val="0099cc"/>
                </a:solidFill>
                <a:latin typeface="Times New Roman"/>
              </a:rPr>
              <a:t> Reconhecimento do Probl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meta é o reconhecimento dos  elementos básicos do problema, conforme percebidos pelo cli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419360" y="2590920"/>
            <a:ext cx="609480" cy="1066680"/>
            <a:chOff x="4419360" y="2590920"/>
            <a:chExt cx="609480" cy="1066680"/>
          </a:xfrm>
        </p:grpSpPr>
        <p:sp>
          <p:nvSpPr>
            <p:cNvPr id="280" name=""/>
            <p:cNvSpPr/>
            <p:nvPr/>
          </p:nvSpPr>
          <p:spPr>
            <a:xfrm>
              <a:off x="4572000" y="2590920"/>
              <a:ext cx="304200" cy="22824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0" y="2895480"/>
              <a:ext cx="304200" cy="38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19360" y="2971800"/>
              <a:ext cx="15228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76560" y="2971800"/>
              <a:ext cx="15228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19720" y="304776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952520" y="312408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572000" y="3276360"/>
              <a:ext cx="756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723920" y="3276360"/>
              <a:ext cx="7596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2000" y="3504960"/>
              <a:ext cx="75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24280" y="350496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572000" y="3657600"/>
              <a:ext cx="75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723920" y="358128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24280" y="2819160"/>
              <a:ext cx="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676160" y="3657600"/>
            <a:ext cx="609480" cy="1066680"/>
            <a:chOff x="1676160" y="3657600"/>
            <a:chExt cx="609480" cy="1066680"/>
          </a:xfrm>
        </p:grpSpPr>
        <p:sp>
          <p:nvSpPr>
            <p:cNvPr id="294" name=""/>
            <p:cNvSpPr/>
            <p:nvPr/>
          </p:nvSpPr>
          <p:spPr>
            <a:xfrm>
              <a:off x="1828800" y="3657600"/>
              <a:ext cx="304200" cy="22824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28800" y="3962160"/>
              <a:ext cx="304200" cy="38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676160" y="4038480"/>
              <a:ext cx="15228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33360" y="4038480"/>
              <a:ext cx="15228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6520" y="411444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209320" y="419076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828800" y="4343040"/>
              <a:ext cx="756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980720" y="4343040"/>
              <a:ext cx="7596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28800" y="4571640"/>
              <a:ext cx="75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1080" y="457164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828800" y="4724280"/>
              <a:ext cx="75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980720" y="464796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81080" y="3885840"/>
              <a:ext cx="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90960" y="3733920"/>
            <a:ext cx="609480" cy="1066680"/>
            <a:chOff x="5790960" y="3733920"/>
            <a:chExt cx="609480" cy="1066680"/>
          </a:xfrm>
        </p:grpSpPr>
        <p:sp>
          <p:nvSpPr>
            <p:cNvPr id="308" name=""/>
            <p:cNvSpPr/>
            <p:nvPr/>
          </p:nvSpPr>
          <p:spPr>
            <a:xfrm>
              <a:off x="5943600" y="3733920"/>
              <a:ext cx="304200" cy="22824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43600" y="4038480"/>
              <a:ext cx="304200" cy="38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790960" y="4114800"/>
              <a:ext cx="15228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48160" y="4114800"/>
              <a:ext cx="15228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1320" y="419076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324120" y="426708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943600" y="4419360"/>
              <a:ext cx="756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095520" y="4419360"/>
              <a:ext cx="7596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43600" y="4647960"/>
              <a:ext cx="75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5880" y="464796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943600" y="4800600"/>
              <a:ext cx="75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095520" y="472428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5880" y="3962160"/>
              <a:ext cx="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400440" y="3657600"/>
            <a:ext cx="609480" cy="1066680"/>
            <a:chOff x="6400440" y="3657600"/>
            <a:chExt cx="609480" cy="1066680"/>
          </a:xfrm>
        </p:grpSpPr>
        <p:sp>
          <p:nvSpPr>
            <p:cNvPr id="322" name=""/>
            <p:cNvSpPr/>
            <p:nvPr/>
          </p:nvSpPr>
          <p:spPr>
            <a:xfrm>
              <a:off x="6553080" y="3657600"/>
              <a:ext cx="304200" cy="22824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3080" y="3962160"/>
              <a:ext cx="304200" cy="38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400440" y="4038480"/>
              <a:ext cx="15228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57640" y="4038480"/>
              <a:ext cx="15228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00800" y="411444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933600" y="419076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553080" y="4343040"/>
              <a:ext cx="756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705000" y="4343040"/>
              <a:ext cx="7596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3080" y="4571640"/>
              <a:ext cx="75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360" y="457164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553080" y="4724280"/>
              <a:ext cx="75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705000" y="464796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360" y="3885840"/>
              <a:ext cx="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933960" y="3581280"/>
            <a:ext cx="609480" cy="1067040"/>
            <a:chOff x="6933960" y="3581280"/>
            <a:chExt cx="609480" cy="1067040"/>
          </a:xfrm>
        </p:grpSpPr>
        <p:sp>
          <p:nvSpPr>
            <p:cNvPr id="336" name=""/>
            <p:cNvSpPr/>
            <p:nvPr/>
          </p:nvSpPr>
          <p:spPr>
            <a:xfrm>
              <a:off x="7086600" y="3581280"/>
              <a:ext cx="304200" cy="22860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886200"/>
              <a:ext cx="304200" cy="380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933960" y="396252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91160" y="3962520"/>
              <a:ext cx="15228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34320" y="4038480"/>
              <a:ext cx="15228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467120" y="4114800"/>
              <a:ext cx="7596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086600" y="4267080"/>
              <a:ext cx="756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238520" y="4267080"/>
              <a:ext cx="7596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86600" y="4495680"/>
              <a:ext cx="7560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38880" y="4495680"/>
              <a:ext cx="7596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086600" y="4648320"/>
              <a:ext cx="75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238520" y="457200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38880" y="3809880"/>
              <a:ext cx="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209680" y="3657600"/>
            <a:ext cx="609840" cy="1066680"/>
            <a:chOff x="2209680" y="3657600"/>
            <a:chExt cx="609840" cy="1066680"/>
          </a:xfrm>
        </p:grpSpPr>
        <p:sp>
          <p:nvSpPr>
            <p:cNvPr id="350" name=""/>
            <p:cNvSpPr/>
            <p:nvPr/>
          </p:nvSpPr>
          <p:spPr>
            <a:xfrm>
              <a:off x="2362320" y="3657600"/>
              <a:ext cx="304560" cy="22824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62320" y="3962160"/>
              <a:ext cx="304560" cy="38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209680" y="4038480"/>
              <a:ext cx="15264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66880" y="4038480"/>
              <a:ext cx="15264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09680" y="4114440"/>
              <a:ext cx="15264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743200" y="4190760"/>
              <a:ext cx="7632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361960" y="4343040"/>
              <a:ext cx="7596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514600" y="4343040"/>
              <a:ext cx="7632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2320" y="4571640"/>
              <a:ext cx="7596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14600" y="4571640"/>
              <a:ext cx="7632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361960" y="472428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514600" y="4647960"/>
              <a:ext cx="76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4600" y="3885840"/>
              <a:ext cx="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133720" y="5334120"/>
            <a:ext cx="761760" cy="60948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43400" y="5181480"/>
            <a:ext cx="685800" cy="838440"/>
          </a:xfrm>
          <a:prstGeom prst="rect">
            <a:avLst/>
          </a:prstGeom>
          <a:solidFill>
            <a:srgbClr val="99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29400" y="5029200"/>
            <a:ext cx="990720" cy="838080"/>
          </a:xfrm>
          <a:prstGeom prst="cube">
            <a:avLst>
              <a:gd name="adj" fmla="val 25000"/>
            </a:avLst>
          </a:prstGeom>
          <a:solidFill>
            <a:srgbClr val="3333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962160" y="3657600"/>
            <a:ext cx="609480" cy="1066680"/>
            <a:chOff x="3962160" y="3657600"/>
            <a:chExt cx="609480" cy="1066680"/>
          </a:xfrm>
        </p:grpSpPr>
        <p:sp>
          <p:nvSpPr>
            <p:cNvPr id="367" name=""/>
            <p:cNvSpPr/>
            <p:nvPr/>
          </p:nvSpPr>
          <p:spPr>
            <a:xfrm>
              <a:off x="4114800" y="3657600"/>
              <a:ext cx="304200" cy="22824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4800" y="3962160"/>
              <a:ext cx="304200" cy="38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962160" y="4038480"/>
              <a:ext cx="15228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19360" y="4038480"/>
              <a:ext cx="15228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62520" y="411444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495320" y="419076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114800" y="4343040"/>
              <a:ext cx="756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266720" y="4343040"/>
              <a:ext cx="7596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14800" y="4571640"/>
              <a:ext cx="75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67080" y="457164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114800" y="4724280"/>
              <a:ext cx="75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4266720" y="464796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7080" y="3885840"/>
              <a:ext cx="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971800" y="4114800"/>
            <a:ext cx="914400" cy="304920"/>
          </a:xfrm>
          <a:prstGeom prst="leftRightArrow">
            <a:avLst>
              <a:gd name="adj1" fmla="val 50000"/>
              <a:gd name="adj2" fmla="val 59698"/>
            </a:avLst>
          </a:prstGeom>
          <a:solidFill>
            <a:srgbClr val="e1e1b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00600" y="4038480"/>
            <a:ext cx="914400" cy="304920"/>
          </a:xfrm>
          <a:prstGeom prst="leftRightArrow">
            <a:avLst>
              <a:gd name="adj1" fmla="val 50000"/>
              <a:gd name="adj2" fmla="val 59698"/>
            </a:avLst>
          </a:prstGeom>
          <a:solidFill>
            <a:srgbClr val="e1e1b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4240" y="45720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4520" y="2743200"/>
            <a:ext cx="26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dministrador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34280" y="4419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al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09560" y="441972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senvolv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6800" y="5867280"/>
            <a:ext cx="18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o de proj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2480" y="5943600"/>
            <a:ext cx="19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Espec. requisi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d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399360" y="594360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tó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895480" y="3124080"/>
            <a:ext cx="1371600" cy="45720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05520" y="3276720"/>
            <a:ext cx="914400" cy="38088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4495680"/>
            <a:ext cx="152280" cy="53352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352320" y="4800600"/>
            <a:ext cx="685800" cy="30492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91120" y="4800600"/>
            <a:ext cx="152280" cy="30492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333760" y="4800600"/>
            <a:ext cx="990360" cy="53352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77120" y="4724280"/>
            <a:ext cx="152280" cy="45720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4495680"/>
            <a:ext cx="1371600" cy="83844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1" action="ppaction://hlinksldjump"/>
          </p:cNvPr>
          <p:cNvSpPr/>
          <p:nvPr/>
        </p:nvSpPr>
        <p:spPr>
          <a:xfrm>
            <a:off x="8001000" y="6095880"/>
            <a:ext cx="533520" cy="486000"/>
          </a:xfrm>
          <a:prstGeom prst="leftArrow">
            <a:avLst>
              <a:gd name="adj1" fmla="val 50000"/>
              <a:gd name="adj2" fmla="val 27444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C0C-0EAB-4547-A1C5-DB0AEFDBBF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3652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Atividade 2 </a:t>
            </a:r>
            <a:br>
              <a:rPr sz="4000"/>
            </a:b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0099cc"/>
                </a:solidFill>
                <a:latin typeface="Times New Roman"/>
              </a:rPr>
              <a:t>Avaliação  do Problema e Síntese da Solução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34880" y="1980720"/>
            <a:ext cx="7802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liar os problemas na situação a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Foco para o novo sistema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QUE e não COM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qual o fluxo e o conteúdo de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quais as funções do sistem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quais dados que o sistema produz e consome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qual o comportamento do sistema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qual as características de interfa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quais são as restrições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E17-143F-47F5-AC23-31FBE9239E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eve o processo de Análise de Requisitos do Software como um processo de refinamento do produto inicial desenvolvido durante a Engenharia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enharia de Requisitos é um processo de descoberta, refinamento, modelagem e espec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sitos são refinados nesta FA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s de dados, fluxo de controle e informação, comportamental, Visão OO (Diagrama de Classes, Casos de Uso) são construí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B3A-C89D-4DD6-BA96-EE9A071B87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Avaliação  do Problema e Síntese da Soluçã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ntetizar uma ou mais soluçõe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dentro do alcance delineado n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lano de Projeto do Softwa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ocesso de avaliação e síntese continua até que o analista e o cliente concordem que o software pode ser adequadamente espec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É a maior área de esforç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F6E-37DC-4ED5-8794-448EEAA11B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ividade 3</a:t>
            </a: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Modela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a atividade de avaliação e síntese devem ser criado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delos do siste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para se compreender melhor o fluxo de dados e de controle, o processamento funcional e a operação comportamental, além do conteúdo da inform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modelo serve como fundamento para o projeto de software e como base para a criação de sua espec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1" action="ppaction://hlinksldjump"/>
          </p:cNvPr>
          <p:cNvSpPr/>
          <p:nvPr/>
        </p:nvSpPr>
        <p:spPr>
          <a:xfrm>
            <a:off x="8001000" y="6095880"/>
            <a:ext cx="533520" cy="486000"/>
          </a:xfrm>
          <a:prstGeom prst="leftArrow">
            <a:avLst>
              <a:gd name="adj1" fmla="val 50000"/>
              <a:gd name="adj2" fmla="val 27444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0E9-9F24-4CF3-93A8-12DCB8D454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ividade 4 </a:t>
            </a:r>
            <a:br>
              <a:rPr sz="40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Especificação  de Requisitos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ecific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ção rigorosa e minuciosa das características que um material, uma obra ou um serviço deverão apres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ção do fluxo e estrutura da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amento detalhado de todas as funções do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elecimento das características 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ção das restrições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ção dos critérios de vali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rId1" action="ppaction://hlinksldjump"/>
          </p:cNvPr>
          <p:cNvSpPr/>
          <p:nvPr/>
        </p:nvSpPr>
        <p:spPr>
          <a:xfrm>
            <a:off x="8001000" y="6095880"/>
            <a:ext cx="533520" cy="486000"/>
          </a:xfrm>
          <a:prstGeom prst="leftArrow">
            <a:avLst>
              <a:gd name="adj1" fmla="val 50000"/>
              <a:gd name="adj2" fmla="val 27444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E4A-2377-4C85-9BB4-B184DF86FD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Atividade 5</a:t>
            </a:r>
            <a:br>
              <a:rPr sz="4000"/>
            </a:b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0099cc"/>
                </a:solidFill>
                <a:latin typeface="Times New Roman"/>
              </a:rPr>
              <a:t>Revisões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m ser efetuadas revisões técnicas e revisões no Plano de Projet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revisões são conduzidas pelo Cliente e pelo Desenvolv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base para a revisão são os documentos produzidos na Especificação dos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 Plano de Projeto do Software deve ser revisto          devido ao conhecimento adquirido durante                      a anál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8001000" y="6095880"/>
            <a:ext cx="533520" cy="486000"/>
          </a:xfrm>
          <a:prstGeom prst="leftArrow">
            <a:avLst>
              <a:gd name="adj1" fmla="val 50000"/>
              <a:gd name="adj2" fmla="val 27444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219-1FE6-4D0E-AD03-6BD7CFF4B3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EXAMINA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553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514600" y="3733920"/>
            <a:ext cx="5267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nalista de Sistemas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3" name=""/>
          <p:cNvSpPr/>
          <p:nvPr/>
        </p:nvSpPr>
        <p:spPr>
          <a:xfrm>
            <a:off x="4892400" y="5484960"/>
            <a:ext cx="425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enheiro de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tista de sistemas-ch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ador/Anal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7A4-052E-4EB9-B3EB-1631BE6294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Características do Analista de Sistem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apacidade para compreender conceitos abstratos, reorganizar esses conceitos em divisões lógicas e sintetizar "soluções" baseado em cada divis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Capacidade de absorver fatos pertinentes a partir de fontes conflitantes ou confu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Capacidade de se comunicar bem de forma escrita e ver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 Capacidade de "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 a floresta ao invés das árv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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ão se perder nos detal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6FE-7C6C-49E2-AFA0-732158FDDE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90a8"/>
                </a:solidFill>
                <a:latin typeface="Times New Roman"/>
              </a:rPr>
              <a:t>Papel do Analista de 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Coordenar cada uma das atividades da Análise de Requisitos d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unicação com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voca pessoal de desenvolvimento durante avaliação e sínt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Responsável pelo desenvolvimento do documento de Especificação de Requisitos do Software e participa de todas as revis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616-4E1A-4FDD-9E81-4C50585EB2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90a8"/>
                </a:solidFill>
                <a:latin typeface="Times New Roman"/>
              </a:rPr>
              <a:t>Áreas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pt-BR" sz="32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Aquisição da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pt-BR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Tamanho do Sist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complexidade dos proble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pt-BR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Alte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udanças que ocorrem durante e após a anál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9588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06B-D81D-4227-9D42-01DEB38CDD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reas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Arial"/>
              </a:rPr>
              <a:t>1. Aquisição da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informação deve ser coletada e como ela deve ser represent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m fornece as informaçõ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técnicas e ferramentas estão disponíveis para facilitar a coleta de informaçõ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450-BDA7-4BF8-B6D1-D9F3730F45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img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1D9-36ED-47CF-900F-F712D6DB63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genheiro de Software e Clientes (ATORES) têm papel fundamental nest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: reformular e refinar as descrições nebulosas em detalhes concr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edor: atua como interrogador, consultor, resolvedor de problema e negoci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unicação é ALTA&gt;&gt;&gt;&gt;&gt;&g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B32-C7C3-4A1D-8D75-D2D887A11E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reas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490a8"/>
                </a:solidFill>
                <a:latin typeface="Arial"/>
              </a:rPr>
              <a:t>2. Tamanho do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eliminar inconsistências na especificação de grandes sist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possível detectar omissõ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 um grande sistema ser efetivamente particionado para que se torne intelectualmente administrá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4B0-FD67-495A-9ADA-DB70CF340A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reas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490a8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5490a8"/>
                </a:solidFill>
                <a:latin typeface="Arial"/>
              </a:rPr>
              <a:t>3. Alter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as alterações efetuadas em outros elementos do software são coordenadas com os requisitos do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se determina o impacto de uma alteração em outras partes do software aparentemente não relacionad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se corrige erros na especificação para que não se gere efeitos colateri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0BD-98EA-4F94-B3B1-D9923F29B7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99cc"/>
                </a:solidFill>
                <a:latin typeface="Times New Roman"/>
              </a:rPr>
              <a:t>Causas dos Problemas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cação ine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cnicas e ferramentas inadequad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specificação inadequada e impreci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ências de se eliminar a tarefa de Especificação dos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has ao considerar alternativas antes que o software seja espec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632448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85C-675F-480F-A1B3-336A292C08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bordagem de Engenharia de Softw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ção de técnicas de comunicação só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ípios de análise fundamen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s de análise sistemáticos reduzirão o impacto dos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509-E357-4E7F-9263-6A305148D4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img0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12E-C163-4F52-8B3F-207547EB57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2550960" cy="54864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1933560" cy="58672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352680" y="3124080"/>
            <a:ext cx="297180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48520" y="6035760"/>
            <a:ext cx="41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 cuja solução é bas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56160" y="838080"/>
            <a:ext cx="383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 ao pedido de aju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6BB-B9D7-4252-AC02-BF7A49881A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36800" y="-360"/>
            <a:ext cx="810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incípios Fundamentais de Análise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ários métodos de modelagem de Análise foram desenv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método tem suas vantagens e pontos de vista, porém, cinco princípios são com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omínio de informação do problema deve ser representado e compreen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funções que o software deve realizar devem ser 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ortamento do software (conseqüência de eventos externos) deve ser represe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modelos (informação, função e comportamento) devem ser particionados em uma hierarqu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cesso de análise deveria iniciar a partir de informações básicas para detalhes de imple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0CC-818C-4EFB-AE51-8535BD76499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Princípios Fundamentais de Análi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mínio de inform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robl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do e compreendid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para que a função possa ser entendida +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letament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de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descrevam a informação, a função e o comportamento do sist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i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ara que a informação possa ser comunicad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actament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093-911E-491F-A790-877048E4C0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Princípios de Análi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 (e o problema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rticiona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maneira que revele os detalhes em forma de camadas (ou hierarquicamente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ara reduzir a complexid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 de aná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r-se da informaçã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sencial para os detal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implementaçã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para acomodar as restrições lógicas impostas por requisitos de processamento e as restrições físicas impostas por outros elementos do sistema)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Concepções lógicas e fís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D41-C0B7-4409-936A-2F5E2020BE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incípio: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omínio da Inform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00200" y="236196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o software é construído para processar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v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do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ftware embutido de tempo real para controlar o fluxo de combustível no motor de automó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ento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sensor de pressão detecta que a pressão ultrapassa determinado valor de segurança e envia um sinal de alarme para o software de monito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22A-C141-4BA5-9EA4-A697E9DE09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 ciclo de vida cláss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71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enh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9051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á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2286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266688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fec6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200400"/>
            <a:ext cx="1371600" cy="76212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373392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t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1523880"/>
            <a:ext cx="762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15238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1981080"/>
            <a:ext cx="762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2362320"/>
            <a:ext cx="7617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36232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819520"/>
            <a:ext cx="7617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1952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3352680"/>
            <a:ext cx="762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99560" y="4648320"/>
            <a:ext cx="0" cy="1144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914040" y="5791320"/>
            <a:ext cx="70866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914400" y="2209320"/>
            <a:ext cx="0" cy="358164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514600" y="2514600"/>
            <a:ext cx="0" cy="327672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809880" y="2971800"/>
            <a:ext cx="0" cy="274320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257800" y="3352680"/>
            <a:ext cx="0" cy="236232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477120" y="3962520"/>
            <a:ext cx="0" cy="175248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80C-4BE8-42B7-A7A8-C8F9627F91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878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incípio: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omínio da Inform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dados e itens de controle residem no </a:t>
            </a: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domínio</a:t>
            </a:r>
            <a:r>
              <a:rPr b="0" i="1" lang="pt-BR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de inform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um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cerra 3 diferentes pontos de v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2666880" y="3733920"/>
            <a:ext cx="1057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2f005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luxo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2f005e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200400" y="4572000"/>
            <a:ext cx="1905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2f005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teúdo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2f005e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962520" y="5572080"/>
            <a:ext cx="4591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2f005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strutura da informação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2f005e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3DB-B9E6-4136-A59D-D3A0A56F28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Fluxo da Informaçã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eira pela qual os dados e o controle se modificam à medida que cada um se movimenta pel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Conteúdo da Informaçã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dados e os itens de controle individuais que compreendem certo item de informação mais amp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o conteúdo do item de dados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heque de pag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definido pelos itens que são necessários para criá-lo: nome do recebedor, quantidade líquida a ser paga, pagamento brut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Estrutura da Informaçã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organização interna de vários itens de controle e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princípio: </a:t>
            </a:r>
            <a:r>
              <a:rPr b="1" lang="en-US" sz="3800" spc="-1" strike="noStrike">
                <a:solidFill>
                  <a:srgbClr val="003366"/>
                </a:solidFill>
                <a:latin typeface="Times New Roman"/>
              </a:rPr>
              <a:t>Domínio da Informaçã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4DF-40B8-490C-9362-526087A509F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img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C72-4F42-409C-8067-B32D85351E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. princípio:</a:t>
            </a: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Modelagem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10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: melhor compreensão da entidade real a ser constru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idade é física (prédio): modelo idêntico, mas em escala me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idade é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odelo deve ser capaz de modelar a informação que o software trans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funções (ou subfunções) que possibilitam que as transformações ocor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ortamento do sistema quando a transformação está se desenvolv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A6B-47AE-424E-A050-4A5D756622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. princípio:</a:t>
            </a: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Modelagem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36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s modelos concentram-se naquilo que o sistema deve fazer, não em como ele fa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s fazem uso de notação gráfica e tex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métodos de análise discutidos nos capítulos seguintes são métodos de model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vidade de Modelagem é fundamental ao bom trabalho da anál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F84-5FFE-413E-85BC-E9BD946EE62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princípio: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dela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éis importantes do Mode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juda o analista a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tender a informação, a função e o comport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um sistema, tornando a tarefa + fácil e siste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orna-se o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nto focal para a revis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, portanto, a chave para a determinação da completitude, consistência e precisão da especif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torna-se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 base para o proj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necendo ao projetista uma representação essencial do software, a qual pode ser "mapeada" num contexto de impleme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1E2-DE05-4291-95C5-14E7048CCD6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img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E45-5C6F-496D-86D7-4E07171772C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. princípio:</a:t>
            </a: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Particionamento </a:t>
            </a:r>
            <a:r>
              <a:rPr b="1" lang="pt-BR" sz="4000" spc="-1" strike="noStrike">
                <a:solidFill>
                  <a:srgbClr val="003366"/>
                </a:solidFill>
                <a:latin typeface="Times New Roman"/>
              </a:rPr>
              <a:t>(decomposição)</a:t>
            </a: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blemas freqüentemente são grandes demais e muito complexos para serem compreendidos como um t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articionamento divide o problema em partes mais facilmente ent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avés das interfaces estabelecidas entre as partes a função global do software pode ser execut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E8F-85B2-477B-A66D-2E39E4DF8C3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112400" y="1371240"/>
            <a:ext cx="8031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ticionamento Horizontal: decomposição funcional d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ticionamento Vertical: expõe detalhes cres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209680" y="3846600"/>
            <a:ext cx="6172200" cy="2249280"/>
            <a:chOff x="2209680" y="3846600"/>
            <a:chExt cx="6172200" cy="2249280"/>
          </a:xfrm>
        </p:grpSpPr>
        <p:sp>
          <p:nvSpPr>
            <p:cNvPr id="469" name=""/>
            <p:cNvSpPr/>
            <p:nvPr/>
          </p:nvSpPr>
          <p:spPr>
            <a:xfrm>
              <a:off x="4038480" y="4343400"/>
              <a:ext cx="685800" cy="38088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57600" y="4952880"/>
              <a:ext cx="685800" cy="3812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43600" y="4952880"/>
              <a:ext cx="685800" cy="3812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48320" y="4952880"/>
              <a:ext cx="685800" cy="3812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57800" y="5715000"/>
              <a:ext cx="685800" cy="38088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00400" y="5638680"/>
              <a:ext cx="685800" cy="3812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09680" y="5638680"/>
              <a:ext cx="685800" cy="3812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66880" y="4952880"/>
              <a:ext cx="685800" cy="3812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96080" y="5715000"/>
              <a:ext cx="685800" cy="38088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5880" y="5715000"/>
              <a:ext cx="685800" cy="38088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0" y="5715000"/>
              <a:ext cx="685800" cy="38088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048120" y="4724280"/>
              <a:ext cx="121896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514600" y="5334120"/>
              <a:ext cx="45720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71800" y="5334120"/>
              <a:ext cx="53352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962520" y="4724280"/>
              <a:ext cx="3808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4724280"/>
              <a:ext cx="6858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19720" y="4724280"/>
              <a:ext cx="18288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5562720" y="5334120"/>
              <a:ext cx="76176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5334120"/>
              <a:ext cx="763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24480" y="5334120"/>
              <a:ext cx="83844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24480" y="5334120"/>
              <a:ext cx="175284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48520" y="4191120"/>
              <a:ext cx="1447560" cy="228600"/>
            </a:xfrm>
            <a:custGeom>
              <a:avLst/>
              <a:gdLst>
                <a:gd name="textAreaLeft" fmla="*/ 226080 w 1447560"/>
                <a:gd name="textAreaRight" fmla="*/ 1266840 w 14475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5418000">
              <a:off x="7428960" y="4838400"/>
              <a:ext cx="1295280" cy="30492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66000" y="3846600"/>
              <a:ext cx="31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3366"/>
                  </a:solidFill>
                  <a:latin typeface="Arial"/>
                </a:rPr>
                <a:t>Particionamento horizon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princípio: </a:t>
            </a: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Particionamen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ABA-96BC-4B82-8426-946DC341FD5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img012" descr=""/>
          <p:cNvPicPr/>
          <p:nvPr/>
        </p:nvPicPr>
        <p:blipFill>
          <a:blip r:embed="rId1"/>
          <a:stretch/>
        </p:blipFill>
        <p:spPr>
          <a:xfrm>
            <a:off x="380880" y="34308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F33-1F53-412C-B382-401859604F8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65120" y="37339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792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80550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compreensão completa do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quisitos do Soft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é fundamental para obter um software e um processo de desenvolvimento com alta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80550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80550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importa quão bem projetado ou codificado está um programa, se ele for mal analisado e especificado desapontará o usuário e trará aborrecimentos ao desenvolv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814-FC4A-4752-8A1A-39A4658BE6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princípio:</a:t>
            </a: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Visões essenciais e de implementaçã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isão essen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s requisitos do software apresenta as funções a serem realizadas sem tratar dos detalhes de impleme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o se concentrar atenção na essência do problema nas primeiras etapas da análise de requisitos, deixa-se as opções abertas para especificar detalhes de implementação durante as últimas etapas de especificação dos requisitos e projet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525-DC59-4BD4-B898-608F5BDB41E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320" y="14479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epção de implementa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s requisitos de software apresenta a manifestação das funções de processamento e estruturas de informação no mundo r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ão deve ser interpretada como uma representação do como. Um modelo de implementação representa o modo de operação corrente, ou seja a atribuição existente ou proposta para todos os elemento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princípio:</a:t>
            </a: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Concepções essenciais e de 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F04-EAA4-4170-A396-5087F69E9EA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img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1BB-7EB5-4798-B30E-5DF7F45F0E3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img014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A0D-5D6B-4C22-B4E6-BA3929D735C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specificação de Requisitos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ida como uma conseqüência da fase de análise de 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como um padrão para testar se as fases de projeto e implementação do processo de desenvolvimento de software estão corr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0A0-35E3-4BAD-B252-195EFE12C66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0000"/>
                </a:solidFill>
                <a:latin typeface="Times New Roman"/>
              </a:rPr>
              <a:t>Princípios de uma boa especificação</a:t>
            </a:r>
            <a:r>
              <a:rPr b="0" lang="pt-BR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Balzer e Goldman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S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uncionalidade de imple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É necessária uma linguagem de especificação de sistemas orientada a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especificação deve abranger o sistema do qual o software é um co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ma especificação deve abranger o ambiente no qual o sistema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ma especificação de sistema deve ser um modelo cog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ma especificação deve ser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especificação do sistema deve ser tolerante com a não completitude e ser expans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ma especificação deve ser localizada e fracamente acopl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2AF-D20C-48CF-BFD6-B12398749DD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Especificação pode ser acompanhada de um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PROTÓTIP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executável (ou em papel)  e/ou um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MANUAL PRELIMINAR DE USU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DE2-623F-4D4C-8C1A-7BCCE723C83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Revisão da Especificação</a:t>
            </a:r>
            <a:br>
              <a:rPr sz="4400"/>
            </a:b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ível macroscópico)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58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s revisores tentam garantir que a especificação seja completa, consistente e precisa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s e objetivos do software permanecem consistentes com metas e objetivos do siste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am descritas as interfaces importantes para todos os elementos do siste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fluxo e a estrutura de informação são adequadamente definidas para o domínio da inform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 diagramas são clar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F02-6D0E-4551-9263-BA71F5374AC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funções importantes permanecem dentro do escopo e cada uma foi adequadamente desc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comportamento do software é consistente com a informação que ele deve processar e as funções que deve execu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restrições de projeto são realísticas? Qual é o risco tecnológico desenvolvimento? Requisitos de software alternativos foram considera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érios de Validação foram declarados detalhadamente? Eles são adequados para descrever um sistema bem suced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m inconsistências, omissões ou redundânc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usuário revisou o Manual Preliminar ou o protóti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 as estimativas do Plano de projeto de Software foram afet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Revisão da Especificação</a:t>
            </a:r>
            <a:br>
              <a:rPr sz="4400"/>
            </a:b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ível macroscópico)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D8B-7E54-4E01-8C2B-F4B2D50F182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ão da Especificação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íve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lh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preocupação é com o enunciado da especificação. Tenta-se descobrir problemas que possam estar ocultos no conteúdo da espec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triz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eja alerta para perceber conectivos persuasivos (certamente, claramente, obviamente ) e perguntar por que eles estão pres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cure termos vagos e peça esclarecimento (algum, às vezes, usualmente, freqüentem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ndo forem fornecidas listas que não sejam completas, certifique-se de que todos os itens sejam entendidos (evite colocar etc, tal como, assim por di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F97-731A-4C20-B1E5-96D8EBBAA37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Fase de Análise de Requis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676520" y="1905120"/>
            <a:ext cx="6019560" cy="3581280"/>
            <a:chOff x="1676520" y="1905120"/>
            <a:chExt cx="6019560" cy="3581280"/>
          </a:xfrm>
        </p:grpSpPr>
        <p:sp>
          <p:nvSpPr>
            <p:cNvPr id="163" name=""/>
            <p:cNvSpPr/>
            <p:nvPr/>
          </p:nvSpPr>
          <p:spPr>
            <a:xfrm>
              <a:off x="1676520" y="1905120"/>
              <a:ext cx="6019560" cy="358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317120" y="2555640"/>
              <a:ext cx="2725920" cy="1719000"/>
              <a:chOff x="4317120" y="2555640"/>
              <a:chExt cx="2725920" cy="1719000"/>
            </a:xfrm>
          </p:grpSpPr>
          <p:sp>
            <p:nvSpPr>
              <p:cNvPr id="165" name=""/>
              <p:cNvSpPr/>
              <p:nvPr/>
            </p:nvSpPr>
            <p:spPr>
              <a:xfrm>
                <a:off x="4430520" y="2555640"/>
                <a:ext cx="2498760" cy="17190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17120" y="2841840"/>
                <a:ext cx="2725920" cy="12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Comic Sans MS"/>
                  </a:rPr>
                  <a:t>ANÁLISE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Comic Sans MS"/>
                  </a:rPr>
                  <a:t>REQUISI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789920" y="2048040"/>
              <a:ext cx="2853360" cy="186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44160" y="2191320"/>
              <a:ext cx="2358720" cy="18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Comic Sans MS"/>
                </a:rPr>
                <a:t>Engenharia de Sistemas de Comput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65400" y="3910680"/>
              <a:ext cx="1930680" cy="1432440"/>
              <a:chOff x="5765400" y="3910680"/>
              <a:chExt cx="1930680" cy="1432440"/>
            </a:xfrm>
          </p:grpSpPr>
          <p:sp>
            <p:nvSpPr>
              <p:cNvPr id="170" name=""/>
              <p:cNvSpPr/>
              <p:nvPr/>
            </p:nvSpPr>
            <p:spPr>
              <a:xfrm>
                <a:off x="5765400" y="3910680"/>
                <a:ext cx="1817280" cy="1432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78800" y="4053600"/>
                <a:ext cx="18172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80"/>
                    </a:solidFill>
                    <a:latin typeface="Comic Sans MS"/>
                  </a:rPr>
                  <a:t>Projeto de Softwa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838440" y="563868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opo do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77160" y="6035760"/>
            <a:ext cx="306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iro pass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ta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452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2057400"/>
            <a:ext cx="761760" cy="15228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2057400"/>
            <a:ext cx="762120" cy="15228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2438280"/>
            <a:ext cx="761760" cy="15264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1447920"/>
            <a:ext cx="762120" cy="15228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218960" y="3429000"/>
            <a:ext cx="1143000" cy="2133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DC2-1247-4734-A708-CE712FAB6F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ão da Especificação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íve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lh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steja certo de que os limites declarados não contenham pressuposições não declaradas (“os códigos válidos variam de 0 a 100” - números inteiros, reais??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uidado com verbos vagos. Há muitas maneiras de interpretá-los. (manuseado, rejeitado, pulado, process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uidado com pronomes "pendentes” (o módulo I/O comunica-se com o módulo de validação de dados e seu sinal de controle está ligado. Sinal de controle de qual?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ocure declarações que impliquem certeza (sempre, cada, todos, nunca) e depois peça p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3F7-3E0C-483A-9AB0-61AA930328F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ão da Especificação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íve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lh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ndo um termo for explicitamente definido num lugar, evite utilizar outras definições para o mesmo termo (normalização dos termos: documento - arqu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ndo uma estrutura for descrita em palavras, verifique se há um gráfico ou uma figura para auxiliar a compreen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ndo um cálculo for especificado, desenvolva pelo menos dois ex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359-BEA7-44C5-9E6D-DFC6AEA8B8C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490a8"/>
                </a:solidFill>
                <a:latin typeface="Times New Roman"/>
              </a:rPr>
              <a:t>Ferramentas de Especificação Automatiz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categoria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écnicas automatizadas que nada mais são do que um método manual que foi complementado com uma ferramenta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ibilitam que o analista atualize informações e rastreie as conexões entre representações novas e existentes do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C Desig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gital Equipment Cor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)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sign Ai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 Logic Cor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)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xcelerato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solv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EF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DW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nowledgewa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T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ative Development Environment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eamwork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re Technologi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2A9-842E-4F52-88D3-2AE6FFA3A38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970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tegori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cnicas automatizadas que fazem uso de uma notação especial (na maioria dos casos, essa é uma linguagem de especificação de requisitos) que foi explicitamente projetada para processamento usando-se uma ferramenta automat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inguagem de especificação: RSL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SL/P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inguagem  de especificação: PSL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inguagem  de especificação: IO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490a8"/>
                </a:solidFill>
                <a:latin typeface="Times New Roman"/>
              </a:rPr>
              <a:t>Ferramentas de Especificação Automatiz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7A9-E17B-418E-B3EB-B7C5F72E857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Análise de Requisitos</a:t>
            </a: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990000"/>
                </a:solidFill>
                <a:latin typeface="Arial"/>
              </a:rPr>
              <a:t>Conclusã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ogo que a Revisão for concluída, a Especificação de Requisitos de Software é "</a:t>
            </a: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assinada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 pelo cliente e pelo desenvolv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 especificação torna-se um "</a:t>
            </a: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contrat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 de desenvolvimento de softw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udanças solicitadas depois que a Espec.  for concluída serão consideradas,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orém cada mudança posterior pode aumentar o custo e/ou alongar o prazo de en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esmo com os melhores procedimentos de revisão em andamento, uma série de problemas de especificação ainda pers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7491240" y="228600"/>
            <a:ext cx="1652760" cy="15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4D9-1B14-4F3C-8765-A9434CA1D3A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6E8-716C-467E-9F0E-74066EAF48E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004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95280" y="2209680"/>
            <a:ext cx="2120760" cy="1376280"/>
            <a:chOff x="1295280" y="2209680"/>
            <a:chExt cx="2120760" cy="1376280"/>
          </a:xfrm>
        </p:grpSpPr>
        <p:sp>
          <p:nvSpPr>
            <p:cNvPr id="182" name=""/>
            <p:cNvSpPr/>
            <p:nvPr/>
          </p:nvSpPr>
          <p:spPr>
            <a:xfrm>
              <a:off x="1295280" y="2209680"/>
              <a:ext cx="212076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3880" y="2438280"/>
              <a:ext cx="181584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Comic Sans MS"/>
                </a:rPr>
                <a:t>Plano do Proj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181480" y="14479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67080" y="533520"/>
            <a:ext cx="2120760" cy="1376280"/>
            <a:chOff x="4267080" y="533520"/>
            <a:chExt cx="2120760" cy="1376280"/>
          </a:xfrm>
        </p:grpSpPr>
        <p:sp>
          <p:nvSpPr>
            <p:cNvPr id="186" name=""/>
            <p:cNvSpPr/>
            <p:nvPr/>
          </p:nvSpPr>
          <p:spPr>
            <a:xfrm>
              <a:off x="4267080" y="533520"/>
              <a:ext cx="212076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5680" y="762120"/>
              <a:ext cx="181584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Comic Sans MS"/>
                </a:rPr>
                <a:t>Especificação do 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1814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962520" y="2514600"/>
            <a:ext cx="2727360" cy="1719360"/>
            <a:chOff x="3962520" y="2514600"/>
            <a:chExt cx="2727360" cy="1719360"/>
          </a:xfrm>
        </p:grpSpPr>
        <p:sp>
          <p:nvSpPr>
            <p:cNvPr id="190" name=""/>
            <p:cNvSpPr/>
            <p:nvPr/>
          </p:nvSpPr>
          <p:spPr>
            <a:xfrm>
              <a:off x="4075920" y="2514600"/>
              <a:ext cx="2500200" cy="1719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62520" y="2801160"/>
              <a:ext cx="2727360" cy="12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mic Sans MS"/>
                </a:rPr>
                <a:t>ANÁLISE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mic Sans MS"/>
                </a:rPr>
                <a:t>REQUISI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495680" y="4724280"/>
            <a:ext cx="2120760" cy="1376280"/>
            <a:chOff x="4495680" y="4724280"/>
            <a:chExt cx="2120760" cy="1376280"/>
          </a:xfrm>
        </p:grpSpPr>
        <p:sp>
          <p:nvSpPr>
            <p:cNvPr id="193" name=""/>
            <p:cNvSpPr/>
            <p:nvPr/>
          </p:nvSpPr>
          <p:spPr>
            <a:xfrm>
              <a:off x="4495680" y="4724280"/>
              <a:ext cx="212076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4952880"/>
              <a:ext cx="181584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Comic Sans MS"/>
                </a:rPr>
                <a:t>Especificação de Requisi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A1B-7D31-41E1-9BE1-02D0537074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nálise de Requis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cesso de descoberta e refi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OR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iente e desenvolv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: reformula um conceito de função e desempenho (às vezes nebul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dor: indagador e solucionador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BLE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nde propensão a mal entendid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ividade aparentemente simples torna-se complex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31E-CC2D-4374-BE71-70FC5FCFEC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g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CFE-25CC-4FB0-9BB5-9487557124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7:59:46Z</dcterms:created>
  <dc:creator>Renata Pontin de Mattos Fortes</dc:creator>
  <dc:description/>
  <dc:language>en-US</dc:language>
  <cp:lastModifiedBy>teste</cp:lastModifiedBy>
  <dcterms:modified xsi:type="dcterms:W3CDTF">2002-04-26T01:15:46Z</dcterms:modified>
  <cp:revision>91</cp:revision>
  <dc:subject/>
  <dc:title>Capítulo 6  Princípios Fundamentais da Análise de Requisitos Engenharia de Software - Pressman </dc:title>
</cp:coreProperties>
</file>