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47E-774A-481E-B2C8-6E0FD218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950-2E27-4186-B782-724CC82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8B3-FDEE-4D54-81F8-6F68BFCB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26B-F8AB-4D2C-89FB-92764B1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7CC5-8B6F-4E7D-98F9-BCB61B8B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BCA-A400-4045-8F27-8BA60685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88A1-8A7B-4468-9727-A12CE0A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CD9-10A7-4900-A900-F496BD2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615C-2031-464F-8E95-7B5603A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317-DFA4-4A9F-89B5-3E570A1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138-C82A-4AD0-9538-5BA87E0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7B0-89B7-4253-8435-E1147D4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BF0D-C914-432F-B8E6-9C388FE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8526-84FE-47C6-953F-A5AF336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A529-21D3-4DC0-852F-8CB0CBE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895F-CC20-4AC5-A33F-F8285252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4601-D4C6-413B-A2F5-785BDBC3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FDF-F154-482E-A31F-494F10C5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416-3EB3-4ABE-BBCB-ADCA0F1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893-4E19-4252-8EF7-A1F504B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E2E-CCC7-4B46-AFE3-491124A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228-300D-4DBE-8BEB-F075BDE8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D70-CD8A-4912-93F0-0E219DB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4A3-7D8B-4591-A496-31B78CA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4C28-AEF2-4770-BFDA-FB6E4B4CA7E9}" type="datetime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D7A-723D-4023-A261-2247CBFAE53C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9D5-C6C5-45EF-94EB-E0626047399B}" type="datetime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D2E-929C-4760-B260-E213B5D67C81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-di.inf.puc-rio.br/~julio/" TargetMode="External"/><Relationship Id="rId3" Type="http://schemas.openxmlformats.org/officeDocument/2006/relationships/hyperlink" Target="http://www-di.inf.puc-rio.br/~julio/" TargetMode="External"/><Relationship Id="rId4" Type="http://schemas.openxmlformats.org/officeDocument/2006/relationships/hyperlink" Target="http://www-di.inf.puc-rio.br/~julio/" TargetMode="External"/><Relationship Id="rId5" Type="http://schemas.openxmlformats.org/officeDocument/2006/relationships/hyperlink" Target="http://www-di.inf.puc-rio.br/~julio/" TargetMode="External"/><Relationship Id="rId6" Type="http://schemas.openxmlformats.org/officeDocument/2006/relationships/hyperlink" Target="http://www-di.inf.puc-rio.br/~julio/" TargetMode="External"/><Relationship Id="rId7" Type="http://schemas.openxmlformats.org/officeDocument/2006/relationships/hyperlink" Target="http://www-di.inf.puc-rio.br/~julio/" TargetMode="External"/><Relationship Id="rId8" Type="http://schemas.openxmlformats.org/officeDocument/2006/relationships/hyperlink" Target="http://www-di.inf.puc-rio.br/~julio/" TargetMode="External"/><Relationship Id="rId9" Type="http://schemas.openxmlformats.org/officeDocument/2006/relationships/hyperlink" Target="http://www-di.inf.puc-rio.br/~julio/" TargetMode="External"/><Relationship Id="rId10" Type="http://schemas.openxmlformats.org/officeDocument/2006/relationships/hyperlink" Target="http://www-di.inf.puc-rio.br/~julio/" TargetMode="External"/><Relationship Id="rId11" Type="http://schemas.openxmlformats.org/officeDocument/2006/relationships/hyperlink" Target="http://www-di.inf.puc-rio.br/~julio/" TargetMode="External"/><Relationship Id="rId1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6699"/>
                </a:solidFill>
                <a:latin typeface="Arial"/>
              </a:rPr>
              <a:t>Unidade 10: </a:t>
            </a:r>
            <a:r>
              <a:rPr b="1" lang="pt-BR" sz="3600" spc="-1" strike="noStrike">
                <a:solidFill>
                  <a:srgbClr val="0066ff"/>
                </a:solidFill>
                <a:latin typeface="Arial"/>
              </a:rPr>
              <a:t>Engenharia de Sistemas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95120" y="533376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Prof. Dr.  Marcelo Augusto Santos Turi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CT – UF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mast@dct.ufms.b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ódulo III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Métodos Convencionais de Engenharia de Soft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Hierarquia de Engenhari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088040" y="11430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920" y="68580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ou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ínio do Produ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1960" y="1828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ínio de intere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1720" y="32004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41320" y="4724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9000" y="5715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4290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Sistema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xige intensa comunicação entre o cliente e o analist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O cliente deve entender as metas do sistema e ser capaz de estabelecê-las claramen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O analista deve saber quais perguntas fazer, quais conselhos dar e qual pesquisa realizar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aso as comunicações se interrompam, o sucesso do projeto estará ameaç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É um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rocesso de modelagem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necessidades das visõ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ngenharia de Hardwa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técnicas bem estabeleci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onfiabilidade é realíst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ngenharia de Softwa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lemento do sistema mais difícil de ser planejad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erigoso de se administr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Business Process Engineering (BPE)</a:t>
            </a:r>
            <a:br>
              <a:rPr sz="4000"/>
            </a:b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ngenharia de Processo de Negóci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ta: definir a arquitetura do negócio para usar a informação eficientemen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usto de mudanças com as novas TI é al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sa um conjunto integrado de procedimentos, métodos e ferramentas para identificar como o sistema de informação pode reunir as metas do empreendim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Focaliza primeiro o empreendimento e depois a área de negóc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BP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ngenheiros de Software usualmente não participam nos níveis mais altos do BP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lanejamento Estratégico da Informação – </a:t>
            </a: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world 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álise das Áreas de Negócio – domain 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rojeto Sistema de Negócio – element view – Eng. Sof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trução e Integração – detailed view – Eng. Sof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Hierarquia da BP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164360" y="762120"/>
            <a:ext cx="162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stratégico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 Informaçã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000" y="9144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mpreendi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2520" y="18288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Área de Negóci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3800" y="3048120"/>
            <a:ext cx="140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nálise  da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Áreas de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góci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1320" y="4724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9520" y="5867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2160" y="320040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quisitos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41972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8640" y="4114800"/>
            <a:ext cx="17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733920"/>
            <a:ext cx="533160" cy="2895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360" y="4876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Produ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ta: traduzir os desejos do cliente em um conjunto de habilidades bem definido para o produ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finir Arquitetura: hardware, software, dados e pesso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o Produto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163640" y="762120"/>
            <a:ext cx="1668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ngenharia d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0800" y="9144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Habilidad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9520" y="2209680"/>
            <a:ext cx="161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ngenharia de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3520" y="480060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álise e Proje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8120" y="6172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2160" y="320040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quisitos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41972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000" y="411480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s, Funçõ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ort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533520" cy="60199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" y="3048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819520"/>
            <a:ext cx="1752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sultado do processo de Engenharia de Sistemas é um Documento de Especificação do Sistema ou Produto em diferentes níve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Um desafio!!!! Assegurar que tal documento corresponde as expectativas e necessidades dos client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Fornece mecanismos apropriados para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mpreender o que o cliente desej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alisar necessidad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valiar a praticabilida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negociar soluções lógicas (razoávei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r soluções não ambígu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validar a especific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Gerenciar os requisitos quando transformados no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rocesso de engenharia de sistemas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: 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 atividades de análise, especificação e gerenciamento da qualidade dos requisit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Antes de desenvolver/implementar o software, o “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ambiente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" na qual ele faz parte deve ser compreendi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s objetivos gerais do sistema devem ser determin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 papel dos elementos do sistema (hardware, software, pessoas, bases de dados, procedimentos, e etc) devem ser identific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equisitos operacionais devem ser el</a:t>
            </a: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i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citados, analisados, especificados, modelados, validados e gerenci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Sommerville (1997) Processo de Engenharia de Requisitos pode ser descrito em seis passos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licit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alisar e Negoci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Modelar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Valid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Gerenci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licit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eterminar o que o Cliente desej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arece ser simples, mas não é.....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ificuldad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escop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entendimen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volatilidad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Sommerville sugere guidelin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Identificar as pessoas correta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Definir vários métodos de elicitação (entrevistas, discussão em grupo, reuñiões team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Identificar requisitos ambíguos como candidatos para prototipaç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rodutos desta fase devem ser revisados por todas as pessoas que participara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nalisar e Negoci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mpreender os relacionamentos entre os requisitos do clien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tegorizar os requisitos em conjuntos relaciona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xaminar a consistência e ambigüida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Questõ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Requisitos é consistente com o objetivo geral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Nível de abstração adequado? Detalhes técnicos são inadequa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Requisitos são conflitantes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Cada requisito é testável uma vez que implementado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specific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truir um modelo real de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ção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ocumento escri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Modelo Gráfic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Modelo Matemático Form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leção de Cenários de Us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rotótipo, e combinação.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Sugestão de </a:t>
            </a: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Template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padr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ção do Sistema é o produto designed pelo engenheiro de requisitos e de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Base para a engenharia de hardware, software, banco de dados e humana, informações de entrada/saíd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Modelar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onstruir uma representação dos requisitos que possa ser avaliada pela corretitude, completitude e consistê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odelar uma cozinha?!?!?!?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Sistema computacional pode ser modelado como uma transformação da informação usando o template entrada-processamento-saíd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iagrama de Contexto do Sistema (DC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04920" y="704880"/>
          <a:ext cx="7772400" cy="61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04880"/>
                    <a:ext cx="777240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752480" y="0"/>
            <a:ext cx="64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Diagrama de Contex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609480"/>
            <a:ext cx="8153640" cy="1371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6699"/>
                </a:solidFill>
                <a:uFillTx/>
                <a:latin typeface="Times New Roman"/>
              </a:rPr>
              <a:t>Processamento de Interface com o Usuá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1981440" cy="4495680"/>
          </a:xfrm>
          <a:prstGeom prst="rect">
            <a:avLst/>
          </a:prstGeom>
          <a:solidFill>
            <a:srgbClr val="00808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Entra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2057400"/>
            <a:ext cx="3200400" cy="3429000"/>
          </a:xfrm>
          <a:prstGeom prst="rect">
            <a:avLst/>
          </a:prstGeom>
          <a:solidFill>
            <a:srgbClr val="ccff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Funções de Proces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e de Control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5562720"/>
            <a:ext cx="3200400" cy="9144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Teste e Manuten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819520" cy="4419720"/>
          </a:xfrm>
          <a:prstGeom prst="rect">
            <a:avLst/>
          </a:prstGeom>
          <a:solidFill>
            <a:srgbClr val="80808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 Saí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0"/>
            <a:ext cx="64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Diagrama de Contex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33720" y="304920"/>
            <a:ext cx="5257800" cy="28177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1066680"/>
            <a:ext cx="51814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572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106668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17524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2438280"/>
            <a:ext cx="32004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24480" y="106632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82880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5146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12952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7524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665080" y="685800"/>
            <a:ext cx="12207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68580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75248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1523880"/>
            <a:ext cx="6094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9810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3733920"/>
            <a:ext cx="5257800" cy="28177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495680"/>
            <a:ext cx="51818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862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49568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51814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5867280"/>
            <a:ext cx="32004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943600" y="449532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2578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9436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72428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518148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429000" y="4114800"/>
            <a:ext cx="7632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4952880"/>
            <a:ext cx="60984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4100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8672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2286000"/>
            <a:ext cx="0" cy="1371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38280" y="5181120"/>
            <a:ext cx="6858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Validar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visar os modelos construí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bjetivo: examinar a especificação e os modelos para assegurar que todos requisitos do sistema declarados não são ambíguos, inconsistentes, omissos, e erros devem ser detectados e corrigi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oberta de erros de requisitos – criação de questões checklist.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Tarefa: Revisão Técnica Formal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Gerenci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quisitos mudam – persistem através da vida do sistema.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onjunto de Atividade que auxiliam a team de projeto a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Identific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Control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Acompanh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os requisitos e as mudanças realiza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tividades idênticas às técnicas de Gerência de Configuração d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roduto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epresentação do sistema é produzida como resultado, que pode ser um protótipo, uma especificação ou até mesmo um modelo simbólico, que descreve as características funcionais, operacionais e comportamentais do sistema a ser desenvolvi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esquisas Brasil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2"/>
              </a:rPr>
              <a:t>http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3"/>
              </a:rPr>
              <a:t>://www-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4"/>
              </a:rPr>
              <a:t>di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5"/>
              </a:rPr>
              <a:t>.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6"/>
              </a:rPr>
              <a:t>inf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7"/>
              </a:rPr>
              <a:t>.puc-rio.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8"/>
              </a:rPr>
              <a:t>br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9"/>
              </a:rPr>
              <a:t>/~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10"/>
              </a:rPr>
              <a:t>julio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11"/>
              </a:rPr>
              <a:t>/</a:t>
            </a:r>
            <a:r>
              <a:rPr b="0" lang="pt-BR" sz="2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Verdana"/>
              </a:rPr>
              <a:t>SSER - Sistemas de Suporte a Engenharia de Requisito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Verdana"/>
              </a:rPr>
              <a:t>Estudos na area de Engenharia de Requisitos de maneira geral e proposicao e construcao de metodos, tecnicas e ferramentas de suporte a atividade de requisitos, com enfase especial na parte de elicitacao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392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apel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efinir os elementos para um sistema computacional específico no contexto da hierarquia global dos 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tividade que engloba a maioria das tarefas de Engenharia de 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oncentra em todos os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lementos do sistema, n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penas no Softw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eiro de Sistemas ou Analist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56" name="BATPUL" descr=""/>
          <p:cNvPicPr/>
          <p:nvPr/>
        </p:nvPicPr>
        <p:blipFill>
          <a:blip r:embed="rId2"/>
          <a:stretch/>
        </p:blipFill>
        <p:spPr>
          <a:xfrm>
            <a:off x="5638680" y="433080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 maioria dos novos sistemas inicia com metas e restrições (NEBULOSAS) definidas pelo clien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 Analista de Sistemas deve </a:t>
            </a:r>
            <a:r>
              <a:rPr b="0" i="1" lang="pt-BR" sz="2800" spc="-1" strike="noStrike">
                <a:solidFill>
                  <a:srgbClr val="336699"/>
                </a:solidFill>
                <a:latin typeface="Arial"/>
              </a:rPr>
              <a:t>demarc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rivar uma representação da fun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empenh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interfaces, restrições de projeto e estrutura de informações para cada um dos elementos genéric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nálise (Engenharia)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066680"/>
            <a:ext cx="8532720" cy="556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dentificar a necessidade dos usuári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xecutar análise econômica e técnic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stabelecer restrições de prazo e cus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tribuir funções ao hardware, software, às pessoas, ao B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riar uma definição do sistema que constitua todo o trabalho futur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Quanto esforço deve ser despendido na análise e definição de sistemas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Tamanho e complexidad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gra empírica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e requisitos do softwa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maioria dos profissionais reconhece que o tempo e o esforço despendidos na análise de sistemas é vantajos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Quanto esforço deve ser despendido na análise e definição de sistem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Tamanho e complexidade do sistema, usuário fin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Regra empírica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e requisitos do softwa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Quem o faz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nalista deve dirigir a maioria das tarefas (administrativo e técnico do cliente, além da equipe de desenvolvimento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16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or que é tão difícil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onceito nebuloso deve ser transformado num conjunto de elementos concret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Percepção do sistema pode modificar-se à medida que o trabalho progred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Identificação das Necessidades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64" name="ACORDO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451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664240" y="609480"/>
            <a:ext cx="3479760" cy="4953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371600" y="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Função e desempenho desejados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Questões de confiabilidade e qualidade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Metas globais do sistema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Tecnologia disponível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rcados e concorrência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xtensões futuras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66680" y="5791320"/>
            <a:ext cx="77533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ocumento Conceitual do Sistema</a:t>
            </a:r>
            <a:endParaRPr b="0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cap="sq" w="190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Análise Econômica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2193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valiação do custo de desenvolvimento confrontada com a renda ou benefício derivado do sistema desenvolvid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nálise de custo-benefíc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lineia os custos para o desenvolvimento do projeto, comparando-os com os benefícios tangíveis (mensuráveis) e intangíveis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xemplo: sistema CAD - projeto auxiliado por computador - substitui a engenharia manual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financei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intangível: melhor qualidade de projeto e moral mais elevado dos empregad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Análise Técnica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160020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nalista coleta informações sobre função, desempenho, confiabilidade, manutenibilidade e capacidade de reutilizaçã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s ferramentas disponíveis derivam das técnicas de modelagem e otimização matemática, probabilidade e estatística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914400" y="3276360"/>
            <a:ext cx="0" cy="25146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3352680" cy="1447920"/>
          </a:xfrm>
          <a:prstGeom prst="rect">
            <a:avLst/>
          </a:prstGeom>
          <a:solidFill>
            <a:srgbClr val="00ffff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124080"/>
            <a:ext cx="3352680" cy="2057400"/>
          </a:xfrm>
          <a:prstGeom prst="rect">
            <a:avLst/>
          </a:prstGeom>
          <a:solidFill>
            <a:srgbClr val="ff00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057400"/>
            <a:ext cx="3048120" cy="1523880"/>
          </a:xfrm>
          <a:prstGeom prst="rect">
            <a:avLst/>
          </a:prstGeom>
          <a:solidFill>
            <a:srgbClr val="ccffcc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 ciclo de vida clássic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genhari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 Sistem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9051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86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666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ec6d9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320040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37339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5238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5238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9810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8195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3526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99560" y="4648320"/>
            <a:ext cx="0" cy="114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14040" y="5791320"/>
            <a:ext cx="7086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14600" y="2514600"/>
            <a:ext cx="0" cy="32767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09880" y="2971800"/>
            <a:ext cx="0" cy="27432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352680"/>
            <a:ext cx="0" cy="23623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77120" y="3962520"/>
            <a:ext cx="0" cy="175248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240" y="25909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efiniçã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3160" y="365760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Times New Roman"/>
              </a:rPr>
              <a:t>Desenvolviment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6400" y="5791320"/>
            <a:ext cx="23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Validação 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Manutençã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rquitetura do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odelo do Sistem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odelo qu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represente a inter-relação entre os element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onstitua a base para as fases conseqüentes: análise de requisitos e proje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rquitetura de Entrada/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specificação do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ocumento que serve de base para as etapas de engenharia de hardware, software, banco de dados e human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reve a função e o desempenho de um sistema baseado em computador e suas restrições no desenvolvimen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reve as informações que entram e saem do sistema - delimita cada elemento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Servir de base para as etapas de engenharia de hardware 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sboço da Especificação do Sistem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- Introdu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Escopo e propósito do documen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Visão ger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bjetiv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striçõ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I- Descrição Funcional e de Da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Arquitetura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iagrama de contexto da arquitetura (DCA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escrição do DC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II- Descrições dos sub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Especificação do diagrama de arquitetura para os subsistema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Dicionário da arquitetur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IV- Questões de proje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Custos de desenvolvimento projeta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Prazo projetad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71600" y="16765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II- Descrições dos subsistemas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. Especificação do diagrama de arquitetura para os subsistem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. Dicionário da arquitetur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V- Questões de projet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. Custos de desenvolvimento projetad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. Prazo proje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rincipal documento referente aos aspectos da Gerência do Proje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ocumento que serve de base para a engenharia de hardware, software, banco de dados e human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escreve a função e o desempenho de um sistema e as restrições que orientarão seu desenvolvimen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escreve as informações que entram e saem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D0F26-3EE0-4E25-8CAE-E1041CEDF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roduzido no término das tarefas de Planejament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Fornece informações básicas sobre CUSTO e PROGRAMAÇÃO dos recursos ao longo do proces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breve que se destina a um público diver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não estát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Descri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Breve nas suas Seçõ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Não deve deixar interpretações ambíguas, etc.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76280" y="2019240"/>
            <a:ext cx="8008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3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400" spc="-1" strike="noStrike">
                <a:solidFill>
                  <a:srgbClr val="0066ff"/>
                </a:solidFill>
                <a:latin typeface="Arial"/>
              </a:rPr>
              <a:t>FIM</a:t>
            </a:r>
            <a:endParaRPr b="0" lang="en-US" sz="13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5400000">
            <a:off x="2098440" y="3882600"/>
            <a:ext cx="2624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700" spc="-1" strike="noStrike">
                <a:solidFill>
                  <a:srgbClr val="ff99ff"/>
                </a:solidFill>
                <a:latin typeface="Arial"/>
              </a:rPr>
              <a:t>:-(</a:t>
            </a:r>
            <a:endParaRPr b="0" lang="en-US" sz="1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rot="5400000">
            <a:off x="4585320" y="3853800"/>
            <a:ext cx="26244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700" spc="-1" strike="noStrike">
                <a:solidFill>
                  <a:srgbClr val="33cc33"/>
                </a:solidFill>
                <a:latin typeface="Arial"/>
              </a:rPr>
              <a:t>:-)             </a:t>
            </a:r>
            <a:endParaRPr b="0" lang="en-US" sz="1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úvidas???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Dica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ntes de uma visão “centrada no software”, considere todos os element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have: compreender claramente o contex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niciar compreendendo o universo “</a:t>
            </a:r>
            <a:r>
              <a:rPr b="1" i="1" lang="pt-BR" sz="2800" spc="-1" strike="noStrike">
                <a:solidFill>
                  <a:srgbClr val="336699"/>
                </a:solidFill>
                <a:latin typeface="Arial"/>
              </a:rPr>
              <a:t>world view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” do software, e progressivamente chegando nos detalhes técnic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Sistemas complexos são uma hierarquia de macro element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Terminolog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rocesso de Engenharia de Sist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&lt;&lt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ngenharia do Processo de Negócio (</a:t>
            </a:r>
            <a:r>
              <a:rPr b="0" i="1" lang="pt-BR" sz="2800" spc="-1" strike="noStrike">
                <a:solidFill>
                  <a:srgbClr val="336699"/>
                </a:solidFill>
                <a:latin typeface="Arial"/>
              </a:rPr>
              <a:t>business process engineering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) +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ngenharia de Produ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&gt;&gt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iferentes domínios de aplic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Sistemas Baseados em Computador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Tipos de Sist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olíticos, educacionais, aviônicos, manufatura, bancário, transpor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ef: Um conjunto ou disposição de elementos que é organizado para executar certo método, procedimento ou controle ao processar informaçõ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lementos para alcançar a meta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lemento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Softwar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programas, dados, estrutura de dados, documentação inter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dispositivos eletrônicos (CPU, memória) e eletromecânicos (sensores, motore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3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essoa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usuários e operadores de hardware e softw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4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Banco de Dado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coleção organizada de informaçõ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5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Documentação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manuais, formulários, etc que retratam o uso e oper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6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rocedimento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s passos que definem o uso de cada elem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Desafi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 papel do Engenheiro de Software é definir os elementos para um sistema computacional específico no contexto geral da hierarquia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É importante ter tempo para compreender todos os elementos do sistema na qual o produto software residirá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7:16:00Z</dcterms:created>
  <dc:creator>Marcelo Turine</dc:creator>
  <dc:description/>
  <dc:language>en-US</dc:language>
  <cp:lastModifiedBy>teste</cp:lastModifiedBy>
  <cp:lastPrinted>1998-03-26T22:36:14Z</cp:lastPrinted>
  <dcterms:modified xsi:type="dcterms:W3CDTF">2002-04-26T01:07:50Z</dcterms:modified>
  <cp:revision>121</cp:revision>
  <dc:subject/>
  <dc:title>Engenharia de Sistemas  Capítulo 5</dc:title>
</cp:coreProperties>
</file>