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8DB-3AFD-4904-9DFE-3C0A55A5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BA0-9AAF-4FC7-8481-0D7306AA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B86-AD0B-48C0-B9B7-D4FDB74D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C65-92D6-4CF9-9F1B-EC5AF03F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AA8D-7324-4F3F-BCDA-A226AB44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3B2A-1460-45DA-AC14-DE1B21E2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D80E-A3D6-4DE5-A918-8762016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0BF-47BF-48E6-84F8-25643B66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9EE-2ABF-419F-9B49-093934D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738-47B3-4A20-99DE-36F989F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0376-CC0C-4BEF-A81B-0C4AF38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BFB-9DDC-4BA5-954E-C9BE5F8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416-FBC5-4705-B016-AB00360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9AB2-7FA7-4BCD-9BD3-87C7E0F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BCC7-795D-43F3-8776-C5198AA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DC9D-9F74-4B65-9F7B-34DB6782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0707-F187-4FBB-B699-A8B2E952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96B-508E-4D51-9A1B-63D32A64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383-CCB0-4053-8D30-2F6F02BA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F41-374F-4E1C-B792-762C292A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EEF-140E-43AB-BF61-B42B2BA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6C7-A47F-40B4-BB09-C68FCAB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016-6DE6-4ED0-BAE2-6801AC0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F25-9EFD-4CEC-BF94-9DBD443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8600" y="-7920"/>
            <a:ext cx="990360" cy="683748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8600" y="1690560"/>
            <a:ext cx="990360" cy="5018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48600" y="128268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8600" y="14616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48600" y="982800"/>
            <a:ext cx="990360" cy="3492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8600" y="677880"/>
            <a:ext cx="990360" cy="43164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8600" y="369720"/>
            <a:ext cx="1003320" cy="37476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0680" y="3935520"/>
            <a:ext cx="990360" cy="5000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40680" y="353232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40680" y="2392200"/>
            <a:ext cx="990360" cy="3049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40680" y="3228840"/>
            <a:ext cx="990360" cy="349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40680" y="2925720"/>
            <a:ext cx="990360" cy="428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40680" y="261468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48600" y="496728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48600" y="455940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40680" y="566748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 rot="16200000">
            <a:off x="364320" y="6182280"/>
            <a:ext cx="34596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40680" y="6199200"/>
            <a:ext cx="990360" cy="43020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flipH="1">
            <a:off x="40680" y="588960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H="1" rot="16200000">
            <a:off x="-3102840" y="3097080"/>
            <a:ext cx="685800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flipH="1" rot="16200000">
            <a:off x="-2514240" y="3273120"/>
            <a:ext cx="68562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8749-A92F-48AF-A446-6980D28A6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3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4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A3CE-79FB-43D1-9B14-3A2DA4F1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etricas.tw.eng.br/htmls/cocomo-x.html" TargetMode="External"/><Relationship Id="rId2" Type="http://schemas.openxmlformats.org/officeDocument/2006/relationships/hyperlink" Target="http://metricas.tw.eng.br/htmls/cocomo2x.html" TargetMode="External"/><Relationship Id="rId3" Type="http://schemas.openxmlformats.org/officeDocument/2006/relationships/hyperlink" Target="http://metricas.tw.eng.br/htmls/delphi-x.html" TargetMode="External"/><Relationship Id="rId4" Type="http://schemas.openxmlformats.org/officeDocument/2006/relationships/hyperlink" Target="http://metricas.tw.eng.br/htmls/fp-x.html" TargetMode="External"/><Relationship Id="rId5" Type="http://schemas.openxmlformats.org/officeDocument/2006/relationships/hyperlink" Target="http://metricas.tw.eng.br/htmls/fpa-x.html" TargetMode="External"/><Relationship Id="rId6" Type="http://schemas.openxmlformats.org/officeDocument/2006/relationships/hyperlink" Target="http://metricas.tw.eng.br/htmls/halstead-x.html" TargetMode="External"/><Relationship Id="rId7" Type="http://schemas.openxmlformats.org/officeDocument/2006/relationships/hyperlink" Target="http://metricas.tw.eng.br/htmls/lincod-x.html" TargetMode="External"/><Relationship Id="rId8" Type="http://schemas.openxmlformats.org/officeDocument/2006/relationships/hyperlink" Target="http://metricas.tw.eng.br/htmls/ciclomtc-x.html" TargetMode="External"/><Relationship Id="rId9" Type="http://schemas.openxmlformats.org/officeDocument/2006/relationships/hyperlink" Target="http://metricas.tw.eng.br/htmls/ciclomtc-x.html" TargetMode="External"/><Relationship Id="rId10" Type="http://schemas.openxmlformats.org/officeDocument/2006/relationships/hyperlink" Target="http://metricas.tw.eng.br/htmls/fpa-oo-x.html" TargetMode="External"/><Relationship Id="rId11" Type="http://schemas.openxmlformats.org/officeDocument/2006/relationships/hyperlink" Target="http://metricas.tw.eng.br/htmls/pslimm-x.html" TargetMode="External"/><Relationship Id="rId12" Type="http://schemas.openxmlformats.org/officeDocument/2006/relationships/hyperlink" Target="http://metricas.tw.eng.br/htmls/pslimm-x.html" TargetMode="External"/><Relationship Id="rId13" Type="http://schemas.openxmlformats.org/officeDocument/2006/relationships/hyperlink" Target="http://metricas.tw.eng.br/htmls/regress-x.html" TargetMode="External"/><Relationship Id="rId14" Type="http://schemas.openxmlformats.org/officeDocument/2006/relationships/hyperlink" Target="http://metricas.tw.eng.br/htmls/tlp-x.html" TargetMode="External"/><Relationship Id="rId15" Type="http://schemas.openxmlformats.org/officeDocument/2006/relationships/hyperlink" Target="http://metricas.tw.eng.br/htmls/uim-x.html" TargetMode="External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nidade 4: </a:t>
            </a: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étricas de Processo e Projeto de Softwa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95120" y="38098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ódulo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Gerenciamento de Projetos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fornece uma indicação quantitativa do tamanho de algum produto ou atributo do processo (indic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r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e a ação de obter a m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: medida quantitativa do grau que um sistema, componente ou processo controla um dado a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resultado/dado é coletado (número de erros descobertos na revisão de um módulo), uma medida é estabele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r ocorre como resultado da coleção de um ou mais dados (número de módulos são investigados para coletar medidas de número de er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rica de software relaciona medidas individuais de alguma forma (média de número de erros encontrados por revisão, média de número de erros encontrados por pessoa/h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enheiro de software coleta medidas e desenvolve métricas a fim de obter indicadores para ajustar a gerência de projeto e o processo de desenvolvimen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g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0"/>
            <a:ext cx="66819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Arial Narrow"/>
              </a:rPr>
              <a:t>Qualidad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066680"/>
            <a:ext cx="7770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spectiva Histórica da Engenharia de Software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60 - Era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70 - Era do 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80 - Era do Cu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90 e depois - Era da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idade não é um fator de vantagem no mercado, mas é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necess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a garantia da competitiv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or que Medir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edidas do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azões para se medir 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) indicar a qual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) avaliar a produtividade dos que desenvolvem 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) determinar os benefícios derivados de novos métodos e ferramentas de engenharia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) formar uma base para as estim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) ajudar na justificativa de aquisição de novas ferramentas ou de treinamento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de processo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usadas para avaliar as atividades no desenvolvimento do software (intenção de melhorar tais atividade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abilitar a organização a criar decisões estratégicas sobre como melhorar as atividades de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s não deveriam ser usadas para avaliar o desempenho dos indiví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tísticas do process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uso de métricas ajuda a melhorar o processo de desenvolvimento e gerência de projetos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icações na Garantia de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importante expor as razões para usar métricas de modo que possa apreciar seu potencial em monitorar custos e cronogramas no desenvolvimento de projetos fut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de p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r o status do proje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utilizadas para evitar atrasos no cronograma e delinear riscos de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r progresso durante desenvolvimento do software e controlar a qual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edidas do Software (Produt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DIR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comprimento de um parafu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para desenvolver, esforço para  desenvolver, linhas de código (LOC), erros, tamanho de memória, velocidade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INDIRE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qualidade dos parafusos produz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idade,  complexidade,  eficiência, confiabilidade, manutenibilidade, funcion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ientadas ao Tama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s diretas da qualidade e produ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ientadas à Fun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s indiretas - funcion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orientadas a taman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5840" y="129492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áceis de serem ob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celentes modelos de estimativas de software são baseados em LOC ou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 é dependente da linguagem de progra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alizam programas bem projetados, mas pequ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e adaptam a linguagens não procedi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íceis de serem obtidas em fase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orientadas à fun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ão derivadas de medidas indiretas do software e do processo através do qual ele é desenvolvido. Concentra-se na funcionalidade do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: métrica proposta por Albrecht em 1979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onto-por-funçã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function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- medidas de informação empí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ÉTRICAS APLICÁV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diversos modelos para mensuração de sistemas computacionais, mais ou menos empíricos, comercialmente vi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COCOM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nstructive COst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COCOMO 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Delph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F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eature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FP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unction Point Analis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Halste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Linhas de Códi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Número </a:t>
            </a: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Ciclomát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McC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OO-FP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Putnam's </a:t>
            </a: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Slim Mod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Regressão Line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Tabela de conversão para Linguagens de Progra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Uso Integrado de métric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uma alternativa viá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ÉTODO DE PONTOS POR FUN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s da lingu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al para aplicações que usam linguagens não procedimen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ada em dados mais fáceis de serem conhecidos na evolução do proje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álculo baseado em dados su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uma medida direta, é apenas um nú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– Si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metricas.tw.eng.br/htmls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FPU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Brazilian Function Point User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oup - Comitê brasileiro de usuários de pontos de função... http://www.bfpug.com.b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E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Asociación Española de Métricas del Software - http://www.aemes.fi.upm.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CO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USC Engineering Research Center - Berço das métricas COCOMO, versões I e II - http://sunset.usc.edu/research/COCOMOII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ture Poin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SPR - Software Process Research, empresa de Capers Jones que pesquisa e explora a métrica FP - http://www.spr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S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European Federation of Software Metrics Associations - Organização que agrega associações de 9 países europeus - http://www.fesm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– Si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FPU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International Function Point Users' Group - Organização internacional que agrega comitês em todo o mundo, dedicados à métrica FPA - http://www.ifpug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ES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Nederlandse Software Metrieken Gebruikers Associatie - Comitê holandês de usuários de pontos de função - http://www.nesma.n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ty Plus Technologi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Empresa de Carol Dekkers, expoente mundial em FP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http://www.qualityplustech.com/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ntativa de se prever o futuro, com base no que aconteceu no passado (Estima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e Planej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Lide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o num jogo de futebol, o líder deve entusiasmar a equipe, aplaudir os seus progressos em direção à baliza incentivando-os a marcar o gol. Mas sem pontuação não há jogo. O entusiasmo é igual a missão vezes a remuneração e o reconhecimento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Ken Blanchard</a:t>
            </a:r>
            <a:r>
              <a:rPr b="1" lang="pt-BR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NECESSIDADE DE ESTIM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uma analogia bem delineada com a engenharia civil,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rag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lt;1996&gt; afirma que não se admite a idéia de construir uma estrada sem antes desenhá-la, executar análises ambientais, dimensioná-la, planejar transposições de obstáculos, calcular custos e analisar ind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gunta: Por que empresas ainda insistem em desenvolver projetos de software sem compilar um conjunto de informações essen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vários motivos, os desenvolvimentos de projetos de software vêm fracassando em expectativas, prazos e custos propo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incipal deles é que, muitas vezes, não haverá sequer um planejamento de como a idéia modelada pelos levantamentos de requisitos e necessidades dos clientes possa ser transformada em um produto. Muitas vezes, sequer haverá um modelo e/ou projeto que permita tal planejamento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pos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s de projeto e processo de software são medidas quantitativas que auxiliam os engenheiros de software a ganha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sigh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eficiência do processo e proje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ência de projeto: produtividade e métricas d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4 razões para medir o processo de software, produtos e recursos: caracterizar, avaliar, predizer e melhorar (aperfeiço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e Planej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800" spc="-1" strike="noStrike">
                <a:solidFill>
                  <a:srgbClr val="003366"/>
                </a:solidFill>
                <a:latin typeface="Arial"/>
              </a:rPr>
              <a:t>Planejam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 planejamento é a função que determina antecipadamente quais são os objetivos que devem ser atingidos e como se deve fazer para alcançá-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lementos chave do processo de gerência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e mé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r é fundamental na engenharia, e ES não é exc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ções e métricas ajudam a entender o processo técnico usado para desenvolver 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cesso é medido para melhorá-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ftware é medido para aumentar sua qu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8:02:20Z</dcterms:created>
  <dc:creator>Marcelo Turine</dc:creator>
  <dc:description/>
  <dc:language>en-US</dc:language>
  <cp:lastModifiedBy>teste</cp:lastModifiedBy>
  <dcterms:modified xsi:type="dcterms:W3CDTF">2002-04-19T02:30:01Z</dcterms:modified>
  <cp:revision>118</cp:revision>
  <dc:subject/>
  <dc:title>Planejamento do Projeto de Software</dc:title>
</cp:coreProperties>
</file>