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8CCC-8D63-43B5-BE05-6A8D6778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AE4-C04C-456D-832A-9249E517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66A8-43E0-4D1D-A28E-DBC28C27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E3B5-54AD-4839-874F-B5F9BD3D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0EDA-E961-4CCB-A7D0-B7C7A6E1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29AE-FFE8-4D9B-B270-C9093DC5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439E-F5D7-469F-96BC-7C32097D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210D-5B35-4775-BB60-288B782D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D4AF-7883-45F2-9E78-52981D06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7DAE-E0BD-4199-8654-D05DD804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09A0-D9F6-4882-BDF5-4DE60680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527-B989-40CA-AB7B-10A9F847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8447-A6A3-4E0C-A603-1CC24097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2A69-7460-4DA4-BC54-1FC817DB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20BC-F1DA-4B11-9B80-EBC5523A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B8E5-2C24-44B2-9216-F06C661E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B67E-1AB4-4BD7-B5AA-62D205A5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6617-D47E-44A8-BBB7-B54C3256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752-4557-47DE-ABB2-3E40AB2C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04EB-C7A9-43F2-9A9E-5BD57A94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636B-49ED-44A5-A99C-E8118199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F5DC-D7C1-4023-BB79-926A9C96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C981-1761-4016-8862-48E02914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87F6-234F-4F9D-952D-2F0092BE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48600" y="-7920"/>
            <a:ext cx="990360" cy="683748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48600" y="1690560"/>
            <a:ext cx="990360" cy="50184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549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48600" y="1282680"/>
            <a:ext cx="990360" cy="50328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48600" y="146160"/>
            <a:ext cx="990360" cy="30312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549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48600" y="982800"/>
            <a:ext cx="990360" cy="3492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48600" y="677880"/>
            <a:ext cx="990360" cy="43164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48600" y="369720"/>
            <a:ext cx="1003320" cy="37476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40680" y="3935520"/>
            <a:ext cx="990360" cy="50004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549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40680" y="3532320"/>
            <a:ext cx="990360" cy="50148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40680" y="2392200"/>
            <a:ext cx="990360" cy="30492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40680" y="3228840"/>
            <a:ext cx="990360" cy="349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40680" y="2925720"/>
            <a:ext cx="990360" cy="428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40680" y="2614680"/>
            <a:ext cx="1003320" cy="3762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48600" y="4967280"/>
            <a:ext cx="990360" cy="50148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48600" y="4559400"/>
            <a:ext cx="990360" cy="50328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40680" y="5667480"/>
            <a:ext cx="990360" cy="30312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 rot="16200000">
            <a:off x="364320" y="6182280"/>
            <a:ext cx="34596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 flipH="1">
            <a:off x="40680" y="6199200"/>
            <a:ext cx="990360" cy="43020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 flipH="1">
            <a:off x="40680" y="5889600"/>
            <a:ext cx="1003320" cy="3762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 flipH="1" rot="16200000">
            <a:off x="-3102840" y="3097080"/>
            <a:ext cx="685800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 flipH="1" rot="16200000">
            <a:off x="-2514240" y="3273120"/>
            <a:ext cx="68562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A1B4-0B9B-4221-BF71-78A529519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3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4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5110-D0DA-4D30-9B11-845F9F1A1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15998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Unidade 3: </a:t>
            </a: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Conceitos de Gerenciamento de Proje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895120" y="3809880"/>
            <a:ext cx="62485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. Dr.  Marcelo Augusto Santos T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CT - UF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t@dct.ufms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0"/>
            <a:ext cx="8534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ódulo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Gerenciamento de Projetos d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Gerência de Projeto... </a:t>
            </a:r>
            <a:r>
              <a:rPr b="0" i="1" lang="pt-BR" sz="2400" spc="-1" strike="noStrike">
                <a:solidFill>
                  <a:srgbClr val="003366"/>
                </a:solidFill>
                <a:latin typeface="Times New Roman"/>
              </a:rPr>
              <a:t>(overview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dos gerenciam, mas o escopo das atividades de gerência de cada pessoa varia de acordo com seu papel/função n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ftware necessita ser gerenciado, pois é um empreendimento complexo em um longo período de t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have: focar nos 4P’s (Pessoa, Produto, Processo, Proje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Gerência de Projeto... </a:t>
            </a:r>
            <a:r>
              <a:rPr b="0" i="1" lang="pt-BR" sz="2400" spc="-1" strike="noStrike">
                <a:solidFill>
                  <a:srgbClr val="003366"/>
                </a:solidFill>
                <a:latin typeface="Times New Roman"/>
              </a:rPr>
              <a:t>(overview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unicação eficiente entre clientes e desenvolvedores é ess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lano de Projeto é um documento que define os 4P’s a fim de assegurar um orçamento eficiente, atendimento no cronograma e qualidade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JETO DEVE SER PLANEJAD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s 4P’s </a:t>
            </a:r>
            <a:r>
              <a:rPr b="0" i="1" lang="pt-BR" sz="2800" spc="-1" strike="noStrike">
                <a:solidFill>
                  <a:srgbClr val="003366"/>
                </a:solidFill>
                <a:latin typeface="Times New Roman"/>
              </a:rPr>
              <a:t>(spectrum da gerência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o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emento mais importante de um projeto bem sucedido (competênc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ftware a ser construído (objetivos, escopo, soluçõ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oc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junto de atividades e tarefas da engenharia 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o trabalho exigido para tornar o produto uma realidade (Plan, Mon, Co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352680" y="3352680"/>
            <a:ext cx="5562720" cy="2806920"/>
            <a:chOff x="3352680" y="3352680"/>
            <a:chExt cx="5562720" cy="2806920"/>
          </a:xfrm>
        </p:grpSpPr>
        <p:sp>
          <p:nvSpPr>
            <p:cNvPr id="163" name=""/>
            <p:cNvSpPr/>
            <p:nvPr/>
          </p:nvSpPr>
          <p:spPr>
            <a:xfrm>
              <a:off x="3352680" y="3352680"/>
              <a:ext cx="5562720" cy="2362320"/>
            </a:xfrm>
            <a:prstGeom prst="cloudCallout">
              <a:avLst>
                <a:gd name="adj1" fmla="val -53194"/>
                <a:gd name="adj2" fmla="val 46842"/>
              </a:avLst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57600" y="3505320"/>
              <a:ext cx="50292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1998 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26% dos projetos de software falham completam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46% custo e cronograma excedem o estim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img0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g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or que os Projetos falham???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img0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sso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tivação, habilidades, conheciment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I desenvolveu PM-CMM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eople management capability maturity mode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(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Key practice are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recrutar, selecionar, gerenciar desempenho, treinar, recompensar, desenvolver na carreira, projeto de trabalho e organização, desenvolvimento/cultura em grupo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ea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layers???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fil Gerente de Projeto -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tivation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ganization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no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ssoa – </a:t>
            </a:r>
            <a:r>
              <a:rPr b="0" i="1" lang="pt-BR" sz="4400" spc="-1" strike="noStrike">
                <a:solidFill>
                  <a:srgbClr val="003366"/>
                </a:solidFill>
                <a:latin typeface="Times New Roman"/>
              </a:rPr>
              <a:t>Players 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(taxonomia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entes Sên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ne o negócio e tem influência significativa no pro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) Gerente Técnico (proje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neja, motiva, organiza e controla os programadores (practitioners) que desenvolvem o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ractitio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tém as habilidades técnicas necessárias para a engenharia do prod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pecifica os requisitos para o software e detém os recursos financei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End-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age com o software após a entr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267080" y="1981080"/>
            <a:ext cx="4114800" cy="4038840"/>
            <a:chOff x="4267080" y="1981080"/>
            <a:chExt cx="4114800" cy="4038840"/>
          </a:xfrm>
        </p:grpSpPr>
        <p:sp>
          <p:nvSpPr>
            <p:cNvPr id="175" name=""/>
            <p:cNvSpPr/>
            <p:nvPr/>
          </p:nvSpPr>
          <p:spPr>
            <a:xfrm>
              <a:off x="4267080" y="1981080"/>
              <a:ext cx="4114800" cy="4038840"/>
            </a:xfrm>
            <a:prstGeom prst="cloudCallout">
              <a:avLst>
                <a:gd name="adj1" fmla="val -88736"/>
                <a:gd name="adj2" fmla="val 6238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0" y="2438280"/>
              <a:ext cx="33940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Para ser eficiente, a equipe de proje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deve ser organizada de forma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maximizar o conhecimento e habilidades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cada pesso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rganização da Software </a:t>
            </a:r>
            <a:r>
              <a:rPr b="0" i="1" lang="pt-BR" sz="4400" spc="-1" strike="noStrike">
                <a:solidFill>
                  <a:srgbClr val="003366"/>
                </a:solidFill>
                <a:latin typeface="Times New Roman"/>
              </a:rPr>
              <a:t>Te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rutura da organização –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cance: organização das pessoas envolvidas diretamente no novo projeto d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gest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mocrática Descentraliza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não tem um líder permanente, coordenadores de tarefa, consenso gira entre os coordenadores e do grupo da tarefa (com. Horizon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trolado Descentralizad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líder permanente, solução do problema pelo grupo, execução do subgrupo das soluções  (com. Horizontal e Verti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trolado Centralizad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lução de problema no nível superior e coordenação interna controlado pelo líder da equipe  (com. Verti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Gerência de Proje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que 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que s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ipos de Proble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lemas complex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randes Proje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lemas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aixa modularid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ta modularid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019920" y="1371600"/>
            <a:ext cx="2743200" cy="4876920"/>
            <a:chOff x="6019920" y="1371600"/>
            <a:chExt cx="2743200" cy="4876920"/>
          </a:xfrm>
        </p:grpSpPr>
        <p:sp>
          <p:nvSpPr>
            <p:cNvPr id="182" name=""/>
            <p:cNvSpPr/>
            <p:nvPr/>
          </p:nvSpPr>
          <p:spPr>
            <a:xfrm>
              <a:off x="6019920" y="1371600"/>
              <a:ext cx="2743200" cy="4876920"/>
            </a:xfrm>
            <a:prstGeom prst="wedgeRectCallout">
              <a:avLst>
                <a:gd name="adj1" fmla="val -110532"/>
                <a:gd name="adj2" fmla="val 4537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21000" y="2057400"/>
              <a:ext cx="12567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CD ou 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CC ou C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724280" y="320040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5334120"/>
            <a:ext cx="349884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Modelos de Proces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img0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img0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du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143000" y="2133720"/>
          <a:ext cx="769608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769608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finição do escopo do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egurar que o produto desenvolvido é o produto solici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op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não ambígu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exto (negócio, restriçõ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formação objetiva (entrada, saí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ção e Desempe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du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envolvedor do software e o cliente devem reunir-se para definir os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objetiv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o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escop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o projeto ..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processo de Engenharia de Siste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bjetiv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identificar as metas globais do projeto sem levar em consideração como ating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scop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identificar as funções principais que o software deve realizar (delimit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du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composição do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t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úcleo da análise de requis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du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ces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ses genéricas: definição, desenvolvimento e su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Aplicáveis a todos softw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blema: selecionar o modelo de processo apropriado para o software sendo construído por um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team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 de processo escolhido deve ser apropriado p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ustom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desenvolv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prod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biente de desenvolvimento (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173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problemas podem ser evitad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el (1999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ropõe 10 pistas que indicam que um projeto de SI está em ris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ssoas não entendem as necessidades do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copo do produto é definida poorlyyyyy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danças são gerenciadas poorlyyyyy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cnologia escolhida m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cessidades do negócio não são defin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adline não é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uários são res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trocínio não foi obt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 Team falta pessoas com habilidades apropri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entes evitam melhores práticas ou lições aprend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je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173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os gerentes atuam para evitar os problemas apenas indica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el (1999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ropõe uma abordagem de projeto de software em 5 partes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.....leitura para a próxima 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ownload de arquivo no website da disciplin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je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752480" y="2133720"/>
            <a:ext cx="5943600" cy="3450600"/>
            <a:chOff x="1752480" y="2133720"/>
            <a:chExt cx="5943600" cy="3450600"/>
          </a:xfrm>
        </p:grpSpPr>
        <p:sp>
          <p:nvSpPr>
            <p:cNvPr id="132" name=""/>
            <p:cNvSpPr/>
            <p:nvPr/>
          </p:nvSpPr>
          <p:spPr>
            <a:xfrm>
              <a:off x="1752480" y="2154240"/>
              <a:ext cx="5943600" cy="342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02120" y="21337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Planej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39760" y="360072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Organiz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53320" y="512460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irig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5160" y="358164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ontrol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" name=""/>
            <p:cNvCxnSpPr>
              <a:stCxn id="133" idx="3"/>
              <a:endCxn id="134" idx="0"/>
            </p:cNvCxnSpPr>
            <p:nvPr/>
          </p:nvCxnSpPr>
          <p:spPr>
            <a:xfrm>
              <a:off x="5370120" y="2362320"/>
              <a:ext cx="1072440" cy="12391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8" name=""/>
            <p:cNvCxnSpPr>
              <a:stCxn id="134" idx="2"/>
              <a:endCxn id="135" idx="3"/>
            </p:cNvCxnSpPr>
            <p:nvPr/>
          </p:nvCxnSpPr>
          <p:spPr>
            <a:xfrm rot="5400000">
              <a:off x="5189760" y="4101480"/>
              <a:ext cx="1296000" cy="12088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9" name=""/>
            <p:cNvCxnSpPr>
              <a:stCxn id="136" idx="2"/>
              <a:endCxn id="135" idx="1"/>
            </p:cNvCxnSpPr>
            <p:nvPr/>
          </p:nvCxnSpPr>
          <p:spPr>
            <a:xfrm flipH="1" rot="16200000">
              <a:off x="2873520" y="4074840"/>
              <a:ext cx="1315080" cy="124200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0" name=""/>
            <p:cNvCxnSpPr>
              <a:stCxn id="136" idx="0"/>
              <a:endCxn id="133" idx="1"/>
            </p:cNvCxnSpPr>
            <p:nvPr/>
          </p:nvCxnSpPr>
          <p:spPr>
            <a:xfrm flipH="1" flipV="1" rot="5400000">
              <a:off x="2846160" y="2426760"/>
              <a:ext cx="1220040" cy="1090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1" name=""/>
            <p:cNvCxnSpPr>
              <a:stCxn id="133" idx="2"/>
              <a:endCxn id="135" idx="0"/>
            </p:cNvCxnSpPr>
            <p:nvPr/>
          </p:nvCxnSpPr>
          <p:spPr>
            <a:xfrm>
              <a:off x="4686480" y="2590920"/>
              <a:ext cx="8640" cy="2534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2" name=""/>
            <p:cNvCxnSpPr>
              <a:stCxn id="136" idx="3"/>
              <a:endCxn id="134" idx="1"/>
            </p:cNvCxnSpPr>
            <p:nvPr/>
          </p:nvCxnSpPr>
          <p:spPr>
            <a:xfrm>
              <a:off x="3688920" y="3809880"/>
              <a:ext cx="1950120" cy="19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43" name="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Gerência de Projeto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incípio Boehm’s W</a:t>
            </a:r>
            <a:r>
              <a:rPr b="0" lang="pt-BR" sz="4400" spc="-1" strike="noStrike" baseline="30000">
                <a:solidFill>
                  <a:srgbClr val="003366"/>
                </a:solidFill>
                <a:latin typeface="Times New Roman"/>
              </a:rPr>
              <a:t>5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H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1312920"/>
          <a:ext cx="914400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12920"/>
                    <a:ext cx="91440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609480" y="1849320"/>
          <a:ext cx="8153640" cy="500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49320"/>
                    <a:ext cx="815364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3366"/>
                </a:solidFill>
                <a:latin typeface="Times New Roman"/>
              </a:rPr>
              <a:t>Airlie Council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i="1" lang="pt-BR" sz="2800" spc="-1" strike="noStrike">
                <a:solidFill>
                  <a:srgbClr val="003366"/>
                </a:solidFill>
                <a:latin typeface="Times New Roman"/>
              </a:rPr>
              <a:t>team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 ES do Departamento de Defesa EUA – propõe guidelines – questões...tópicos..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lano de Projeto de Softwa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car o escopo e os recursos de gerenciamento de software, ao pessoal técnico e ao cliente do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os riscos e sugerir técnicas para evitá-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custos e prazos para revisões geren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ferecer uma abordagem geral ao desenvolvimento do software para todas as pessoas envolvidas n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como a qualidade será garantida e mudanças gerenci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lano de Proje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ncipal documento referente aos aspectos da Gerênci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cumento que serve de base para a engenharia de hardware, software, banco de dados e hum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creve a função e o desempenho de um sistema e as restrições que orientarão seu desenvolv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creve as informações que entram e saem do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lano de Projeto de Softwa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duzido no término das tarefas de Planej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ornece informações básicas sobre CUSTO e PROGRAMAÇÃO dos recursos ao longo do proc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cumento breve que se destina a um público dive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cumento não está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lano de Projeto de Softwa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cumento Descri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reve nas suas Se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ão deve deixar interpretações ambíguas, etc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Esboço do Plan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su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. Ín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. 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.1. Motiv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.2.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.3. Esco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.4. Público al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.5. Restrições e Ris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Esboço do Plan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3. Descrição Arquite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.1. Diagrama de contexto da arquitetura (D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.2. Especificação do diagrama de arquitetura para os sub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.3. Dicionário da Arquite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37160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4.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Recursos humanos, de hardware e d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5. Estimativa de custos de desenvolv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6. Cron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de de tarefas, Gráficos de Gan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belas de recursos x taref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7. Conclusões em pro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Esboço do Pl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Gerência de Proje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78000"/>
                <a:tab algn="l" pos="95256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Cap 3 - Conceitos de Gerência de Proje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78000"/>
                <a:tab algn="l" pos="95256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Cap 4 - Métricas de Projeto e Processo de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78000"/>
                <a:tab algn="l" pos="95256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Cap 5 … Planejamento de Projeto de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78000"/>
                <a:tab algn="l" pos="95256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Cap 6 … Análise e Gerência de Ris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78000"/>
                <a:tab algn="l" pos="95256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Cap 7 … Controle e Acompanhamento de Proje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78000"/>
                <a:tab algn="l" pos="95256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Cap 8 … Garantia de Qualidade de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78000"/>
                <a:tab algn="l" pos="95256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Cap 9 - Gerenciamento de Configuração de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Gerência de Projetos...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atividade mais crítica é a que envolve o fator hum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software é totalmente dependente da habilidade dos desenvolvedores, que devem estar preparados e comprometidos com o proc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gestão de projeto necessita de processos madu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minar ciclo de vida do software, metodologia de desenvolvimento, pessoal bem treinado e capaci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rocesso de Gerência de Proje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5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..oferece compreen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copo do trabal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finir os ris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cursos exig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arefas execut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forço (custo) despend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gramação/Cronograma a ser segu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Nunca há tempo suficiente.....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tempo é o mais valioso bem disponível a um Engenheiro de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 houver tempo disponível, um problema pode ser adequadamente analisado, uma solução pode ser compreensivamente projetada, o código fonte cuidadosamente implementado e tes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Às vezes parece que, em nossa ansiedade para começar, não despendemos tempo para organizar nossas ações”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planejamento de projetos de software obriga gerentes e profissionais a despender esse t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Conceitos e Princípios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have que conduzem a uma gerência de projetos de software efi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Gerência de Projeto... </a:t>
            </a:r>
            <a:r>
              <a:rPr b="0" i="1" lang="pt-BR" sz="2400" spc="-1" strike="noStrike">
                <a:solidFill>
                  <a:srgbClr val="003366"/>
                </a:solidFill>
                <a:latin typeface="Times New Roman"/>
              </a:rPr>
              <a:t>(overview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atividade guarda-chuva dentro da engenharia d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eça antes do início de qualquer atividade técnica e continua na definição, desenvolvimento e suporte do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volv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planejamen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monitoramen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control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pessoas, processo e eventos que ocorrem durante o desenvolvimento do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5T18:02:20Z</dcterms:created>
  <dc:creator>Marcelo Turine</dc:creator>
  <dc:description/>
  <dc:language>en-US</dc:language>
  <cp:lastModifiedBy>teste</cp:lastModifiedBy>
  <dcterms:modified xsi:type="dcterms:W3CDTF">2002-04-19T02:22:01Z</dcterms:modified>
  <cp:revision>97</cp:revision>
  <dc:subject/>
  <dc:title>Planejamento do Projeto de Software</dc:title>
</cp:coreProperties>
</file>