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3840" y="731520"/>
            <a:ext cx="48117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B0E-21FC-449A-80AF-647A1B594EE4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223D-3F6E-4C66-BD38-64A8BE9F202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15920" y="725400"/>
            <a:ext cx="4827600" cy="3621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E6F-6AA9-4A62-A0C3-6517BFF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3DB-BC0A-4D61-B349-4F06D602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04B-BE61-47FD-869B-F03E35DB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721-BF7F-4253-AFF0-5BFC3C4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103-8EFB-40EF-8F9F-4E0DCAA8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39F-C140-4BFB-8286-37046F12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3CA-4CEF-4097-B526-A626697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B33-C29B-48F8-8665-1D1C6CD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9AC-9A58-4A7E-8D75-E87B951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65E-0D0A-4364-A276-C2DC17E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D3A-FB29-4467-A41C-9BDEE0F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B64-285A-4862-9BCB-36ABAE2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D84-46B0-4751-AD2F-5C2BE15C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e 13 - Princípios e Conceitos de Projeto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e 14 - Projeto Arquitetural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120" y="533376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e II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33"/>
                </a:solidFill>
                <a:latin typeface="Arial"/>
              </a:rPr>
              <a:t>Métodos Convencionais para Engenharia de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Importância do Projeto - QUALIDADE - fundaçã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6640" y="5241960"/>
            <a:ext cx="22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Rounded MT Bold"/>
              </a:rPr>
              <a:t>COM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20880" y="2368440"/>
            <a:ext cx="3416040" cy="2730600"/>
            <a:chOff x="920880" y="2368440"/>
            <a:chExt cx="3416040" cy="2730600"/>
          </a:xfrm>
        </p:grpSpPr>
        <p:sp>
          <p:nvSpPr>
            <p:cNvPr id="83" name=""/>
            <p:cNvSpPr/>
            <p:nvPr/>
          </p:nvSpPr>
          <p:spPr>
            <a:xfrm>
              <a:off x="1448280" y="3870360"/>
              <a:ext cx="244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Implement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8840" y="4556160"/>
              <a:ext cx="122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Pro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530360" y="2368440"/>
              <a:ext cx="2120760" cy="673200"/>
              <a:chOff x="1530360" y="2368440"/>
              <a:chExt cx="2120760" cy="673200"/>
            </a:xfrm>
          </p:grpSpPr>
          <p:sp>
            <p:nvSpPr>
              <p:cNvPr id="86" name=""/>
              <p:cNvSpPr/>
              <p:nvPr/>
            </p:nvSpPr>
            <p:spPr>
              <a:xfrm>
                <a:off x="1596600" y="2498760"/>
                <a:ext cx="198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Rounded MT Bold"/>
                  </a:rPr>
                  <a:t>Manutençã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30360" y="2368440"/>
                <a:ext cx="2120760" cy="673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145240" y="3184560"/>
              <a:ext cx="95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Te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8080" y="3054240"/>
              <a:ext cx="250164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9480" y="3740040"/>
              <a:ext cx="295884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880" y="4425840"/>
              <a:ext cx="341604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5800" y="5181480"/>
            <a:ext cx="4114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51440" y="5749920"/>
            <a:ext cx="22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Rounded MT Bold"/>
              </a:rPr>
              <a:t>SEM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24280" y="1828800"/>
            <a:ext cx="3697200" cy="3841200"/>
            <a:chOff x="4724280" y="1828800"/>
            <a:chExt cx="3697200" cy="3841200"/>
          </a:xfrm>
        </p:grpSpPr>
        <p:sp>
          <p:nvSpPr>
            <p:cNvPr id="95" name=""/>
            <p:cNvSpPr/>
            <p:nvPr/>
          </p:nvSpPr>
          <p:spPr>
            <a:xfrm>
              <a:off x="5460840" y="2765520"/>
              <a:ext cx="236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Manuten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74880" y="4060800"/>
              <a:ext cx="244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Implement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10800000">
              <a:off x="5162400" y="4082760"/>
              <a:ext cx="2882880" cy="15872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238720" y="3397320"/>
              <a:ext cx="2654280" cy="672840"/>
              <a:chOff x="5238720" y="3397320"/>
              <a:chExt cx="2654280" cy="672840"/>
            </a:xfrm>
          </p:grpSpPr>
          <p:sp>
            <p:nvSpPr>
              <p:cNvPr id="99" name=""/>
              <p:cNvSpPr/>
              <p:nvPr/>
            </p:nvSpPr>
            <p:spPr>
              <a:xfrm>
                <a:off x="5998680" y="3527280"/>
                <a:ext cx="954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Rounded MT Bold"/>
                  </a:rPr>
                  <a:t>Tes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38720" y="3397320"/>
                <a:ext cx="2654280" cy="672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724280" y="1828800"/>
              <a:ext cx="3697200" cy="1563480"/>
            </a:xfrm>
            <a:custGeom>
              <a:avLst/>
              <a:gdLst/>
              <a:ahLst/>
              <a:rect l="l" t="t" r="r" b="b"/>
              <a:pathLst>
                <a:path w="2329" h="985">
                  <a:moveTo>
                    <a:pt x="1904" y="984"/>
                  </a:moveTo>
                  <a:lnTo>
                    <a:pt x="1928" y="952"/>
                  </a:lnTo>
                  <a:lnTo>
                    <a:pt x="1960" y="944"/>
                  </a:lnTo>
                  <a:lnTo>
                    <a:pt x="2000" y="928"/>
                  </a:lnTo>
                  <a:lnTo>
                    <a:pt x="2024" y="920"/>
                  </a:lnTo>
                  <a:lnTo>
                    <a:pt x="2048" y="912"/>
                  </a:lnTo>
                  <a:lnTo>
                    <a:pt x="2064" y="888"/>
                  </a:lnTo>
                  <a:lnTo>
                    <a:pt x="2088" y="864"/>
                  </a:lnTo>
                  <a:lnTo>
                    <a:pt x="2112" y="856"/>
                  </a:lnTo>
                  <a:lnTo>
                    <a:pt x="2136" y="848"/>
                  </a:lnTo>
                  <a:lnTo>
                    <a:pt x="2168" y="840"/>
                  </a:lnTo>
                  <a:lnTo>
                    <a:pt x="2192" y="832"/>
                  </a:lnTo>
                  <a:lnTo>
                    <a:pt x="2216" y="824"/>
                  </a:lnTo>
                  <a:lnTo>
                    <a:pt x="2232" y="800"/>
                  </a:lnTo>
                  <a:lnTo>
                    <a:pt x="2248" y="776"/>
                  </a:lnTo>
                  <a:lnTo>
                    <a:pt x="2272" y="752"/>
                  </a:lnTo>
                  <a:lnTo>
                    <a:pt x="2288" y="728"/>
                  </a:lnTo>
                  <a:lnTo>
                    <a:pt x="2296" y="704"/>
                  </a:lnTo>
                  <a:lnTo>
                    <a:pt x="2304" y="664"/>
                  </a:lnTo>
                  <a:lnTo>
                    <a:pt x="2312" y="640"/>
                  </a:lnTo>
                  <a:lnTo>
                    <a:pt x="2328" y="608"/>
                  </a:lnTo>
                  <a:lnTo>
                    <a:pt x="2328" y="568"/>
                  </a:lnTo>
                  <a:lnTo>
                    <a:pt x="2320" y="544"/>
                  </a:lnTo>
                  <a:lnTo>
                    <a:pt x="2304" y="520"/>
                  </a:lnTo>
                  <a:lnTo>
                    <a:pt x="2288" y="496"/>
                  </a:lnTo>
                  <a:lnTo>
                    <a:pt x="2288" y="456"/>
                  </a:lnTo>
                  <a:lnTo>
                    <a:pt x="2296" y="416"/>
                  </a:lnTo>
                  <a:lnTo>
                    <a:pt x="2304" y="384"/>
                  </a:lnTo>
                  <a:lnTo>
                    <a:pt x="2312" y="360"/>
                  </a:lnTo>
                  <a:lnTo>
                    <a:pt x="2312" y="328"/>
                  </a:lnTo>
                  <a:lnTo>
                    <a:pt x="2312" y="304"/>
                  </a:lnTo>
                  <a:lnTo>
                    <a:pt x="2304" y="280"/>
                  </a:lnTo>
                  <a:lnTo>
                    <a:pt x="2264" y="248"/>
                  </a:lnTo>
                  <a:lnTo>
                    <a:pt x="2240" y="240"/>
                  </a:lnTo>
                  <a:lnTo>
                    <a:pt x="2208" y="240"/>
                  </a:lnTo>
                  <a:lnTo>
                    <a:pt x="2176" y="264"/>
                  </a:lnTo>
                  <a:lnTo>
                    <a:pt x="2152" y="272"/>
                  </a:lnTo>
                  <a:lnTo>
                    <a:pt x="2056" y="272"/>
                  </a:lnTo>
                  <a:lnTo>
                    <a:pt x="2024" y="264"/>
                  </a:lnTo>
                  <a:lnTo>
                    <a:pt x="2000" y="256"/>
                  </a:lnTo>
                  <a:lnTo>
                    <a:pt x="1976" y="248"/>
                  </a:lnTo>
                  <a:lnTo>
                    <a:pt x="1952" y="256"/>
                  </a:lnTo>
                  <a:lnTo>
                    <a:pt x="1920" y="256"/>
                  </a:lnTo>
                  <a:lnTo>
                    <a:pt x="1888" y="272"/>
                  </a:lnTo>
                  <a:lnTo>
                    <a:pt x="1864" y="280"/>
                  </a:lnTo>
                  <a:lnTo>
                    <a:pt x="1840" y="256"/>
                  </a:lnTo>
                  <a:lnTo>
                    <a:pt x="1816" y="232"/>
                  </a:lnTo>
                  <a:lnTo>
                    <a:pt x="1784" y="200"/>
                  </a:lnTo>
                  <a:lnTo>
                    <a:pt x="1760" y="176"/>
                  </a:lnTo>
                  <a:lnTo>
                    <a:pt x="1736" y="160"/>
                  </a:lnTo>
                  <a:lnTo>
                    <a:pt x="1656" y="152"/>
                  </a:lnTo>
                  <a:lnTo>
                    <a:pt x="1632" y="152"/>
                  </a:lnTo>
                  <a:lnTo>
                    <a:pt x="1600" y="136"/>
                  </a:lnTo>
                  <a:lnTo>
                    <a:pt x="1576" y="128"/>
                  </a:lnTo>
                  <a:lnTo>
                    <a:pt x="1552" y="112"/>
                  </a:lnTo>
                  <a:lnTo>
                    <a:pt x="1528" y="88"/>
                  </a:lnTo>
                  <a:lnTo>
                    <a:pt x="1432" y="56"/>
                  </a:lnTo>
                  <a:lnTo>
                    <a:pt x="1320" y="24"/>
                  </a:lnTo>
                  <a:lnTo>
                    <a:pt x="1224" y="8"/>
                  </a:lnTo>
                  <a:lnTo>
                    <a:pt x="1192" y="0"/>
                  </a:lnTo>
                  <a:lnTo>
                    <a:pt x="1160" y="8"/>
                  </a:lnTo>
                  <a:lnTo>
                    <a:pt x="1136" y="40"/>
                  </a:lnTo>
                  <a:lnTo>
                    <a:pt x="1120" y="64"/>
                  </a:lnTo>
                  <a:lnTo>
                    <a:pt x="1120" y="88"/>
                  </a:lnTo>
                  <a:lnTo>
                    <a:pt x="1104" y="112"/>
                  </a:lnTo>
                  <a:lnTo>
                    <a:pt x="1064" y="120"/>
                  </a:lnTo>
                  <a:lnTo>
                    <a:pt x="1032" y="120"/>
                  </a:lnTo>
                  <a:lnTo>
                    <a:pt x="1000" y="120"/>
                  </a:lnTo>
                  <a:lnTo>
                    <a:pt x="976" y="112"/>
                  </a:lnTo>
                  <a:lnTo>
                    <a:pt x="952" y="96"/>
                  </a:lnTo>
                  <a:lnTo>
                    <a:pt x="920" y="88"/>
                  </a:lnTo>
                  <a:lnTo>
                    <a:pt x="896" y="88"/>
                  </a:lnTo>
                  <a:lnTo>
                    <a:pt x="864" y="80"/>
                  </a:lnTo>
                  <a:lnTo>
                    <a:pt x="832" y="72"/>
                  </a:lnTo>
                  <a:lnTo>
                    <a:pt x="800" y="72"/>
                  </a:lnTo>
                  <a:lnTo>
                    <a:pt x="776" y="64"/>
                  </a:lnTo>
                  <a:lnTo>
                    <a:pt x="744" y="56"/>
                  </a:lnTo>
                  <a:lnTo>
                    <a:pt x="696" y="56"/>
                  </a:lnTo>
                  <a:lnTo>
                    <a:pt x="664" y="64"/>
                  </a:lnTo>
                  <a:lnTo>
                    <a:pt x="632" y="72"/>
                  </a:lnTo>
                  <a:lnTo>
                    <a:pt x="608" y="88"/>
                  </a:lnTo>
                  <a:lnTo>
                    <a:pt x="584" y="104"/>
                  </a:lnTo>
                  <a:lnTo>
                    <a:pt x="560" y="128"/>
                  </a:lnTo>
                  <a:lnTo>
                    <a:pt x="528" y="136"/>
                  </a:lnTo>
                  <a:lnTo>
                    <a:pt x="504" y="144"/>
                  </a:lnTo>
                  <a:lnTo>
                    <a:pt x="480" y="152"/>
                  </a:lnTo>
                  <a:lnTo>
                    <a:pt x="456" y="160"/>
                  </a:lnTo>
                  <a:lnTo>
                    <a:pt x="408" y="160"/>
                  </a:lnTo>
                  <a:lnTo>
                    <a:pt x="384" y="160"/>
                  </a:lnTo>
                  <a:lnTo>
                    <a:pt x="360" y="160"/>
                  </a:lnTo>
                  <a:lnTo>
                    <a:pt x="328" y="160"/>
                  </a:lnTo>
                  <a:lnTo>
                    <a:pt x="248" y="160"/>
                  </a:lnTo>
                  <a:lnTo>
                    <a:pt x="216" y="160"/>
                  </a:lnTo>
                  <a:lnTo>
                    <a:pt x="176" y="160"/>
                  </a:lnTo>
                  <a:lnTo>
                    <a:pt x="152" y="160"/>
                  </a:lnTo>
                  <a:lnTo>
                    <a:pt x="128" y="168"/>
                  </a:lnTo>
                  <a:lnTo>
                    <a:pt x="96" y="184"/>
                  </a:lnTo>
                  <a:lnTo>
                    <a:pt x="64" y="208"/>
                  </a:lnTo>
                  <a:lnTo>
                    <a:pt x="40" y="224"/>
                  </a:lnTo>
                  <a:lnTo>
                    <a:pt x="16" y="256"/>
                  </a:lnTo>
                  <a:lnTo>
                    <a:pt x="0" y="280"/>
                  </a:lnTo>
                  <a:lnTo>
                    <a:pt x="8" y="304"/>
                  </a:lnTo>
                  <a:lnTo>
                    <a:pt x="8" y="344"/>
                  </a:lnTo>
                  <a:lnTo>
                    <a:pt x="0" y="376"/>
                  </a:lnTo>
                  <a:lnTo>
                    <a:pt x="8" y="408"/>
                  </a:lnTo>
                  <a:lnTo>
                    <a:pt x="32" y="448"/>
                  </a:lnTo>
                  <a:lnTo>
                    <a:pt x="56" y="464"/>
                  </a:lnTo>
                  <a:lnTo>
                    <a:pt x="80" y="488"/>
                  </a:lnTo>
                  <a:lnTo>
                    <a:pt x="104" y="504"/>
                  </a:lnTo>
                  <a:lnTo>
                    <a:pt x="120" y="528"/>
                  </a:lnTo>
                  <a:lnTo>
                    <a:pt x="112" y="552"/>
                  </a:lnTo>
                  <a:lnTo>
                    <a:pt x="104" y="576"/>
                  </a:lnTo>
                  <a:lnTo>
                    <a:pt x="96" y="600"/>
                  </a:lnTo>
                  <a:lnTo>
                    <a:pt x="104" y="624"/>
                  </a:lnTo>
                  <a:lnTo>
                    <a:pt x="128" y="640"/>
                  </a:lnTo>
                  <a:lnTo>
                    <a:pt x="144" y="664"/>
                  </a:lnTo>
                  <a:lnTo>
                    <a:pt x="168" y="672"/>
                  </a:lnTo>
                  <a:lnTo>
                    <a:pt x="176" y="696"/>
                  </a:lnTo>
                  <a:lnTo>
                    <a:pt x="176" y="720"/>
                  </a:lnTo>
                  <a:lnTo>
                    <a:pt x="184" y="744"/>
                  </a:lnTo>
                  <a:lnTo>
                    <a:pt x="216" y="744"/>
                  </a:lnTo>
                  <a:lnTo>
                    <a:pt x="240" y="760"/>
                  </a:lnTo>
                  <a:lnTo>
                    <a:pt x="264" y="760"/>
                  </a:lnTo>
                  <a:lnTo>
                    <a:pt x="288" y="760"/>
                  </a:lnTo>
                  <a:lnTo>
                    <a:pt x="312" y="760"/>
                  </a:lnTo>
                  <a:lnTo>
                    <a:pt x="336" y="760"/>
                  </a:lnTo>
                  <a:lnTo>
                    <a:pt x="360" y="760"/>
                  </a:lnTo>
                  <a:lnTo>
                    <a:pt x="400" y="768"/>
                  </a:lnTo>
                  <a:lnTo>
                    <a:pt x="424" y="800"/>
                  </a:lnTo>
                  <a:lnTo>
                    <a:pt x="448" y="824"/>
                  </a:lnTo>
                  <a:lnTo>
                    <a:pt x="464" y="848"/>
                  </a:lnTo>
                  <a:lnTo>
                    <a:pt x="480" y="872"/>
                  </a:lnTo>
                  <a:lnTo>
                    <a:pt x="488" y="896"/>
                  </a:lnTo>
                  <a:lnTo>
                    <a:pt x="504" y="920"/>
                  </a:lnTo>
                  <a:lnTo>
                    <a:pt x="496" y="944"/>
                  </a:lnTo>
                  <a:lnTo>
                    <a:pt x="504" y="968"/>
                  </a:lnTo>
                  <a:lnTo>
                    <a:pt x="1904" y="9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105520" y="571500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o pelo qual  os requisitos do software são traduzidos  numa representação do software que permite sua realização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73120" y="3100320"/>
            <a:ext cx="1247760" cy="1189080"/>
            <a:chOff x="1473120" y="3100320"/>
            <a:chExt cx="1247760" cy="1189080"/>
          </a:xfrm>
        </p:grpSpPr>
        <p:sp>
          <p:nvSpPr>
            <p:cNvPr id="106" name=""/>
            <p:cNvSpPr/>
            <p:nvPr/>
          </p:nvSpPr>
          <p:spPr>
            <a:xfrm>
              <a:off x="1473120" y="3100320"/>
              <a:ext cx="1247760" cy="1189080"/>
            </a:xfrm>
            <a:prstGeom prst="ellipse">
              <a:avLst/>
            </a:prstGeom>
            <a:solidFill>
              <a:srgbClr val="d9d9d9"/>
            </a:solidFill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03520" y="3541680"/>
              <a:ext cx="928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244320" y="4141800"/>
            <a:ext cx="1393560" cy="1211400"/>
            <a:chOff x="3244320" y="4141800"/>
            <a:chExt cx="1393560" cy="1211400"/>
          </a:xfrm>
        </p:grpSpPr>
        <p:sp>
          <p:nvSpPr>
            <p:cNvPr id="109" name=""/>
            <p:cNvSpPr/>
            <p:nvPr/>
          </p:nvSpPr>
          <p:spPr>
            <a:xfrm>
              <a:off x="3247920" y="4141800"/>
              <a:ext cx="1262160" cy="1211400"/>
            </a:xfrm>
            <a:prstGeom prst="ellipse">
              <a:avLst/>
            </a:prstGeom>
            <a:solidFill>
              <a:srgbClr val="d9d9d9"/>
            </a:solidFill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4320" y="4587840"/>
              <a:ext cx="1393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dificaçã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16520" y="5153040"/>
            <a:ext cx="1130400" cy="1035000"/>
            <a:chOff x="4916520" y="5153040"/>
            <a:chExt cx="1130400" cy="1035000"/>
          </a:xfrm>
        </p:grpSpPr>
        <p:sp>
          <p:nvSpPr>
            <p:cNvPr id="112" name=""/>
            <p:cNvSpPr/>
            <p:nvPr/>
          </p:nvSpPr>
          <p:spPr>
            <a:xfrm>
              <a:off x="4916520" y="5153040"/>
              <a:ext cx="1130400" cy="1035000"/>
            </a:xfrm>
            <a:prstGeom prst="ellipse">
              <a:avLst/>
            </a:prstGeom>
            <a:solidFill>
              <a:srgbClr val="d9d9d9"/>
            </a:solidFill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24960" y="5518080"/>
              <a:ext cx="732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es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706040" y="2208240"/>
            <a:ext cx="74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8000" y="2486160"/>
            <a:ext cx="161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" y="2625840"/>
            <a:ext cx="74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840" y="2903400"/>
            <a:ext cx="963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unc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480" y="2081160"/>
            <a:ext cx="1037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800" y="2359080"/>
            <a:ext cx="1111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440" y="3208320"/>
            <a:ext cx="65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utr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280" y="3486240"/>
            <a:ext cx="1015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433548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jeto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7000" y="4611600"/>
            <a:ext cx="6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5880" y="5040360"/>
            <a:ext cx="69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4680" y="5318280"/>
            <a:ext cx="139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cediment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60560" y="3500280"/>
            <a:ext cx="69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776760"/>
            <a:ext cx="117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rquitetu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1680" y="31240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jeto de 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1080" y="4959360"/>
            <a:ext cx="103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3880" y="5373720"/>
            <a:ext cx="870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1560" y="5651640"/>
            <a:ext cx="109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tegrado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3520" y="5927760"/>
            <a:ext cx="883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Valid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5400" y="2602080"/>
            <a:ext cx="433080" cy="4521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2944800"/>
            <a:ext cx="214200" cy="239760"/>
          </a:xfrm>
          <a:custGeom>
            <a:avLst/>
            <a:gdLst/>
            <a:ahLst/>
            <a:rect l="l" t="t" r="r" b="b"/>
            <a:pathLst>
              <a:path w="135" h="151">
                <a:moveTo>
                  <a:pt x="61" y="0"/>
                </a:moveTo>
                <a:lnTo>
                  <a:pt x="0" y="82"/>
                </a:lnTo>
                <a:lnTo>
                  <a:pt x="135" y="15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60640" y="3100320"/>
            <a:ext cx="253800" cy="2476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27320" y="3240000"/>
            <a:ext cx="21564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59" y="0"/>
                </a:moveTo>
                <a:lnTo>
                  <a:pt x="0" y="86"/>
                </a:lnTo>
                <a:lnTo>
                  <a:pt x="136" y="148"/>
                </a:lnTo>
                <a:lnTo>
                  <a:pt x="59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5400" y="3681360"/>
            <a:ext cx="117360" cy="1238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695760"/>
            <a:ext cx="212760" cy="239760"/>
          </a:xfrm>
          <a:custGeom>
            <a:avLst/>
            <a:gdLst/>
            <a:ahLst/>
            <a:rect l="l" t="t" r="r" b="b"/>
            <a:pathLst>
              <a:path w="134" h="151">
                <a:moveTo>
                  <a:pt x="59" y="0"/>
                </a:moveTo>
                <a:lnTo>
                  <a:pt x="0" y="84"/>
                </a:lnTo>
                <a:lnTo>
                  <a:pt x="134" y="151"/>
                </a:lnTo>
                <a:lnTo>
                  <a:pt x="59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2320" y="2681280"/>
            <a:ext cx="289080" cy="291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23920" y="2863800"/>
            <a:ext cx="214560" cy="236520"/>
          </a:xfrm>
          <a:custGeom>
            <a:avLst/>
            <a:gdLst/>
            <a:ahLst/>
            <a:rect l="l" t="t" r="r" b="b"/>
            <a:pathLst>
              <a:path w="135" h="149">
                <a:moveTo>
                  <a:pt x="59" y="0"/>
                </a:moveTo>
                <a:lnTo>
                  <a:pt x="0" y="84"/>
                </a:lnTo>
                <a:lnTo>
                  <a:pt x="135" y="149"/>
                </a:lnTo>
                <a:lnTo>
                  <a:pt x="59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27360" y="3851280"/>
            <a:ext cx="493560" cy="4618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3800" y="4202280"/>
            <a:ext cx="216000" cy="231480"/>
          </a:xfrm>
          <a:custGeom>
            <a:avLst/>
            <a:gdLst/>
            <a:ahLst/>
            <a:rect l="l" t="t" r="r" b="b"/>
            <a:pathLst>
              <a:path w="136" h="146">
                <a:moveTo>
                  <a:pt x="57" y="0"/>
                </a:moveTo>
                <a:lnTo>
                  <a:pt x="0" y="88"/>
                </a:lnTo>
                <a:lnTo>
                  <a:pt x="136" y="146"/>
                </a:lnTo>
                <a:lnTo>
                  <a:pt x="57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5100480"/>
            <a:ext cx="390600" cy="3430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9320" y="5330880"/>
            <a:ext cx="222120" cy="228600"/>
          </a:xfrm>
          <a:custGeom>
            <a:avLst/>
            <a:gdLst/>
            <a:ahLst/>
            <a:rect l="l" t="t" r="r" b="b"/>
            <a:pathLst>
              <a:path w="140" h="144">
                <a:moveTo>
                  <a:pt x="56" y="0"/>
                </a:moveTo>
                <a:lnTo>
                  <a:pt x="0" y="89"/>
                </a:lnTo>
                <a:lnTo>
                  <a:pt x="140" y="144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9440" y="5973840"/>
            <a:ext cx="309600" cy="2318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84800" y="6095880"/>
            <a:ext cx="225360" cy="211320"/>
          </a:xfrm>
          <a:custGeom>
            <a:avLst/>
            <a:gdLst/>
            <a:ahLst/>
            <a:rect l="l" t="t" r="r" b="b"/>
            <a:pathLst>
              <a:path w="142" h="133">
                <a:moveTo>
                  <a:pt x="50" y="0"/>
                </a:moveTo>
                <a:lnTo>
                  <a:pt x="0" y="93"/>
                </a:lnTo>
                <a:lnTo>
                  <a:pt x="142" y="133"/>
                </a:lnTo>
                <a:lnTo>
                  <a:pt x="50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1760" y="4808520"/>
            <a:ext cx="87948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9040" y="4721400"/>
            <a:ext cx="218880" cy="174600"/>
          </a:xfrm>
          <a:custGeom>
            <a:avLst/>
            <a:gdLst/>
            <a:ahLst/>
            <a:rect l="l" t="t" r="r" b="b"/>
            <a:pathLst>
              <a:path w="138" h="110">
                <a:moveTo>
                  <a:pt x="0" y="0"/>
                </a:moveTo>
                <a:lnTo>
                  <a:pt x="0" y="110"/>
                </a:lnTo>
                <a:lnTo>
                  <a:pt x="138" y="5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24200" y="5307120"/>
            <a:ext cx="153972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08480" y="5219640"/>
            <a:ext cx="220680" cy="174600"/>
          </a:xfrm>
          <a:custGeom>
            <a:avLst/>
            <a:gdLst/>
            <a:ahLst/>
            <a:rect l="l" t="t" r="r" b="b"/>
            <a:pathLst>
              <a:path w="139" h="110">
                <a:moveTo>
                  <a:pt x="0" y="0"/>
                </a:moveTo>
                <a:lnTo>
                  <a:pt x="0" y="110"/>
                </a:lnTo>
                <a:lnTo>
                  <a:pt x="139" y="55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9720" y="3390840"/>
            <a:ext cx="1440" cy="5968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76640" y="3921120"/>
            <a:ext cx="146160" cy="263520"/>
          </a:xfrm>
          <a:custGeom>
            <a:avLst/>
            <a:gdLst/>
            <a:ahLst/>
            <a:rect l="l" t="t" r="r" b="b"/>
            <a:pathLst>
              <a:path w="92" h="166">
                <a:moveTo>
                  <a:pt x="92" y="0"/>
                </a:moveTo>
                <a:lnTo>
                  <a:pt x="0" y="0"/>
                </a:lnTo>
                <a:lnTo>
                  <a:pt x="46" y="166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3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55720" y="3390840"/>
            <a:ext cx="1494000" cy="18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1760" y="4307040"/>
            <a:ext cx="1800" cy="5014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24200" y="4268880"/>
            <a:ext cx="1440" cy="10382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9933"/>
                </a:solidFill>
                <a:latin typeface="Times New Roman"/>
              </a:rPr>
              <a:t>Projeto de Software (Fus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666880"/>
            <a:ext cx="1247760" cy="1189080"/>
          </a:xfrm>
          <a:prstGeom prst="ellipse">
            <a:avLst/>
          </a:prstGeom>
          <a:solidFill>
            <a:srgbClr val="d9d9d9"/>
          </a:solidFill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6840" y="3124080"/>
            <a:ext cx="1008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648320"/>
            <a:ext cx="2514600" cy="1211040"/>
          </a:xfrm>
          <a:prstGeom prst="ellipse">
            <a:avLst/>
          </a:prstGeom>
          <a:solidFill>
            <a:srgbClr val="d9d9d9"/>
          </a:solidFill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1640" y="5105520"/>
            <a:ext cx="194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79880" y="1676520"/>
            <a:ext cx="20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352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2286000"/>
            <a:ext cx="7617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98108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5720" y="1676520"/>
            <a:ext cx="147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400" y="3200400"/>
            <a:ext cx="1146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286000"/>
            <a:ext cx="4038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fo de Interação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fo de Vis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ção d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fo de He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1240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4290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6668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419720"/>
            <a:ext cx="480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análise é uma atividade incremental e iterativa que formaliza os requisitos. Deve ser realizada de maneira sis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assos do Projeto de Software 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to de Vista G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PRELIMINAR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ocupa-se com a transformação dos requisitos do software numa arquitetura de software e de 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TALHAD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centra-se nos aprimoramentos  da representação arquitetural que levam à estrutura de dados detalhada e às representações algorítmicas do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assos do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de Vista Téc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modelo de domínio da informação é transformado nas estruturas de dados que serão exigidas para implementar o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TETURAL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relacionamento entre os grandes componentes estruturais do programa é defin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DIMENTAL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componentes estruturais são transformados numa descrição  procedimental d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RFACE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s mecanismos de interação e lay-out para a interação homem-máquina  são estabel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Relação entre os aspectos técnicos e gerenciais do Projeto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4080" y="2286000"/>
            <a:ext cx="5562720" cy="3733920"/>
            <a:chOff x="3124080" y="2286000"/>
            <a:chExt cx="5562720" cy="3733920"/>
          </a:xfrm>
        </p:grpSpPr>
        <p:sp>
          <p:nvSpPr>
            <p:cNvPr id="180" name=""/>
            <p:cNvSpPr/>
            <p:nvPr/>
          </p:nvSpPr>
          <p:spPr>
            <a:xfrm>
              <a:off x="3124080" y="2286000"/>
              <a:ext cx="5562720" cy="1066680"/>
            </a:xfrm>
            <a:prstGeom prst="parallelogram">
              <a:avLst>
                <a:gd name="adj" fmla="val 13037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1640" y="2362320"/>
              <a:ext cx="27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o prelimin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67800" y="2819520"/>
              <a:ext cx="275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jeto detalh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124080" y="3352680"/>
              <a:ext cx="4780080" cy="2666880"/>
              <a:chOff x="3124080" y="3352680"/>
              <a:chExt cx="4780080" cy="2666880"/>
            </a:xfrm>
          </p:grpSpPr>
          <p:sp>
            <p:nvSpPr>
              <p:cNvPr id="184" name=""/>
              <p:cNvSpPr/>
              <p:nvPr/>
            </p:nvSpPr>
            <p:spPr>
              <a:xfrm>
                <a:off x="3124080" y="3352680"/>
                <a:ext cx="4191120" cy="2666880"/>
              </a:xfrm>
              <a:prstGeom prst="rect">
                <a:avLst/>
              </a:prstGeom>
              <a:solidFill>
                <a:srgbClr val="cc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11320" y="3581280"/>
                <a:ext cx="409284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o de dados (Classe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7600" y="4267080"/>
                <a:ext cx="299412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o arquitetu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05680" y="4876560"/>
                <a:ext cx="339948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o procedi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58320" y="5486400"/>
                <a:ext cx="302760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jeto de inte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24080" y="411480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24080" y="480060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4080" y="541008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809880" y="2819520"/>
              <a:ext cx="419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6200000">
              <a:off x="6134040" y="3467160"/>
              <a:ext cx="3733920" cy="1371600"/>
            </a:xfrm>
            <a:prstGeom prst="parallelogram">
              <a:avLst>
                <a:gd name="adj" fmla="val 77888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28195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15200" y="3124080"/>
              <a:ext cx="1371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15200" y="3809880"/>
              <a:ext cx="1371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315200" y="4419360"/>
              <a:ext cx="137160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20329200">
            <a:off x="990720" y="251424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spectos ger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226000">
            <a:off x="759240" y="4727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spec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aracterísticas comuns dos métodos 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m mecanismo para a tradução da representação do domínio de informação numa representação de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ma notação para representar os componentes funcionais e suas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urísticas para refinamento e divisão em part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etrizes para a avaliação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Guidelines para o Projeto (7)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bir boa estrutura arquite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r representações distintas de dados, arquitetura, interface e compo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zir a componentes que tem características funcionais indepen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incípios de Projet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 abordagen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mpanhar os requisitos do modelo de anál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reinventar (utilizar padr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tar não é cod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ar para minimizar erros semân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QUITE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QU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ONAMENTO ESTRU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IME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ULTAME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: desenvolver uma representação de um produto que será implemen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e que evolui com o surgimento de novos métodos e tecn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nte a processo de projeto os requisitos do software são mapeados em modelos de projeto, que descrevem is detalhes da estrutura de dados, arquitetura do sistema, interface e compo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to: Documento de Especificação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ões são importantes! Sempre utilizar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28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ssibilita que o projetista represente os procedimentos, os dados e o controle  em vários níveis de detal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ução é declarada em termos amplos usando-se a linguagem do ambiente d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ução é estabelecida usando-se uma terminologia orientada à imple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ução é estabelecida de uma forma que possa ser diretamente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ção Procediment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seqüência de instruções designadas que têm uma função específica e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437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ção  de Da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coleção designada de dados que descreve um objet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ção de Contro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 um mecanismo de controle do programa sem especificar detalhe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FI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refinamento passo a passo é uma antiga estratégia de projeto top-down (1971), a arquitetura de um programa é desenvolvida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refinando-se sucessivamente os níveis de detalhes procedim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finamento é um processo de elaboração. Faz com que o projetista elabore a declaração original oferecendo um número cada vez maior de detalhes à medida que sucessivos refinamentos (elaborações) ocor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DA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é dividido em componentes denominados módulos, que são integrados para atender aos requisitos ditados pel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gumento baseado em observações sobre a resolução de problemas huma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função que define a complexidade de um problema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função que define o esforço exigido para resolver o problem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m 2 problemas p1 e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ou-s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C(p1) &gt; C(p2) então  E(p1) &gt; E(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mora mais para se resolver um problema mais difíc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p1 + p2) &gt; C(p1) + C(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complexidade de um problema que combine p1 e p2 é maior do que a complexidade percebida quando cada problema é considerado separadam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(p1 + p2) &gt; E(p1) + E(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é mais fácil resolver um problema complexo quando ele é dividido em par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MODULARIDADE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mais fácil resolver um problema complexo quando ele é dividido em par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r indefinidamente torna o problema infinitamente pequeno?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2690640"/>
          <a:ext cx="5867280" cy="34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90640"/>
                    <a:ext cx="58672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TETURA DE 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riva de um processo de divisão em partições que relaciona elementos de uma solução de software a partes de um problema do mund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QUIA DE CONTROLE ou ESTRUTURA DO PROGR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a a organização de componentes de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representa aspectos procedimentais de software (seqüência, decisões ou repetiç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149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ção para representar a hierarquia de controle: DIAGRAMA EM ÁR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HIERARQUIA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DIDAS D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fundida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o número de níveis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rgur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o espaço de controle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n-Ou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o número de módulos que são diretamente controlados por outro mó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n-I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quantos módulos controlam diretamente determinado mód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QUIA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amento entre os módu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módulo que controla outro módulo é superordenado a 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módulo controlado por outro modulo é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bordin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o control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ras Caracterís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sibilidad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o conjunto de componentes de programa que pode ser invocado ou usado como dados por determinado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ectivid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o conjunto de componentes que é diretamente invocado ou usado como dados por determinado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....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de Espec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í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to Modular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 DE DAD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uma representação do relacionamento lógico entre elementos de dados individuais. Determina a organização, métodos de acesso, grau de associatividade e alternativas de processamento de info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ruturas de Dados clássica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tem escalar, vetor sequencial, espaço n-dimensional, lista interligada e árvore hierár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s estruturas de dados clássicas formam blocos de construção para estruturas mais sofisticadas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IMENTO DE 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caliza os detalhes de processamento de cada módulo individu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Procedimento deve oferecer uma especificação precisa do processamento (seqüência de eventos, pontos de decisão, operações repetitivas e até mesmo estrutura e organização de da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ULTAMENTO DE INFORMAÇÕ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 conceito de modularidade leva o projetista de software a uma questão fundam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o decompor uma solução de software para obter o melhor conjunto de módulos?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princípio da "ocultação de informações" sugere que os módulos sejam "caracterizados pelas decisões de projeto que (cada módulo) esconde de todos os outro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ULTAMENTO D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módulos devem ser especificados e projetados de tal forma que as informações (procedimentos e dados) contidas num módulo sejam inacessíveis a outros módulos que não tenham necessidade de tais inform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cultação implica em uma modularidade aonde um conjunto de módulos independentes comunicam entre si somente aquelas informações que são necessárias para se obter a função do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33"/>
                </a:solidFill>
                <a:latin typeface="Times New Roman"/>
              </a:rPr>
              <a:t>Conceitos fundamentais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TICIONAMENTO ESTRU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ticionamento horizontal e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e as três partições - entrada, transformação de dados e 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Efetiv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m projeto modular reduz a complexidade, facilita a mudança e resulta numa implementação mais fácil ao estimular o desenvolvimento paralelo de diversas partes de um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Independênci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Coe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Acop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TIPOS de MÓDULOS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ódulo Seqüenc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ultado e executado sem aparente interrupção pelos apl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ódulo 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interrompido antes da conclusão pelo aplicativo e subseqüentemente reiniciado no ponto de interrup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ódulo Parale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ado simultaneamente com outro módulo em ambientes de multiprocessadores concor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ódulo 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es de programa que combinam abstrações de dados e elementos procedimentais de uma forma orientada a ob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ÊNCIA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ito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um produto direto da modularidade e dos conceitos de abstração e ocultação da in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guida desenvolvendo-se módulos com função "com um só propósito" e "aversão" a interações excessivas com outros mód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software com módulos independentes é mais fácil de ser desenvolvido e mais fácil de ser mantido; fundamental para um bom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da usando-se dois critérios de qualitativos: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TA COESÃO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BAIXO ACOPLA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ESÃO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COESÃO: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 medida da força funcional relativa de um módulo. Pode ser vista como a força que mantém unidos os elementos de um mód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CALA DE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ES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inciden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9219b3"/>
                </a:solidFill>
                <a:latin typeface="Times New Roman"/>
              </a:rPr>
              <a:t>bai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d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uni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qüen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9219b3"/>
                </a:solidFill>
                <a:latin typeface="Times New Roman"/>
              </a:rPr>
              <a:t>ele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0005800">
            <a:off x="5638680" y="31233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desmiola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0245800">
            <a:off x="5791680" y="5181480"/>
            <a:ext cx="310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"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om um só propósito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ESÃ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19b3"/>
                </a:solidFill>
                <a:latin typeface="Times New Roman"/>
              </a:rPr>
              <a:t>FUN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dos os elementos do módulo estão relacionados ao desempenho de uma fu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"Calcular a raiz quadrad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19b3"/>
                </a:solidFill>
                <a:latin typeface="Times New Roman"/>
              </a:rPr>
              <a:t>SEQÜEN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dados de saída de um elemento do módulo servem como entrada para o próximo ele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"Ler a próxima transação e atualizar o arquivo mest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Engenharia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8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Fase de Definição ("o que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e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jamento do projeto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e de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8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Fase de Desenvolvimento ("como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jeto de softw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ção de 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28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 Fase de Manutenção  ("alterações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ESÃ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9219b3"/>
                </a:solidFill>
                <a:latin typeface="Times New Roman"/>
              </a:rPr>
              <a:t>COMUNICACIONA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s elementos do   módulo referenciam  os mesmos dados  de entrada e ou 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: Imprimir e exibir os dados do arquivo de trans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9219b3"/>
                </a:solidFill>
                <a:latin typeface="Times New Roman"/>
              </a:rPr>
              <a:t>PROCEDIMENTA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s elementos do módulo encontram-se juntos porque o procedimento adotado para solucionar o problema colocou-os dentro de uma mesma unidade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: Quando o módulo é parte de um fluxograma ou então o corpo de um "loop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ESÃ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219b3"/>
                </a:solidFill>
                <a:latin typeface="Times New Roman"/>
              </a:rPr>
              <a:t>LÓG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elementos do módulo estão envolvidos em tarefas simi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módulo que realiza todas as entradas ou todas as saí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219b3"/>
                </a:solidFill>
                <a:latin typeface="Times New Roman"/>
              </a:rPr>
              <a:t>TEMPO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elementos devem ser processados num mesmo período de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Módulo que atribui valor inicial a todas as variáveis usadas n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219b3"/>
                </a:solidFill>
                <a:latin typeface="Times New Roman"/>
              </a:rPr>
              <a:t>COINCIDEN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elementos não têm razão aparente para estarem j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módulos selecionados por tam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ACOPLAMENT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É o grau de interdependência entre os módulos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CALA DE </a:t>
            </a:r>
            <a:r>
              <a:rPr b="1" lang="pt-BR" sz="2400" spc="-1" strike="noStrike">
                <a:solidFill>
                  <a:srgbClr val="339933"/>
                </a:solidFill>
                <a:latin typeface="Times New Roman"/>
              </a:rPr>
              <a:t>ACOP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acoplamento dir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9219b3"/>
                </a:solidFill>
                <a:latin typeface="Times New Roman"/>
              </a:rPr>
              <a:t>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d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conteúdo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9219b3"/>
                </a:solidFill>
                <a:latin typeface="Times New Roman"/>
              </a:rPr>
              <a:t>elevad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352680"/>
            <a:ext cx="0" cy="198144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ACOPLAMENT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OR D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comunicação entre os módulos é feita por parâmetros, sendo cada parâmetro um dado elementar ou uma tabela homogê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OR IMAG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comunicação entre os módulos é feita através de estruturas de 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OR CONTR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volve a passagem de variável de contr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módulos se referem à mesma área de dados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Modular -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ACOPLAMENTO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TE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 módulos são ligados de um ambiente externo ao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A E/S acopla um módulo a dispositivos, formatos e protocolos externos ao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OR CONTEÚ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orre q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) um módulo faz uso de dados ou informações de controle mantidos dentro dos limites de outro mód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) quando desvios são feitos no meio de um mód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de Dad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elecionar representações lógicas dos dados  (estruturas de dados) identificados durante a fase de especificação d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RINCÍPIOS PARA O PROJETO D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princípios sistemáticos de análise aplicados às funções devem também ser aplicados aos d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m ser identificadas todas as estruturas de dados e as operações efetuadas em cada uma de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Dicionário de Dados deve ser estabelecido e usado para definir o projeto dos dados e o projeto dos pr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de Dad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RINCÍPIOS PARA O PROJETO D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cesso de projeto, decisões de baixo nível do projeto dos dados devem ser adiad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presentação da estrutura dos dados deve ser conhecida apenas por aqueles módulos que fazem uso direto dos dados contidos na estrutur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 ser desenvolvida uma biblioteca de estruturas de dados úteis e operações que podem ser aplicadas a e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rojeto de software e uma linguagem de programação devem permitir a especificação e realização de tipos abstratos de dado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</a:t>
            </a:r>
            <a:r>
              <a:rPr b="0" lang="en-US" sz="4400" spc="-1" strike="noStrike">
                <a:solidFill>
                  <a:srgbClr val="9219b3"/>
                </a:solidFill>
                <a:latin typeface="Times New Roman"/>
              </a:rPr>
              <a:t>Arquitetural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envolver uma estrutura modular do sistema e representar as relações de controle entre os mód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 projeto arquitetural funde a estrutura de programa e a estrutura de dados, definindo interfaces que possibilitam que os dados fluam através do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Procedimental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ficar, de forma não ambígua, os detalhes dos algorit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PROGRAMAÇÃO ESTRUTURAD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écnica de  Projeto Procedimental que limita os algoritmos a um um pequeno número de construções previsíveis: seqüência, condição e repeti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Notação tabular de Projet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da no projeto de módulos que avaliam uma combinação complexa de condições e selecione ações apropriadas com base nessas condi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ELAS DE DECIS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resentam uma notação que converte ações e condições (descritas numa narrativa de processamento)  para uma forma tab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ela de decisão é muito fácil de ser interpretada e pode até seu usada como uma entrada legível por máquinas e algoritmos baseados em tabe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ase de Análise de Requi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76520" y="1905120"/>
            <a:ext cx="6019560" cy="3581280"/>
            <a:chOff x="1676520" y="1905120"/>
            <a:chExt cx="6019560" cy="3581280"/>
          </a:xfrm>
        </p:grpSpPr>
        <p:sp>
          <p:nvSpPr>
            <p:cNvPr id="59" name=""/>
            <p:cNvSpPr/>
            <p:nvPr/>
          </p:nvSpPr>
          <p:spPr>
            <a:xfrm>
              <a:off x="1676520" y="1905120"/>
              <a:ext cx="6019560" cy="358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4317120" y="2555640"/>
              <a:ext cx="2725920" cy="1719000"/>
              <a:chOff x="4317120" y="2555640"/>
              <a:chExt cx="2725920" cy="1719000"/>
            </a:xfrm>
          </p:grpSpPr>
          <p:sp>
            <p:nvSpPr>
              <p:cNvPr id="61" name=""/>
              <p:cNvSpPr/>
              <p:nvPr/>
            </p:nvSpPr>
            <p:spPr>
              <a:xfrm>
                <a:off x="4430520" y="2555640"/>
                <a:ext cx="2498760" cy="17190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17120" y="2841840"/>
                <a:ext cx="2725920" cy="12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ANÁLISE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REQUISI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789920" y="2048040"/>
              <a:ext cx="2853360" cy="18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4160" y="2191320"/>
              <a:ext cx="235872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ngenharia de Sistemas de Comput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765400" y="3910680"/>
              <a:ext cx="1930680" cy="1432440"/>
              <a:chOff x="5765400" y="3910680"/>
              <a:chExt cx="1930680" cy="1432440"/>
            </a:xfrm>
          </p:grpSpPr>
          <p:sp>
            <p:nvSpPr>
              <p:cNvPr id="66" name=""/>
              <p:cNvSpPr/>
              <p:nvPr/>
            </p:nvSpPr>
            <p:spPr>
              <a:xfrm>
                <a:off x="5765400" y="3910680"/>
                <a:ext cx="1817280" cy="1432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78800" y="4053600"/>
                <a:ext cx="18172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Comic Sans MS"/>
                  </a:rPr>
                  <a:t>Projeto de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360" y="55627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opo d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77160" y="6035760"/>
            <a:ext cx="306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iro pass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ta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52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8960" y="3429000"/>
            <a:ext cx="114300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assos para se desenvolver uma Tabela de Decisã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listar todas as ações que podem ser associadas a um procediment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listar as condições ou decisões tomadas durante a execução do proce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associar conjuntos específicos de condições com ações específicas eliminando combinações de condições impossíveis; alternativamente, desenvolva cada permutação de condições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definir regras indicando qual ação (ou ações) ocorre para um conjunto de cond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Notação Tabular de Projet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se a conta do cliente for cobrada usando-se um método de taxas fixas, uma cobrança mensal mínima é avaliada para quem consome menos de 100 kWh. Caso contrário, a cobrança computadorizada aplicará uma estrutura de taxas contida num Plano A. Porém, se a conta for cobrada usando-se um método de taxas variáveis, uma estrutura de taxas do Plano A será aplicada a quem consome menos de 100 kWh, sendo o consumo adicional cobrado de acordo com o Plano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Tabular de Decisão 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2920" y="1909800"/>
          <a:ext cx="93535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909800"/>
                    <a:ext cx="93535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PDL</a:t>
            </a: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Linguagem de Projeto de Programa</a:t>
            </a:r>
            <a:r>
              <a:rPr b="0" lang="en-US" sz="40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33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nguagem de projeto de program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lês estruturado ou pseudocódi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é uma linguagem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 híbrid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 sentido de que ela usa o vocabulário de uma linguag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o é, inglê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a sintaxe global de out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sto é, uma linguagem de programação estrutura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PDL</a:t>
            </a: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999933"/>
                </a:solidFill>
                <a:latin typeface="Times New Roman"/>
              </a:rPr>
              <a:t>Linguagem de Projeto de Programa</a:t>
            </a: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agem de projeto deve ter as seguintes característ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a sintaxe fixa de palavras-chave que forneçam todas as construções estruturadas, declarações de dados e características de modula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a sintaxe livre de linguagem natural que descreva as características de process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cilidades de declaração de dados que incluam tanto as estruturas de dados simples  como as compl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definição de subprogramas ou técnicas de chamada que suportem vários modos de descrição d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9933"/>
                </a:solidFill>
                <a:latin typeface="Times New Roman"/>
              </a:rPr>
              <a:t>Projeto Procedimental  </a:t>
            </a:r>
            <a:r>
              <a:rPr b="0" i="1" lang="pt-BR" sz="4000" spc="-1" strike="noStrike">
                <a:solidFill>
                  <a:srgbClr val="999933"/>
                </a:solidFill>
                <a:latin typeface="Times New Roman"/>
              </a:rPr>
              <a:t>comparação das notações </a:t>
            </a:r>
            <a:r>
              <a:rPr b="0" lang="pt-BR" sz="4000" spc="-1" strike="noStrike">
                <a:solidFill>
                  <a:srgbClr val="99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400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ATRIBUTOS DA NOT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id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cidade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dade de ed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e de leitura por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ten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ço de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amento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çã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ção 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e "de ser codificad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Procedimental  </a:t>
            </a: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comparação das notações </a:t>
            </a: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TOS DA N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 suportar o desenvolvimento  de software  modular e proporcionar um meio para especificação d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dade glob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ser relativamente simples de aprender, relativamente fácil de se usar e geralmente fácil de se 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ilidade de ediçã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o projeto procedimental pode sofrer alterações, a facilidade com que a representação de projeto pode ser editada pode simplificar as alt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Procedimental  </a:t>
            </a: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comparação das notações 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TOS DA N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dade de leitura por máquin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notação que pode ser introduzida diretamente num sistema de desenvolvimento computadorizado oferece significativos benefí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utenibil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tenção da configuração de software quase sempre significa manutenção da representação do projeto procedi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Procedimental  </a:t>
            </a: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comparação das notações </a:t>
            </a:r>
            <a:r>
              <a:rPr b="0" lang="en-US" sz="4000" spc="-1" strike="noStrike">
                <a:solidFill>
                  <a:srgbClr val="99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TOS DA N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orço de estrutur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notação de projeto que reforce o uso somente das construções estruturadas promove boas práticas de pro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amento automátic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projeto detalhado contém informações que se processada automaticamente podem para dar ao projetista novos ou melhores esclarecimentos sobre a exatidão e a qualidade de um pro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Procedimental  </a:t>
            </a: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comparação das notações 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BUTOS DA N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ção de da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dade de representar dados locais e globais é um elemento essencial do projeto detalhado e idealmente uma notação de projeto deve representar tais dados dire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ção lógic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notação que amplie a capacidade de se verificar a lógica aprimora consideravelmente a adequação aos tes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pacidade "de ser codificada"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notação que possa ser convertida em código fonte reduz o esforço e os er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ATIVIDADES de ANÁLISE:</a:t>
            </a:r>
            <a:r>
              <a:rPr b="0" lang="en-US" sz="4400" spc="-1" strike="noStrike">
                <a:solidFill>
                  <a:srgbClr val="9999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1- 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onhecimento do problema </a:t>
            </a:r>
            <a:br>
              <a:rPr sz="36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ação do problema e síntese da solução (Modelagem)</a:t>
            </a:r>
            <a:br>
              <a:rPr sz="36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ação dos requisitos do 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24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e Qualidade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9966"/>
                </a:solidFill>
                <a:latin typeface="Times New Roman"/>
              </a:rPr>
              <a:t>Fundamental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VISÕES TÉCNICAS FORMAIS</a:t>
            </a:r>
            <a:r>
              <a:rPr b="1" lang="pt-BR" sz="2400" spc="-1" strike="noStrike">
                <a:solidFill>
                  <a:srgbClr val="339966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3399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9933"/>
                </a:solidFill>
                <a:latin typeface="Times New Roman"/>
              </a:rPr>
              <a:t>CRITÉRIOS PARA UM BOM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m projeto deve exibir uma organização hierárquica que faça uso inteligente do controle entre os componentes de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projeto deve ser modular, ou seja, o software deve ser logicamente dividido em componentes que executem funções e subfunçõ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m projeto deve conter uma representação distinta e separável de dados e proc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e Qualidade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CRITÉRIOS PARA UM BOM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projeto deve levar a módulos que apresentem características funcionais independ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m projeto deve levar a interfaces que reduzam a complexidade de conexões entre os módulos e com o ambiente ex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m projeto deve ser derivado usando-se um método capaz de permitir repetições e que seja orientado pelas informações obtidas durante a análise de requisi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Documentação de Especificação do Projeto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Objetivos 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.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os de Ref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ção de proje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escriçã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Estrutura de programa deri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nterfaces dentro d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ódulos; para cada mód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narrativa de proce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descrição d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descrição da linguagem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módulos u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organizaçã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tura de arquivos e dados glob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.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ência cruzada dos requisit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sões de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s espe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X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ê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ira das 3 atividades técnicas: projeto, geração de código e t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projeto é o lugar onde a qualidade é fomentada durante o processo de desenvol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 a informação do modelo de domínio (análise) em estruturas que requerem ser implementadas n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Importância do Projeto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jeto fornece representações do software que podem ser avaliadas quanto  à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 única maneira pela qual pode-se traduzir com precisão os requisitos de um cliente num produto de software acab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Modelos de Especificação de Projeto de Softwa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DE DADOS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ionar representações lógicas dos dados identificados na fase de especificação dos requisitos (Diagrama de classes e dicionário de d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ARQUITETURA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estrutura modular do sistema e representar as relações de controle entre os módulos (elementos estruturais do software - D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MODEL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INTERFAC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r os mecanismos de interação e layout para a interação homem-máquina e com outros sistemas (diagrama de fluxo de dados e de contr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MODELO EM NÍVEL DE COMPONENTES (procedural)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r os detalhes dos algorit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 </dc:creator>
  <dc:description/>
  <dc:language>en-US</dc:language>
  <cp:lastModifiedBy>DCT-UFMS</cp:lastModifiedBy>
  <dcterms:modified xsi:type="dcterms:W3CDTF">2001-06-08T01:13:33Z</dcterms:modified>
  <cp:revision>108</cp:revision>
  <dc:subject/>
  <dc:title>Aspectos Fundamentais do Projeto de Software  Engenharia de Software </dc:title>
</cp:coreProperties>
</file>