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DA4BA-9EBE-4C21-B438-184E16CF4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E348-020A-4E63-A4C0-F4ADDBF69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DEA9F-C344-41C3-8D00-C8C3440E5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50635-2936-4D69-B5E6-ECA44F219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FDE21-1E47-4339-AAFC-E0D72918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C62D9-CA60-4016-B6C2-0BF42A90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C6F79-14A9-4858-A40C-9C66B689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48C01-FB9A-456A-9128-951BE76A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9C31E-CBEF-4683-88F6-0BDD9B83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23BCF-3BCF-4298-A58A-9557AEC2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27F3B-D83C-4491-9730-D5BE9342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2540A-536F-4AB3-AB44-F58F925A8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AE0C4-F1A9-4928-AA41-FBAAC474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98313-D3E1-496B-BA9F-9753D42F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F7101-0854-4D20-9D70-D6C97FB8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C79D2-2F09-47BB-BD9C-47525B03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58D04-945D-4BCC-95ED-2A34D7CC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355CB-D2E8-4152-8C3D-EBBA102E3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FA017-9C94-4044-9AAC-3FD7BA7D9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41F4F-2494-493F-AC15-AF5ACAC02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DF3AE-B50C-42AA-9C5B-C696A571A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4D442-E365-42A4-8606-99A27DE97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DB6FC-C02D-4B2D-927D-8087C953F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74551-B8AB-4188-9929-99ABE033F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8000">
                  <a:alpha val="50196"/>
                </a:srgbClr>
              </a:gs>
              <a:gs pos="100000">
                <a:srgbClr val="004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1300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AA5B-0B2A-4AC0-90FC-45424B00063A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4f00"/>
              </a:gs>
              <a:gs pos="50000">
                <a:srgbClr val="008000">
                  <a:alpha val="50196"/>
                </a:srgbClr>
              </a:gs>
              <a:gs pos="100000">
                <a:srgbClr val="004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1300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098B-F464-49A3-AF03-A1B975B13B08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53416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Unidade 1: </a:t>
            </a:r>
            <a:r>
              <a:rPr b="1" lang="pt-BR" sz="3600" spc="-1" strike="noStrike">
                <a:solidFill>
                  <a:srgbClr val="cbcbcb"/>
                </a:solidFill>
                <a:latin typeface="Arial"/>
              </a:rPr>
              <a:t>O Produto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057040" y="533376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f. Dr.  Marcelo Augusto Santos Turine -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CT - UF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st@dct.ufms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Parte I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bcbcb"/>
                </a:solidFill>
                <a:latin typeface="Arial"/>
              </a:rPr>
              <a:t>O Produto e o Proces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O que é Software?</a:t>
            </a:r>
            <a:br>
              <a:rPr sz="4400"/>
            </a:br>
            <a:r>
              <a:rPr b="1" lang="pt-BR" sz="2000" spc="-1" strike="noStrike">
                <a:solidFill>
                  <a:srgbClr val="cbcbcb"/>
                </a:solidFill>
                <a:latin typeface="Arial"/>
              </a:rPr>
              <a:t>Itens de configuração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1- INSTRUÇÕES (programas de computado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que quando executadas produzem a função e o desempenho desejad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2 - ESTRUTURAS DE DAD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que possibilitam que os programas manipulem adequadamente a informaçã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3 - DOCUMENT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que descrevem a operação e o uso dos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FBB2-9457-46F2-BD35-DC84BAB481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ção mais ex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lisar as características que o tornam diferente dos outros produt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rdware: produto em forma fís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ware: elemento de sistema lógic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07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O que é Softwar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91120" y="2438280"/>
            <a:ext cx="1004760" cy="1524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20120" y="5257800"/>
            <a:ext cx="83808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5867280"/>
            <a:ext cx="83808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458200" y="5257440"/>
            <a:ext cx="0" cy="60948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610480" y="510480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5667F-0735-4498-8558-818FB6A80C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Características do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lnSpc>
                <a:spcPct val="12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bcbcb"/>
                </a:solidFill>
                <a:latin typeface="Arial"/>
              </a:rPr>
              <a:t>1-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desenvolvido ou projetado por engenharia, não manufaturado no sentido clássico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industria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ucesso é medido pela qualidade e não quantid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2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bcbcb"/>
                </a:solidFill>
                <a:latin typeface="Arial"/>
              </a:rPr>
              <a:t>2-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não se “desgasta”, mas se deteriora devido as mudanças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Figur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2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bcbcb"/>
                </a:solidFill>
                <a:latin typeface="Arial"/>
              </a:rPr>
              <a:t>3-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a maioria é feita sob medida em vez de ser montada a partir de catálogos de componentes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xistentes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reusabilidade de softwar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0ECC-F6CF-42B2-A83D-60C4693C8B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Curva de falhas para o hard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914400" y="972720"/>
            <a:ext cx="8229600" cy="4696200"/>
            <a:chOff x="914400" y="972720"/>
            <a:chExt cx="8229600" cy="4696200"/>
          </a:xfrm>
        </p:grpSpPr>
        <p:sp>
          <p:nvSpPr>
            <p:cNvPr id="118" name=""/>
            <p:cNvSpPr/>
            <p:nvPr/>
          </p:nvSpPr>
          <p:spPr>
            <a:xfrm>
              <a:off x="4754520" y="5127480"/>
              <a:ext cx="164628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temp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61080" y="2851200"/>
              <a:ext cx="14619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desgaste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68520" y="2959200"/>
              <a:ext cx="1920960" cy="11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mortalidade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infantil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905120" y="2743200"/>
              <a:ext cx="0" cy="2276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20960" y="5019840"/>
              <a:ext cx="6308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453760" y="1063080"/>
              <a:ext cx="1860480" cy="361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372560" y="972000"/>
              <a:ext cx="2653200" cy="38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82920" y="4675320"/>
              <a:ext cx="2325600" cy="136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4400" y="3067200"/>
              <a:ext cx="1006560" cy="13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índice de falh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514600" y="2286000"/>
              <a:ext cx="533520" cy="533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16520" y="205632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feitos de projeto e manufatu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62920" y="3048120"/>
              <a:ext cx="457200" cy="4572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77120" y="3504240"/>
              <a:ext cx="2666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roblem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mbienta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poeira, vibração, abuso, temperaturas, ...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753160" y="1447200"/>
            <a:ext cx="33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urva da Banheir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62FA-B0BD-46BB-9312-24217E7EE9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Curva de falhas do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-51840" y="448560"/>
            <a:ext cx="8408520" cy="5190120"/>
            <a:chOff x="-51840" y="448560"/>
            <a:chExt cx="8408520" cy="5190120"/>
          </a:xfrm>
        </p:grpSpPr>
        <p:sp>
          <p:nvSpPr>
            <p:cNvPr id="134" name=""/>
            <p:cNvSpPr/>
            <p:nvPr/>
          </p:nvSpPr>
          <p:spPr>
            <a:xfrm>
              <a:off x="2590920" y="1981080"/>
              <a:ext cx="20318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mudanç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3182760"/>
              <a:ext cx="120168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índice de falh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62720" y="2971800"/>
              <a:ext cx="20336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curva re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19840" y="4235400"/>
              <a:ext cx="20318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curva idealizad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981080" y="2489040"/>
              <a:ext cx="0" cy="2455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81080" y="4944960"/>
              <a:ext cx="6375600" cy="1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351160" y="527400"/>
              <a:ext cx="4065480" cy="4253400"/>
              <a:chOff x="2351160" y="527400"/>
              <a:chExt cx="4065480" cy="4253400"/>
            </a:xfrm>
          </p:grpSpPr>
          <p:sp>
            <p:nvSpPr>
              <p:cNvPr id="141" name=""/>
              <p:cNvSpPr/>
              <p:nvPr/>
            </p:nvSpPr>
            <p:spPr>
              <a:xfrm flipH="1" flipV="1">
                <a:off x="2350800" y="527040"/>
                <a:ext cx="1662480" cy="425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750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750307"/>
                  </a:path>
                </a:pathLst>
              </a:cu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182760" y="4778280"/>
                <a:ext cx="32338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flipH="1" flipV="1">
              <a:off x="2442240" y="448200"/>
              <a:ext cx="2034360" cy="397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36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36722"/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-51480" y="1851120"/>
              <a:ext cx="7022160" cy="25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367080" y="2671560"/>
              <a:ext cx="0" cy="1755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383000" y="2671560"/>
              <a:ext cx="1800" cy="167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398920" y="2556000"/>
              <a:ext cx="1800" cy="1638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3367080" y="968040"/>
              <a:ext cx="2034720" cy="340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4383000" y="1149120"/>
              <a:ext cx="2034720" cy="304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66880" y="2362320"/>
              <a:ext cx="547920" cy="19126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398920" y="1383840"/>
              <a:ext cx="1663200" cy="257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16320" y="4348080"/>
              <a:ext cx="103320" cy="1047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41920" y="5054760"/>
              <a:ext cx="166212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temp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67080" y="4343400"/>
              <a:ext cx="103320" cy="1047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07120" y="4114800"/>
              <a:ext cx="102960" cy="1047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95880" y="3886200"/>
              <a:ext cx="103320" cy="1047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D1218-EB42-46BD-BDF9-D0092C80BD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ndo um componente de hardware se desgasta é substituído por uma “peça de reposição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ão existe “peça de reposição” para soft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da falha indica um erro no projeto ou no processo de tradução para o código executá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utenção do software é mais complexa do que a do hard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Falhas Hardware/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C9BB-FF23-4256-8DC3-E5ED49F59E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ão, usualmente, componentes de sistemas automatizad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ão compostos por documentação, dados, código e procediment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ão desenvolvidos com o objetivo de instruir máquinas e pessoas no sentido da realização de um conjunto bem definido de tarefas de processamento de dad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ão instrumentos para alcançar um fim específico: transformar dados em resultados confiáveis, úteis e oportun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O que é Software?</a:t>
            </a:r>
            <a:br>
              <a:rPr sz="4400"/>
            </a:br>
            <a:r>
              <a:rPr b="1" lang="pt-BR" sz="3600" spc="-1" strike="noStrike">
                <a:solidFill>
                  <a:srgbClr val="cbcbcb"/>
                </a:solidFill>
                <a:latin typeface="Arial"/>
              </a:rPr>
              <a:t>(Arndt Von Staa, 1987)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F4D28-769E-465F-B392-2397B02708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7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O que é Software?</a:t>
            </a:r>
            <a:br>
              <a:rPr sz="4400"/>
            </a:br>
            <a:r>
              <a:rPr b="1" lang="pt-BR" sz="3600" spc="-1" strike="noStrike">
                <a:solidFill>
                  <a:srgbClr val="cbcbcb"/>
                </a:solidFill>
                <a:latin typeface="Arial"/>
              </a:rPr>
              <a:t>(Anneliese von Mayrhauser, 1990)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oftware is the term used for computer programs and all documents associated with them, such as user manual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D2E38-3C40-41D0-8D14-B5BE03CAFF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733560" y="6091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Software é tanto um PRODUTO como um veículo para desenvolver um produ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Software é desenvolvido por engenharia e não manufaturad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Software não se desgasta, mas deterior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Atualmente, muitos softwares estão ainda em construçã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EDF54-C23D-46E9-A2BF-FAAEBEA82A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do a qualquer problema em que um conjunto previamente de passos procedimentais tiver sido definido (algoritm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ção: Softwares de Inteligência Artifi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609120"/>
            <a:ext cx="9137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Quando desenvolver softwar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8B437-35CA-479D-980D-AE379ECF91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Times New Roman"/>
              </a:rPr>
              <a:t>Questionamen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or que tanta demora para entreg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or que os prazos se atrasa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or que os custos são alto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or que não achar todos os erros antes de entreg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or que dificuldade em medir o progresso do desenvolvimento de um softwa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DEB5-1B46-48DC-8399-F1E7FD6A02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Aplicações do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576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OFTWARE de Sistema: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oleção de programas escritos para apoiar outros programas. Forte interação com o hard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4400" indent="-22860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sistema operacional, compiladores, driver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OFTWARE DE TEMPO REAL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software que monitora, analisa e controla eventos do mundo </a:t>
            </a:r>
            <a:r>
              <a:rPr b="1" i="1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4400" indent="-22860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sistema de controle de tráfego aéreo, relógio digital, 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OFTWARE Business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sistemas de operações comerciais e tomadas de decisões administrativ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4400" indent="-22860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olha de pagamentos, contas a pagar e a receber, MIS, 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5A3B3-5585-489F-8626-153B8DB096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20570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OFTWARE CIENTÍFICO E DE ENGENHARIA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aracterizado por algoritmos de processament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uméri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spcAft>
                <a:spcPts val="300"/>
              </a:spcAft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stronomia, vulcanologia, análise de fadiga da mecânica de automóveis, biologia molecular, projeto CAD, 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OFTWARE EMBUTID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usado para controlar produtos e sistemas para os mercados industriais e de consumo – produtos intelige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spcAft>
                <a:spcPts val="300"/>
              </a:spcAft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controle de microondas, de combustível, sistemas de frei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Aplicações do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A576-BEBE-44CE-A506-6674AF13A4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057400"/>
            <a:ext cx="8915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OFTWARE DE COMPUTADOR PESSOAL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envolve processamento de textos, planilhas eletrônicas, computação gráfica, diversões, 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*SOFTWARE Baseado na Web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áginas Web (websites) recuperados por um browser (tecnologia web ASP, HTML, CGI, JAVA, XML, etc.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Aplicações do softw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D1535-2CB5-4109-B01F-EA50FA82D9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76520" y="2057400"/>
            <a:ext cx="7238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OFTWARE DE INTELIGÊNCIA ARTIFICIAL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faz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uso de algoritmos não numéricos para resolver problemas que não sejam favoráveis à computação ou à análise dir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sistemas especialistas, reconhecimento de padrões, redes neurais, jogos, 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Aplicações do softw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A6EE6-E32D-41FB-A649-AE9ECEC4B7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Evolução do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427720"/>
            <a:ext cx="8763120" cy="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00" y="5450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5463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87800" y="5426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46680" y="5426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09000" y="5426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82200" y="5428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6840" y="5146560"/>
            <a:ext cx="0" cy="317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65240" y="5146560"/>
            <a:ext cx="0" cy="317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29080" y="5146560"/>
            <a:ext cx="0" cy="317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99120" y="5110200"/>
            <a:ext cx="0" cy="317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27680" y="5146560"/>
            <a:ext cx="0" cy="317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26440" y="5146560"/>
            <a:ext cx="0" cy="317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057400"/>
            <a:ext cx="8915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1950 - abordagem ad hoc: produto intelectual único e personalizado (Manutençã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1960 - abordagem metódica (cascata) - produção de documentação volumosa (estourando orçamentos e cronogramas - não atendendo às necessidades dos usuá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E2700-685A-43C9-951F-AB1AC427D6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Evolução do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427720"/>
            <a:ext cx="8763120" cy="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00" y="5450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5463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87800" y="5426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46680" y="5426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09000" y="5426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882200" y="5428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6840" y="5146560"/>
            <a:ext cx="0" cy="317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65240" y="5146560"/>
            <a:ext cx="0" cy="317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29080" y="5146560"/>
            <a:ext cx="0" cy="317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99120" y="5110200"/>
            <a:ext cx="0" cy="317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27680" y="5146560"/>
            <a:ext cx="0" cy="317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26440" y="5146560"/>
            <a:ext cx="0" cy="317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057400"/>
            <a:ext cx="8915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1970 - Tom DeMarco -engenharia de software baseada em modelos - Filosofia de que os usuários poderiam visualizar o funcionamento do sistema futuro antes que fosse construí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Quebrou o paradigma de Começar já Codificando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725C4-D3CD-4F21-AB7F-522D227E6E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Evolução do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69800" y="5243400"/>
            <a:ext cx="8763120" cy="812880"/>
            <a:chOff x="469800" y="5243400"/>
            <a:chExt cx="8763120" cy="812880"/>
          </a:xfrm>
        </p:grpSpPr>
        <p:sp>
          <p:nvSpPr>
            <p:cNvPr id="207" name=""/>
            <p:cNvSpPr/>
            <p:nvPr/>
          </p:nvSpPr>
          <p:spPr>
            <a:xfrm>
              <a:off x="469800" y="5560920"/>
              <a:ext cx="8763120" cy="0"/>
            </a:xfrm>
            <a:prstGeom prst="line">
              <a:avLst/>
            </a:prstGeom>
            <a:ln cap="sq"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1600" y="55836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95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70360" y="5596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96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57600" y="55598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97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16840" y="55598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98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78800" y="55598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99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52000" y="55616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0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6640" y="5280120"/>
              <a:ext cx="0" cy="317520"/>
            </a:xfrm>
            <a:prstGeom prst="line">
              <a:avLst/>
            </a:prstGeom>
            <a:ln cap="sq"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35400" y="5280120"/>
              <a:ext cx="0" cy="317520"/>
            </a:xfrm>
            <a:prstGeom prst="line">
              <a:avLst/>
            </a:prstGeom>
            <a:ln cap="sq"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8880" y="5280120"/>
              <a:ext cx="0" cy="317520"/>
            </a:xfrm>
            <a:prstGeom prst="line">
              <a:avLst/>
            </a:prstGeom>
            <a:ln cap="sq"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68920" y="5243400"/>
              <a:ext cx="0" cy="317520"/>
            </a:xfrm>
            <a:prstGeom prst="line">
              <a:avLst/>
            </a:prstGeom>
            <a:ln cap="sq"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97840" y="5280120"/>
              <a:ext cx="0" cy="317520"/>
            </a:xfrm>
            <a:prstGeom prst="line">
              <a:avLst/>
            </a:prstGeom>
            <a:ln cap="sq"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796240" y="5280120"/>
              <a:ext cx="0" cy="317520"/>
            </a:xfrm>
            <a:prstGeom prst="line">
              <a:avLst/>
            </a:prstGeom>
            <a:ln cap="sq"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0" y="2057400"/>
            <a:ext cx="8915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delos construídos por comunidades distintas de usuários para propósitos diver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ceito Heurístico: Separação das preocup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sciplinas da Engenharia: construção de um conjunto de modelos para estabelecer o comportamento essencial do sistema proposto e para usarmos como plantas (especificação para implementaçã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F9124-D462-491C-9309-704D4CED48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Evolução do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427720"/>
            <a:ext cx="8763120" cy="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064240"/>
            <a:ext cx="77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: maior desempenho, menor tamanho e cu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00" y="5450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5463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87800" y="5426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6680" y="5426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09000" y="5426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82200" y="5428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840" y="5146560"/>
            <a:ext cx="0" cy="317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5240" y="5146560"/>
            <a:ext cx="0" cy="317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29080" y="5146560"/>
            <a:ext cx="0" cy="317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99120" y="5110200"/>
            <a:ext cx="0" cy="317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27680" y="5146560"/>
            <a:ext cx="0" cy="317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26440" y="5146560"/>
            <a:ext cx="0" cy="317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040" y="3700080"/>
            <a:ext cx="225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s primeiros an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ientação bat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tribuição limit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ftware customiz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768920"/>
            <a:ext cx="2646360" cy="0"/>
          </a:xfrm>
          <a:prstGeom prst="line">
            <a:avLst/>
          </a:prstGeom>
          <a:ln cap="sq"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78720" y="2814840"/>
            <a:ext cx="1797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egunda 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usuá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po re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co de 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oftware Hou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98520" y="4127400"/>
            <a:ext cx="1781280" cy="0"/>
          </a:xfrm>
          <a:prstGeom prst="line">
            <a:avLst/>
          </a:prstGeom>
          <a:ln cap="sq"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28200" y="2571480"/>
            <a:ext cx="2496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terceira 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stemas Distribuí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ligência” embuti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ware de baixo cu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PC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ks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acto de consu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05280" y="4768920"/>
            <a:ext cx="3195720" cy="0"/>
          </a:xfrm>
          <a:prstGeom prst="line">
            <a:avLst/>
          </a:prstGeom>
          <a:ln cap="sq"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15880" y="2593800"/>
            <a:ext cx="233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quarta 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nologia O. 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stemas Especiali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des Neur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utação Parale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nologia We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guranç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07200" y="4371840"/>
            <a:ext cx="2019240" cy="0"/>
          </a:xfrm>
          <a:prstGeom prst="line">
            <a:avLst/>
          </a:prstGeom>
          <a:ln cap="sq"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A16A4-6395-460C-82AA-4E2A8380BD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79320" y="60948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Evolução do softw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1905120"/>
            <a:ext cx="860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(1950 - 196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 hardware sofreu contínuas mudanç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 software era uma arte "secundária" para a qual havia poucos métodos sistemát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 hardware era de propósito g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 software era específico para cada aplicaçã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ão havia document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AC0B-7E37-4A4D-B79B-55B51A1B98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Evolução do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58800" indent="0" algn="just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(1965 - 197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8800" indent="-2682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ultiprogramação e sistemas multiusuári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8800" indent="-2682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écnicas interativa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8800" indent="-2682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istemas de tempo re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8800" indent="-2682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1a. geração de SGBD’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8800" indent="-2682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duto de software -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Software Hou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8800" indent="-2682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resce número de sistemas baseado em computad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8800" indent="-2682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nutenção quase impossí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8800" indent="0" algn="ctr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Arial"/>
              </a:rPr>
              <a:t>                    </a:t>
            </a:r>
            <a:r>
              <a:rPr b="1" lang="pt-BR" sz="2800" spc="-1" strike="noStrike">
                <a:solidFill>
                  <a:srgbClr val="ff6600"/>
                </a:solidFill>
                <a:latin typeface="Arial"/>
              </a:rPr>
              <a:t>..... CRISE DE</a:t>
            </a:r>
            <a:r>
              <a:rPr b="0" lang="pt-B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6600"/>
                </a:solidFill>
                <a:latin typeface="Arial"/>
              </a:rPr>
              <a:t>SOFTWARE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A8A6-BE9E-48B3-898E-7F7EEAEA0B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ção, Características, Aplicaçõ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oluçã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se do Soft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as e Caus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tos do Soft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os de processo de Engenharia de Soft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38139-7A49-4305-91D0-3B6132B17C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Evolução do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922320" indent="0" algn="just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(1975 - 199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2320" indent="-474480" algn="just"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istemas distribuíd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2320" indent="-474480" algn="just"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des locais e glob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2320" indent="-474480"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Uso generalizado de microprocessadores - produtos inteligen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2320" indent="-474480" algn="just"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Hardware de baixo cus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2320" indent="-474480" algn="just"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mpacto de consum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6692-C5B2-4A5E-A185-632CF31127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Evolução do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41400" indent="0" algn="ctr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(Quarta era do software de computado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 algn="just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SzPct val="120000"/>
              <a:buFont typeface="Wingdings" charset="2"/>
              <a:buChar char="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ecnologias orientadas o objet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SzPct val="120000"/>
              <a:buFont typeface="Wingdings" charset="2"/>
              <a:buChar char="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istemas especialistas e software de inteligência artificial usados na prát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 algn="just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SzPct val="120000"/>
              <a:buFont typeface="Wingdings" charset="2"/>
              <a:buChar char="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oftware de rede neural artifi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 algn="just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SzPct val="120000"/>
              <a:buFont typeface="Wingdings" charset="2"/>
              <a:buChar char="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mputação Paralel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B1ED-4215-4323-97AB-8910D30BAF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Crise de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fere-se a um conjunto de problemas encontrados no desenvolvimento de software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problemas não se limitam a softwares que não funcionam adequadamen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760" indent="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7c80"/>
                </a:solidFill>
                <a:latin typeface="Times New Roman"/>
              </a:rPr>
              <a:t>As estimativas de prazo e de custo freqüentemente são imprecis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73040" indent="-96840" algn="just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dedicamos tempo para coletar dados sobre o processo de desenvolvimento de softwar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3040" indent="-96840" algn="just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timativas são feitas a olho, com resultados ruin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BCDB-D0BF-4A09-9ABC-7880DCCBD8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s prazos arrastam-se por mese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ausa insatisfação para o cliente  e falta de confiança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m nenhuma indicação sólida de produtividade, não podemos avaliar com precisão a eficácia de novas ferramentas, métodos ou padrõe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10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Crise de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73727-2CA9-42C2-A719-D52990FC40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7c80"/>
                </a:solidFill>
                <a:latin typeface="Times New Roman"/>
              </a:rPr>
              <a:t>A produtividade das pessoas da área de software não tem acompanhado a demanda por seus serviç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s projetos de desenvolvimento de software normalmente são efetuados apenas com um vago indício das exigências do client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comunicação entre o cliente e o desenvolvedor de software é muito fraca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110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Crise de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69D21-ED5A-461C-AD82-3F08D60F6A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3-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7c80"/>
                </a:solidFill>
                <a:latin typeface="Times New Roman"/>
              </a:rPr>
              <a:t>A qualidade de software às vezes é menos que adequ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uso de técnicas de teste sistemáticas e comple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ó recentemente começam a surgir conceitos quantitativos sólidos de garantia de qualidade de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095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Crise de softw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964D-FAEC-4AD1-A74E-B5B921A893E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4-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7c80"/>
                </a:solidFill>
                <a:latin typeface="Times New Roman"/>
              </a:rPr>
              <a:t>O software existente é muito difícil de man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tarefa de manutenção devora o orçamento destinado ao soft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901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facilidade de manutenção não foi enfatizada como um critério importa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901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901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901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ses problemas podem ser corrigid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901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bordagem de engenharia de software aliada a técnicas e ferrament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06840" y="3782880"/>
            <a:ext cx="773280" cy="11732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Crise de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52F50-981E-48B3-A227-EE820FDD6B5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Causas dos problemas associados à crise de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bcbcb"/>
                </a:solidFill>
                <a:latin typeface="Arial"/>
              </a:rPr>
              <a:t>1- FILOSOFIA DO SOFT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cbcbcb"/>
                </a:solidFill>
                <a:latin typeface="Arial"/>
              </a:rPr>
              <a:t>2- FALHAS DAS PESSOAS RESPONSÁVEIS PELO DESENVOLVIMENTO DE SOFT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cbcbcb"/>
                </a:solidFill>
                <a:latin typeface="Arial"/>
              </a:rPr>
              <a:t>3- MITOS DO SOFT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6E671-885E-4953-AEE4-103FB993D6F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Lei de Philippe (1992 - COMDEX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undador da Borland Internation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anto maior for a equipe de desenvolvimento de software, menos eficiente será cada um de seus membros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trário aos efeitos da industrialização: quando se aumenta a escala de um processo produtivo, cada membro da equipe de produção supostamente se torna mais eficiente, e não menos eficient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C3956-C323-45F8-865C-9D2C2CA8177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Causas dos problemas associados à crise de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2437920"/>
            <a:ext cx="81536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bcbcb"/>
                </a:solidFill>
                <a:latin typeface="Arial"/>
              </a:rPr>
              <a:t>1- PRÓPRIO CARÁTER DO SOFT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 software é um elemento de sistema lógico e não físico. Conseqüentemente o sucesso é medido pela qualidade de uma única entidade e não pela qualidade de muitas entidades manufatura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 software não se desgasta, mas se deterio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E067-B6CB-45E8-953F-565DB7F6549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velopers’ Magazine, Set/99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o mercado atual, não há dúvida de que os profissionais de TI envolvidos com projetos de desenvolvimento de software e soluções corporativas têm um claro desafi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DUZIR </a:t>
            </a:r>
            <a:r>
              <a:rPr b="0" lang="pt-BR" sz="2800" spc="-1" strike="noStrike">
                <a:solidFill>
                  <a:srgbClr val="a50021"/>
                </a:solidFill>
                <a:latin typeface="Arial"/>
              </a:rPr>
              <a:t>soluções mais rápida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t-BR" sz="2800" spc="-1" strike="noStrike">
                <a:solidFill>
                  <a:srgbClr val="a50021"/>
                </a:solidFill>
                <a:latin typeface="Arial"/>
              </a:rPr>
              <a:t>melhore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pt-BR" sz="2800" spc="-1" strike="noStrike">
                <a:solidFill>
                  <a:srgbClr val="a50021"/>
                </a:solidFill>
                <a:latin typeface="Arial"/>
              </a:rPr>
              <a:t>mais barata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que antes (melhor ainda se mais rápidas, melhores e mais baratas que a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concorrênci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A663E-6F95-4067-B4E1-85AE25D1B0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04920" y="220932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bcbcb"/>
                </a:solidFill>
                <a:latin typeface="Arial"/>
              </a:rPr>
              <a:t>2- FALHAS DAS PESSOAS RESPONSÁVEIS PELO DESENVOLVIMENTO DE SOFT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erentes sem nenhum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m soft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profissionais da área de software têm recebido pouco treinamento formal em novas técnicas para o desenvolvimento de soft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sistência a mudança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52704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Causas dos problemas associados à crise de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92479-F686-4783-86F3-D54CD42413A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985680" y="2106720"/>
            <a:ext cx="7772400" cy="39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bcbcb"/>
                </a:solidFill>
                <a:latin typeface="Arial"/>
              </a:rPr>
              <a:t>3- MITOS DO SOFT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oferecem lições humana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uitas causas da crise de software podem ser localizadas pela mitologia que surgiu durante a história do desenvolvimento do soft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pagaram desinformação e confusã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it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ministrativos, do Cliente e do Profiss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52704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Causas dos problemas associados à crise de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9FE58-78FF-4A9C-B8C9-9FACD0E484A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365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Mitos do software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(ADMINISTRATIVO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220968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erentes se encontram sob press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nter orça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vitar que os prazos estou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lhor a qual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erente quando está se afogando agarra à crença de um mito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F50A1-D651-4D67-B74B-D6C11BD84E9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Mitos do software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(ADMINISTRATIVOS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Mito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Já temos um 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manual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repleto de padrões e procedimentos para a construção de software. Isso oferecerá ao meu pessoal tudo o que eles precisam sab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cc"/>
                </a:solidFill>
                <a:uFillTx/>
                <a:latin typeface="Times New Roman"/>
              </a:rPr>
              <a:t>Realidad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Times New Roman"/>
              </a:rPr>
              <a:t>Será que o manual é usado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ffffcc"/>
                </a:solidFill>
                <a:latin typeface="Times New Roman"/>
              </a:rPr>
              <a:t>Os profissionais sabem que ele existe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Times New Roman"/>
              </a:rPr>
              <a:t>Ele reflete a prática moderna de desenvolvimento de software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Times New Roman"/>
              </a:rPr>
              <a:t>Ele é completo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AFFFE-70A8-4676-83C9-5C58D6DDB77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 algn="just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Mito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u pessoal tem ferramentas de desenvolvimento de software de última geração; afinal compramos para eles os mais novos computador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cc"/>
                </a:solidFill>
                <a:uFillTx/>
                <a:latin typeface="Times New Roman"/>
              </a:rPr>
              <a:t>Realidade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cc"/>
                </a:solidFill>
                <a:latin typeface="Times New Roman"/>
              </a:rPr>
              <a:t>É preciso muito mais do que os mais recentes computadores para se fazer um desenvolvimento de software de alta qualida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cc"/>
                </a:solidFill>
                <a:latin typeface="Times New Roman"/>
              </a:rPr>
              <a:t>Ferramentas de engenharia e software auxiliada por computador CASE (Computer-Aided Software Engineering) são mais importantes do que o hard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1365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Mitos do software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(ADMINISTRATIVOS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37DE1-621E-4642-A69E-44C53E9BC22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-360" y="17524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Mito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 nós estamos atrasados nos prazos, podemos adicionar mais programadores e tirar o atraso (conceito de hordas de mongóis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alidade</a:t>
            </a: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Times New Roman"/>
              </a:rPr>
              <a:t>O desenvolvimento de software não é um processo mecânico igual à manufatur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Times New Roman"/>
              </a:rPr>
              <a:t>Acrescentar pessoas em um projeto torna-o ainda mais atrasad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Times New Roman"/>
              </a:rPr>
              <a:t>Pessoas podem ser acrescentadas, mas somente de uma forma planejada e bem coordenad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1365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Mitos do software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(ADMINISTRATIVOS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BB836-E498-4975-80CD-B82C627345E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365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Mitos do software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(CLIENTE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220968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m muitos casos, o cliente acredita em muitos mitos sobre o software, porque os gerentes e profissionais não corrijam a desinform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itos levam a falsas expectativas e insatisf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8A5BF-2B9A-45F5-8B3C-E122CF5C293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Mito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ma declaração  geral dos objetivos é suficiente para se começar a escrever programas - podemos preencher os detalhes mais tard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cc"/>
                </a:solidFill>
                <a:uFillTx/>
                <a:latin typeface="Times New Roman"/>
              </a:rPr>
              <a:t>Realidade</a:t>
            </a:r>
            <a:r>
              <a:rPr b="1" i="1" lang="pt-BR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Times New Roman"/>
              </a:rPr>
              <a:t>Uma definição inicial ruim é a principal causa de fracassos dos esforços de desenvolvimento de softwa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Times New Roman"/>
              </a:rPr>
              <a:t>É fundamental uma descrição formal e detalhada do domínio da informação, função, desempenho, interfaces, restrições de projeto e critérios de validaçã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1365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Mitos do software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(CLIENTE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3F8A-5AFF-4587-9323-D079DB7B10A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0" y="1761840"/>
            <a:ext cx="87566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Mito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requisitos de projeto modificam-se continuamente, mas as mudanças podem ser facilmente acomodadas, porque o software é flexív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cc"/>
                </a:solidFill>
                <a:uFillTx/>
                <a:latin typeface="Times New Roman"/>
              </a:rPr>
              <a:t>Realidade</a:t>
            </a:r>
            <a:r>
              <a:rPr b="1" i="1" lang="pt-BR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cc"/>
                </a:solidFill>
                <a:latin typeface="Times New Roman"/>
              </a:rPr>
              <a:t>Requisitos podem ser mudados, mas o impacto varia de acordo com o tempo que é introduzido (projeto e cust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cc"/>
                </a:solidFill>
                <a:latin typeface="Times New Roman"/>
              </a:rPr>
              <a:t>Um mudança, quando solicitada tardiamente num projeto, pode ser mais do que a ordem de magnitude mais dispendiosa da mesma mudança solicitada nas fases iniciais (Figur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1365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Mitos do software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(CLIENTE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ABD4-CD04-412B-9844-FBF96A6FA8C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custos" descr=""/>
          <p:cNvPicPr/>
          <p:nvPr/>
        </p:nvPicPr>
        <p:blipFill>
          <a:blip r:embed="rId1"/>
          <a:stretch/>
        </p:blipFill>
        <p:spPr>
          <a:xfrm>
            <a:off x="0" y="-3240"/>
            <a:ext cx="9220320" cy="693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7C1B-EC02-41CD-B443-25BDE26B2F0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senvolver software é um problema de métodos e técnica, em suma, de atividade huma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Hoje a TI está comprometida com o SUCESSO - significa COMPETITIVIDADE, fazer mais, melhor e mais bara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erenciar projetos de TI é </a:t>
            </a:r>
            <a:r>
              <a:rPr b="0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gerenciar risco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assumidos e vencidos por seres humanos inteligen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ESSOAS precisam de investimentos massivos!!! (SOLUÇÃ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17AD-9427-4744-8F96-7EAC5DF696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365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Mitos do software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(PROFISSSIONAL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220968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urante os primórdios da computação, a programação era vista como uma forma de a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elhas maneiras e atitudes dificilmente morrem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96B59-B7D3-4963-80C9-923BDC81018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Mito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ssim que escrevermos o programa e o colocarmos em funcionamento nosso trabalho estará complet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cc"/>
                </a:solidFill>
                <a:uFillTx/>
                <a:latin typeface="Times New Roman"/>
              </a:rPr>
              <a:t>Realidade</a:t>
            </a:r>
            <a:r>
              <a:rPr b="1" i="1" lang="pt-BR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Times New Roman"/>
              </a:rPr>
              <a:t>Os dados da indústria indicam que entre 50 e 70% de todo esforço gasto num programa serão despendidos depois que ele for entregue pela primeira vez ao clie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365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Mitos do software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(PROFISSIONAL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61436-ECAB-4A9E-ADFF-1AE2CE53507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Mito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quanto não tiver o programa "funcionando", eu não terei realmente nenhuma maneira de avaliar sua qualidad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cc"/>
                </a:solidFill>
                <a:uFillTx/>
                <a:latin typeface="Times New Roman"/>
              </a:rPr>
              <a:t>Realidade</a:t>
            </a:r>
            <a:r>
              <a:rPr b="1" i="1" lang="pt-BR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Times New Roman"/>
              </a:rPr>
              <a:t>Mecanismo (Revisão Técnica Formal) de garantia de qualidade de software é aplicado desde o começo do proje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Times New Roman"/>
              </a:rPr>
              <a:t>Revisões de software são um “filtro de qualidade” - descobre erros/defeit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1365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Mitos do software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(PROFISSIONAL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B7021-8490-48E3-BDF9-46FEA11DAE2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lvl="1" marL="735480" indent="-28296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Mito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única coisa a ser entregue em um  projeto bem-sucedido é o programa funciona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ffffcc"/>
                </a:solidFill>
                <a:uFillTx/>
                <a:latin typeface="Times New Roman"/>
              </a:rPr>
              <a:t>Realidade</a:t>
            </a:r>
            <a:r>
              <a:rPr b="1" i="1" lang="pt-BR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Times New Roman"/>
              </a:rPr>
              <a:t>Um programa funcionando é somente uma parte de uma Configuração de Software que inclui todos os itens de informação produzidos durante a construção e manutenção do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cc"/>
                </a:solidFill>
                <a:latin typeface="Times New Roman"/>
              </a:rPr>
              <a:t>A DOCUMENTAÇÃO é o alice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65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Mitos do software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(PROFISSIONAL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5493E-BED7-4B8F-B492-71361CC32AD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Problemas do Desenvolvimento atual de 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1 - Sofisticação do Software e desenvolvimento do Hardware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2 - Aumento expressivo da dema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3 - Má administração, planejamento e gerencia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13C82-6E7C-449A-807C-E50B6A35581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Questionament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r que tanta demora para entrega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r que os prazos se atrasam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r que os custos são alto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r que não achar todos os erros antes de entrega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r que dificuldade em medir o progresso do desenvolvimento de um softwar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BD53E-14E5-4A5D-A5B5-E117FEBF27D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nhecer os problemas e suas causas e desmascarar os mitos do software sã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s primeiros pass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étodos e Técnicas para o disciplinar o processo de desenvolvimento do soft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Qual é a SOLUÇÃ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60960" y="4819680"/>
            <a:ext cx="766800" cy="911160"/>
          </a:xfrm>
          <a:custGeom>
            <a:avLst/>
            <a:gdLst/>
            <a:ahLst/>
            <a:rect l="l" t="t" r="r" b="b"/>
            <a:pathLst>
              <a:path w="3398" h="4754">
                <a:moveTo>
                  <a:pt x="2605" y="0"/>
                </a:moveTo>
                <a:lnTo>
                  <a:pt x="2605" y="2789"/>
                </a:lnTo>
                <a:lnTo>
                  <a:pt x="3398" y="2789"/>
                </a:lnTo>
                <a:lnTo>
                  <a:pt x="1701" y="4754"/>
                </a:lnTo>
                <a:lnTo>
                  <a:pt x="0" y="2789"/>
                </a:lnTo>
                <a:lnTo>
                  <a:pt x="795" y="2789"/>
                </a:lnTo>
                <a:lnTo>
                  <a:pt x="795" y="2066"/>
                </a:lnTo>
                <a:lnTo>
                  <a:pt x="2605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101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216240" y="5572080"/>
            <a:ext cx="44290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genharia de Software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C737-A2C4-4005-A9D4-C4E8075F615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09680" y="1904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Se você não tiver um bom planejamento, uma boa interface humana, não adianta  ter um projeto tecnológico fantástico porque a chance de que ele funcione é zero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O gerente de projetos de TI é um líder que motiva não só os desenvolvedores, como também o pessoal que utiliza a TI.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DBC84-1050-432E-96AA-3827675943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50-1970: Desafio principal era desenvolver Hard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zir  o custo de processamento e armazenamento de dad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je: Reduzir o custo e melhorar a qualidade dos Softwares (potencial da computaçã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acto na sociedade e cultura é profundo!!!!!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software atingiu as grandes massas; tomada de decisões nos negócios, base para a pesquisa científica, solução de problemas de engenharia e telecomunicações, funcionalidade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uman-Friend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unidade de Software objetiva desenvolver tecnologias para facilitar o projeto de softwares d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ta qualida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907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0193-662F-4FC0-A4EE-3221B20040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7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O que é Softwar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B852E-93E8-47DE-AAD5-B51AC33979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cionário Auréli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gra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quilo que pode ser executado por um equipamento (o hardwar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m produto comercializado que consiste em um sistema de rotinas e funçõ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07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cbcb"/>
                </a:solidFill>
                <a:latin typeface="Arial"/>
              </a:rPr>
              <a:t>O que é Softwar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Marcelo A. S. Turine - 2002 - Engenharia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E11FE-385F-4A03-8EA9-7173281E3A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6T12:56:26Z</dcterms:created>
  <dc:creator>Marcelo Augusto Santos Turine</dc:creator>
  <dc:description/>
  <dc:language>en-US</dc:language>
  <cp:lastModifiedBy>teste</cp:lastModifiedBy>
  <cp:lastPrinted>2000-08-10T17:25:59Z</cp:lastPrinted>
  <dcterms:modified xsi:type="dcterms:W3CDTF">2002-04-11T02:44:54Z</dcterms:modified>
  <cp:revision>310</cp:revision>
  <dc:subject/>
  <dc:title>Parte I - O Produto e o Processo</dc:title>
</cp:coreProperties>
</file>