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0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7.png" ContentType="image/png"/>
  <Override PartName="/ppt/media/image3.wmf" ContentType="image/x-wmf"/>
  <Override PartName="/ppt/media/image25.png" ContentType="image/png"/>
  <Override PartName="/ppt/media/image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3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2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46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1149480" y="8445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7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16B981-3243-4826-A2C2-18F3411A5178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BACAFC-0B9B-449A-88D0-08282E622D5B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000080" y="738360"/>
            <a:ext cx="4859280" cy="36446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92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E2A8BE-AB05-4FDC-AD2F-523350E440C1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7D69F5-A634-4E2C-AFEE-E4EFCAE8162A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6B452F-35DE-4659-98AF-28A18816FF80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71AFC4-4869-47EB-8DF8-0AADB131A9E4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D64845-AE9C-4C6A-BA3E-F3906EA2EEDE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6FAE10-721E-4133-948A-4AB3A804B845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4FF0A5-9006-4B5B-88F7-98E8CB9D0C83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FD85B7-1581-4958-B557-2976947AE37E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342F-EF07-424F-80C0-C7DF5ABF87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CF97-83DE-4A2D-9AF3-125C6398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E296-E093-46FD-BB47-7D34342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8C6A-FC29-4E15-9B80-22CC7E1A4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5D6EE-543A-4E7B-AC83-B99F9A9F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9FFA6-84AF-465D-A1CD-5488D684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EC66C-9F5F-4951-A6FF-DF4CFD6B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835B5-EF68-48B0-AD41-F0D1704E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09DB9-9B1B-441D-8528-F5871DED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723960"/>
            <a:ext cx="80010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2EAC0-B00B-4E37-A369-2076830B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6BB9C-1B9A-4C92-9FED-FB42AB3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4B73-1789-4E3D-99B5-988CB6AC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ACBA8-2FC2-4888-B505-59BE73A3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FBE1B-76F8-4B02-B195-40351015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1526D-A110-452F-888B-EC07C801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5BFBF-12DA-4CB3-B6BA-05748627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B7269-E01F-4B80-AE0D-DF7123E0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2755-999F-4B13-8429-163055EB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9968-AC9E-4C51-B767-179181EC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FBED-4406-4676-ADDA-B78A9108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723960"/>
            <a:ext cx="80010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4DB9-EDF3-4172-90CE-C547E212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C2A3-1EBF-4B48-AE2F-CD3F3A1A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44CD-4E02-4F85-B7E4-D247C8E2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7620-2369-4D31-95E4-A1664DE9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1520" y="152280"/>
            <a:ext cx="8940960" cy="285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0000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0120" y="399960"/>
            <a:ext cx="8636040" cy="152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000000"/>
              </a:gs>
              <a:gs pos="100000">
                <a:srgbClr val="ff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1520" y="6496200"/>
            <a:ext cx="8940960" cy="95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3600" y="6458040"/>
            <a:ext cx="8416800" cy="38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77320" y="6624720"/>
            <a:ext cx="914400" cy="2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EE82-6A2C-42FD-82DC-29DE92BAED0B}" type="slidenum">
              <a:rPr b="0" lang="en-US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01520" y="1371600"/>
            <a:ext cx="8940960" cy="4762440"/>
            <a:chOff x="101520" y="1371600"/>
            <a:chExt cx="8940960" cy="4762440"/>
          </a:xfrm>
        </p:grpSpPr>
        <p:sp>
          <p:nvSpPr>
            <p:cNvPr id="45" name=""/>
            <p:cNvSpPr/>
            <p:nvPr/>
          </p:nvSpPr>
          <p:spPr>
            <a:xfrm>
              <a:off x="101520" y="1371600"/>
              <a:ext cx="8940960" cy="2858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000000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4160" y="1771560"/>
              <a:ext cx="8635680" cy="1526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000000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101520" y="5924520"/>
              <a:ext cx="8940960" cy="209520"/>
              <a:chOff x="101520" y="5924520"/>
              <a:chExt cx="8940960" cy="209520"/>
            </a:xfrm>
          </p:grpSpPr>
          <p:sp>
            <p:nvSpPr>
              <p:cNvPr id="48" name=""/>
              <p:cNvSpPr/>
              <p:nvPr/>
            </p:nvSpPr>
            <p:spPr>
              <a:xfrm>
                <a:off x="101520" y="6039000"/>
                <a:ext cx="8940960" cy="9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600" y="5924520"/>
                <a:ext cx="8416800" cy="381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685800" y="647712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3080" y="647712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2D4-6304-4243-BEED-5497153EBD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cc"/>
                </a:solidFill>
                <a:latin typeface="Times New Roman"/>
              </a:rPr>
              <a:t>TESTE DE SOFTWARE</a:t>
            </a:r>
            <a:endParaRPr b="0" i="1" lang="en-US" sz="5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41400" y="3060720"/>
            <a:ext cx="5461200" cy="12700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409920"/>
            <a:ext cx="5867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ÃO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6B250-D02F-4B91-8E22-09E544CB5D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rantia de Qualidade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ação: Assegurar que o produto final corresponda aos requisitos do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ção: Assegurar consistência, completitude e corretitude do produto em cada fase e entre fases consecutivas do ciclo de vida do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: Examina o comportamento do produto através de sua exec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048120"/>
            <a:ext cx="5562360" cy="45972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tamos construindo o produto cer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876920"/>
            <a:ext cx="6477120" cy="45972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tamos construindo corretamente o produ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F62F-4ED0-44A2-A573-9C03109390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91C7E32-7384-47DC-854B-FBD0DEE2B389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) 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11480" y="5272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455160" y="5272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5638680"/>
            <a:ext cx="7162920" cy="99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{ (a1, Válido), (2B3, Inválido), (Z-12, Inválido), (A1b2C3d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1#, Inválido), (%, Inválido), (c, 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#-%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5" name="status-T0" descr=""/>
          <p:cNvPicPr/>
          <p:nvPr/>
        </p:nvPicPr>
        <p:blipFill>
          <a:blip r:embed="rId1"/>
          <a:stretch/>
        </p:blipFill>
        <p:spPr>
          <a:xfrm>
            <a:off x="330120" y="2298600"/>
            <a:ext cx="4191120" cy="2959200"/>
          </a:xfrm>
          <a:prstGeom prst="rect">
            <a:avLst/>
          </a:prstGeom>
          <a:ln w="0">
            <a:noFill/>
          </a:ln>
        </p:spPr>
      </p:pic>
      <p:pic>
        <p:nvPicPr>
          <p:cNvPr id="846" name="status-T2" descr=""/>
          <p:cNvPicPr/>
          <p:nvPr/>
        </p:nvPicPr>
        <p:blipFill>
          <a:blip r:embed="rId2"/>
          <a:stretch/>
        </p:blipFill>
        <p:spPr>
          <a:xfrm>
            <a:off x="4600440" y="2292480"/>
            <a:ext cx="4200840" cy="29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2FBC-F533-41C8-89C4-ACCF91C30CFC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AA621F1-D4C8-4E20-8582-3A7AB46C4A85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Visualização de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viewmutants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55040" cy="38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3416-161F-49C0-9E0A-66616F8C26B5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3582427-EA71-444F-AF15-848D856B5BB8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) 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211480" y="5067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455160" y="5067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4920" y="5486400"/>
            <a:ext cx="77724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zzz, Válido), (aA, Válido), (A1234, Válido), (ZZZ, Válido)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(AAA, Válido), (aa09, Válido), ([, Inválido), ({, Inválido)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(x/, Inválido), (x:, Inválido), (x18, Válido), (x[[, Inválido), (x{{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 (@, Inválido), (`, Inválido), (x@, Inválido), (x`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5" name="status-T5" descr=""/>
          <p:cNvPicPr/>
          <p:nvPr/>
        </p:nvPicPr>
        <p:blipFill>
          <a:blip r:embed="rId1"/>
          <a:stretch/>
        </p:blipFill>
        <p:spPr>
          <a:xfrm>
            <a:off x="304920" y="2139840"/>
            <a:ext cx="4200480" cy="2965680"/>
          </a:xfrm>
          <a:prstGeom prst="rect">
            <a:avLst/>
          </a:prstGeom>
          <a:ln w="0">
            <a:noFill/>
          </a:ln>
        </p:spPr>
      </p:pic>
      <p:pic>
        <p:nvPicPr>
          <p:cNvPr id="856" name="status-T6" descr=""/>
          <p:cNvPicPr/>
          <p:nvPr/>
        </p:nvPicPr>
        <p:blipFill>
          <a:blip r:embed="rId2"/>
          <a:stretch/>
        </p:blipFill>
        <p:spPr>
          <a:xfrm>
            <a:off x="4572000" y="2139840"/>
            <a:ext cx="4200480" cy="29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1A9C-16FD-42CB-B82D-85CF7D5E92DD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FB714F-7B22-4708-B177-294ECCCC925B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ntes Viv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143000" y="419112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tante Gerado pelo Operador OR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valid_id &amp;&amp; (length &gt;= 1) &amp;&amp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 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&lt;=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43000" y="2362320"/>
            <a:ext cx="6248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tante Gerado pelo Operador VTW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valid_id &amp;&amp; (length &gt;= 1) &amp;&amp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PRED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) &lt;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81760" y="4552920"/>
            <a:ext cx="22860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2705040"/>
            <a:ext cx="2286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648320" y="563868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 =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BCDEF, Válido)}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ída obtida = Inváli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BFA5-5018-4C4E-B725-F0AF81BA5DA9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C534CF-AD1F-4BBC-89CC-609F8A1C79B2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80880" y="914400"/>
            <a:ext cx="8458200" cy="56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 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har  acha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  length, valid_i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"Digite um possível identificador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"seguido por &lt;ENTER&gt;: 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valid_id = valid_s(achar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f (valid_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2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 =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3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4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while (achar != '\n'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5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5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f (!(valid_f(achar)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6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valid_id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++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8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f (valid_id &amp;&amp; (length &gt;= 1) &amp;&amp; 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(length &lt;= 6)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9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0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0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1 */  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14940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r.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çã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ão Corrig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8B45-C186-4F9D-AE77-7BBF88A361B1}" type="slidenum">
              <a:t>10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6B56886-50E5-4E83-8F1D-32E4A2E5BB16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o programa corrigi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66680" y="5867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ABCDEF, 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9" name="status-AM-adequado" descr=""/>
          <p:cNvPicPr/>
          <p:nvPr/>
        </p:nvPicPr>
        <p:blipFill>
          <a:blip r:embed="rId1"/>
          <a:stretch/>
        </p:blipFill>
        <p:spPr>
          <a:xfrm>
            <a:off x="2239920" y="2362320"/>
            <a:ext cx="4664160" cy="32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B73B-5958-45D8-BC88-E000E91492C7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1404A2C-C54C-428E-AB38-B2A2C94084F5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ende os conceitos utilizados pela Análise de Mutantes para o teste de integr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éias básic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licar os operadores somente nas partes relacionadas às interfaces dos módu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madas de função, parâmetros, variáveis glob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ngir os operadores de mutação a fim de modelar somente os erros de integr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ar as conexões entre os módulos, separadamente, uma de cada v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2201-A3F1-4CD8-9E26-93DC5C7D81B6}" type="slidenum">
              <a:t>106</a:t>
            </a:fld>
          </a:p>
        </p:txBody>
      </p:sp>
    </p:spTree>
  </p:cSld>
  <p:transition>
    <p:pull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s de Integ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533520" y="2981160"/>
            <a:ext cx="7941960" cy="1969920"/>
            <a:chOff x="533520" y="2981160"/>
            <a:chExt cx="7941960" cy="1969920"/>
          </a:xfrm>
        </p:grpSpPr>
        <p:sp>
          <p:nvSpPr>
            <p:cNvPr id="875" name=""/>
            <p:cNvSpPr/>
            <p:nvPr/>
          </p:nvSpPr>
          <p:spPr>
            <a:xfrm>
              <a:off x="1289160" y="3809880"/>
              <a:ext cx="3682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19320" y="3470400"/>
              <a:ext cx="1022400" cy="10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3520" y="3828960"/>
              <a:ext cx="9745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i="1" lang="en-US" sz="1600" spc="-1" strike="noStrike" baseline="-25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orre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14400" y="3103560"/>
              <a:ext cx="685800" cy="3668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558880" y="4371840"/>
              <a:ext cx="97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í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orre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66960" y="4489560"/>
              <a:ext cx="685800" cy="3668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68520" y="467352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460680" y="2981160"/>
              <a:ext cx="2482560" cy="1855800"/>
              <a:chOff x="3460680" y="2981160"/>
              <a:chExt cx="2482560" cy="1855800"/>
            </a:xfrm>
          </p:grpSpPr>
          <p:sp>
            <p:nvSpPr>
              <p:cNvPr id="883" name=""/>
              <p:cNvSpPr/>
              <p:nvPr/>
            </p:nvSpPr>
            <p:spPr>
              <a:xfrm>
                <a:off x="4149360" y="3809880"/>
                <a:ext cx="3873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079520" y="3470040"/>
                <a:ext cx="1041480" cy="1041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460680" y="3813120"/>
                <a:ext cx="97452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0" i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I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 flipV="1">
                <a:off x="4587120" y="3770280"/>
                <a:ext cx="397080" cy="39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968720" y="3679560"/>
                <a:ext cx="97452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0" i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O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42920" y="3103560"/>
                <a:ext cx="68580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344840" y="3287520"/>
                <a:ext cx="533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74800" y="2981160"/>
                <a:ext cx="9745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aí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714560" y="4470120"/>
                <a:ext cx="68580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6294600" y="2984400"/>
              <a:ext cx="2180880" cy="1852560"/>
              <a:chOff x="6294600" y="2984400"/>
              <a:chExt cx="2180880" cy="1852560"/>
            </a:xfrm>
          </p:grpSpPr>
          <p:sp>
            <p:nvSpPr>
              <p:cNvPr id="893" name=""/>
              <p:cNvSpPr/>
              <p:nvPr/>
            </p:nvSpPr>
            <p:spPr>
              <a:xfrm>
                <a:off x="6611760" y="3470040"/>
                <a:ext cx="1041480" cy="1032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flipV="1">
                <a:off x="7120080" y="3769920"/>
                <a:ext cx="396720" cy="40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500960" y="3679560"/>
                <a:ext cx="97452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0" i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O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294600" y="3106440"/>
                <a:ext cx="68580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896160" y="3290760"/>
                <a:ext cx="53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26120" y="2984400"/>
                <a:ext cx="9745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aí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267680" y="4470120"/>
                <a:ext cx="68580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7B41-276D-418C-A948-44A19BFD7CEA}" type="slidenum">
              <a:t>107</a:t>
            </a:fld>
          </a:p>
        </p:txBody>
      </p:sp>
    </p:spTree>
  </p:cSld>
  <p:transition>
    <p:pull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6230880" y="4802040"/>
            <a:ext cx="2225520" cy="1290600"/>
            <a:chOff x="6230880" y="4802040"/>
            <a:chExt cx="2225520" cy="1290600"/>
          </a:xfrm>
        </p:grpSpPr>
        <p:sp>
          <p:nvSpPr>
            <p:cNvPr id="901" name=""/>
            <p:cNvSpPr/>
            <p:nvPr/>
          </p:nvSpPr>
          <p:spPr>
            <a:xfrm>
              <a:off x="6605640" y="5206680"/>
              <a:ext cx="387360" cy="5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88080" y="5719680"/>
              <a:ext cx="685800" cy="3668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30880" y="4802040"/>
              <a:ext cx="685800" cy="3668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51320" y="48067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rupo 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13560" y="572436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rupo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Proteum/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milar à ferramenta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3 operadores de mu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rupo I - função cham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andos de interface, variáveis globais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 de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rupo II - função “chamador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ntos de chamada de fun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0022-39AB-4240-B116-F793E54BD6BE}" type="slidenum">
              <a:t>108</a:t>
            </a:fld>
          </a:p>
        </p:txBody>
      </p:sp>
    </p:spTree>
  </p:cSld>
  <p:transition>
    <p:pull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antes do Grupo-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es associados a uma dada chamada só podem ser mortos se tal ponto de chamada for execu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0" name="conexaof-g" descr=""/>
          <p:cNvPicPr/>
          <p:nvPr/>
        </p:nvPicPr>
        <p:blipFill>
          <a:blip r:embed="rId1"/>
          <a:stretch/>
        </p:blipFill>
        <p:spPr>
          <a:xfrm>
            <a:off x="2819520" y="3610080"/>
            <a:ext cx="388620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9FEA-BB66-41AB-91A6-443EA7D273E1}" type="slidenum">
              <a:t>109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89120" y="544680"/>
            <a:ext cx="7451640" cy="5078160"/>
            <a:chOff x="789120" y="544680"/>
            <a:chExt cx="7451640" cy="5078160"/>
          </a:xfrm>
        </p:grpSpPr>
        <p:sp>
          <p:nvSpPr>
            <p:cNvPr id="128" name=""/>
            <p:cNvSpPr/>
            <p:nvPr/>
          </p:nvSpPr>
          <p:spPr>
            <a:xfrm>
              <a:off x="789120" y="544680"/>
              <a:ext cx="1933560" cy="126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Engenharia de Siste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43080" y="1251000"/>
              <a:ext cx="2106720" cy="1268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Análise  de Requisitos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3280" y="1954080"/>
              <a:ext cx="2106720" cy="127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Projeto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49800" y="2660760"/>
              <a:ext cx="2106720" cy="126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Codificação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35400" y="3367080"/>
              <a:ext cx="2106720" cy="12682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Test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34040" y="3930480"/>
              <a:ext cx="2106720" cy="1268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Manutenção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08360" y="968400"/>
              <a:ext cx="5554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49800" y="1531800"/>
              <a:ext cx="33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2236680"/>
              <a:ext cx="331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6520" y="2943360"/>
              <a:ext cx="33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2120" y="3648240"/>
              <a:ext cx="444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63840" y="968400"/>
              <a:ext cx="0" cy="282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81360" y="1531800"/>
              <a:ext cx="0" cy="42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11920" y="2236680"/>
              <a:ext cx="0" cy="42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88080" y="2943360"/>
              <a:ext cx="0" cy="423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86720" y="3648240"/>
              <a:ext cx="0" cy="282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32680" y="5198760"/>
              <a:ext cx="0" cy="423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77800" y="5622840"/>
              <a:ext cx="5654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77800" y="1814400"/>
              <a:ext cx="0" cy="3808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19240" y="2519280"/>
              <a:ext cx="0" cy="3103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27320" y="3224160"/>
              <a:ext cx="0" cy="2398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3840" y="3930480"/>
              <a:ext cx="0" cy="1692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91240" y="4635360"/>
              <a:ext cx="0" cy="987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21840" y="596196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clo de Vida Cláss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6307200" y="2302560"/>
            <a:ext cx="1586160" cy="485640"/>
          </a:xfrm>
          <a:custGeom>
            <a:avLst/>
            <a:gdLst>
              <a:gd name="textAreaLeft" fmla="*/ 247680 w 1586160"/>
              <a:gd name="textAreaRight" fmla="*/ 1059480 w 1586160"/>
              <a:gd name="textAreaTop" fmla="*/ 52200 h 485640"/>
              <a:gd name="textAreaBottom" fmla="*/ 43344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2329"/>
                </a:moveTo>
                <a:lnTo>
                  <a:pt x="12454" y="2329"/>
                </a:lnTo>
                <a:lnTo>
                  <a:pt x="12454" y="0"/>
                </a:lnTo>
                <a:lnTo>
                  <a:pt x="21600" y="10800"/>
                </a:lnTo>
                <a:lnTo>
                  <a:pt x="12454" y="21600"/>
                </a:lnTo>
                <a:lnTo>
                  <a:pt x="12454" y="19271"/>
                </a:lnTo>
                <a:lnTo>
                  <a:pt x="3375" y="19271"/>
                </a:lnTo>
                <a:close/>
              </a:path>
              <a:path w="21600" h="21600">
                <a:moveTo>
                  <a:pt x="0" y="2329"/>
                </a:moveTo>
                <a:lnTo>
                  <a:pt x="675" y="2329"/>
                </a:lnTo>
                <a:lnTo>
                  <a:pt x="675" y="19271"/>
                </a:lnTo>
                <a:lnTo>
                  <a:pt x="0" y="19271"/>
                </a:lnTo>
                <a:close/>
              </a:path>
              <a:path w="21600" h="21600">
                <a:moveTo>
                  <a:pt x="1350" y="2329"/>
                </a:moveTo>
                <a:lnTo>
                  <a:pt x="2700" y="2329"/>
                </a:lnTo>
                <a:lnTo>
                  <a:pt x="2700" y="19271"/>
                </a:lnTo>
                <a:lnTo>
                  <a:pt x="1350" y="19271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18A6-2BAC-462D-AEFE-EB63A866E1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/I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Interface Gráfica</a:t>
            </a:r>
            <a:r>
              <a:rPr b="1" lang="pt-BR" sz="24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main-all" descr=""/>
          <p:cNvPicPr/>
          <p:nvPr/>
        </p:nvPicPr>
        <p:blipFill>
          <a:blip r:embed="rId1"/>
          <a:stretch/>
        </p:blipFill>
        <p:spPr>
          <a:xfrm>
            <a:off x="1879560" y="2297160"/>
            <a:ext cx="5410080" cy="40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2565-7FB5-4496-ADBE-4D2498D67B59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555D3B8-A00B-4161-817E-1EEDCF73F38E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/I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Criando uma Sessão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session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64160" cy="20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7F26-3986-4780-868B-B05AEE9C8F15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ACB3BEC-B326-4159-98EC-4207E2430035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/I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pt-BR" sz="24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Gerando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inter-oper" descr=""/>
          <p:cNvPicPr/>
          <p:nvPr/>
        </p:nvPicPr>
        <p:blipFill>
          <a:blip r:embed="rId1"/>
          <a:stretch/>
        </p:blipFill>
        <p:spPr>
          <a:xfrm>
            <a:off x="2081160" y="2368440"/>
            <a:ext cx="5234040" cy="42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CF56-7AAA-4AF6-818C-BF062059E527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EC486E2-1E12-4530-AD82-DC2A176409E4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) e equivalentes (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211480" y="53132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455160" y="53132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66680" y="5791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{ (a1, Válido), (2B3, Inválido), (Z-12, Inválido), (A1b2C3d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5" name="status-t0" descr=""/>
          <p:cNvPicPr/>
          <p:nvPr/>
        </p:nvPicPr>
        <p:blipFill>
          <a:blip r:embed="rId1"/>
          <a:stretch/>
        </p:blipFill>
        <p:spPr>
          <a:xfrm>
            <a:off x="341280" y="2362320"/>
            <a:ext cx="4167360" cy="2989080"/>
          </a:xfrm>
          <a:prstGeom prst="rect">
            <a:avLst/>
          </a:prstGeom>
          <a:ln w="0">
            <a:noFill/>
          </a:ln>
        </p:spPr>
      </p:pic>
      <p:pic>
        <p:nvPicPr>
          <p:cNvPr id="926" name="status-t0-equivs" descr=""/>
          <p:cNvPicPr/>
          <p:nvPr/>
        </p:nvPicPr>
        <p:blipFill>
          <a:blip r:embed="rId2"/>
          <a:stretch/>
        </p:blipFill>
        <p:spPr>
          <a:xfrm>
            <a:off x="4595760" y="2362320"/>
            <a:ext cx="4167360" cy="29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9A50-CECD-4603-A14C-557AEF4F5919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B11CBC9-823D-4C66-8597-FA6EA73EF763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nte do Grupo-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295280" y="2233440"/>
            <a:ext cx="6705720" cy="435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“Identificador: 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(valid_id = PREPARE2_MUTA(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valid_s(achar)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valid_s(char ch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IF_MUTA(((ch &gt;= ´A´) &amp;&amp; (ch &lt;= ´Z´)) |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(ch &gt;= ´a´) &amp;&amp; (ch &lt;= ´z´)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((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-ch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&gt;= ´A´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&amp;&amp; (ch &lt;= ´Z´)) |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(ch &gt;= ´a´) &amp;&amp; (ch &lt;= ´z´))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turn (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6032520"/>
            <a:ext cx="114300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2E6B-84CF-4109-B214-E7FB0B105005}" type="slidenum">
              <a:t>114</a:t>
            </a:fld>
          </a:p>
        </p:txBody>
      </p:sp>
    </p:spTree>
  </p:cSld>
  <p:transition>
    <p:pull dir="l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nte do Grupo-I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295280" y="2568600"/>
            <a:ext cx="6705720" cy="252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“Identificador: 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valid_id = valid_s(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-achar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f (valid_id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length =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FCBC-0A4A-4240-9A56-9EA40445730D}" type="slidenum">
              <a:t>115</a:t>
            </a:fld>
          </a:p>
        </p:txBody>
      </p:sp>
    </p:spTree>
  </p:cSld>
  <p:transition>
    <p:pull dir="l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) 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211480" y="5272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55160" y="5272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0666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#-%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ABCDEF, 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9" name="status-t2" descr=""/>
          <p:cNvPicPr/>
          <p:nvPr/>
        </p:nvPicPr>
        <p:blipFill>
          <a:blip r:embed="rId1"/>
          <a:stretch/>
        </p:blipFill>
        <p:spPr>
          <a:xfrm>
            <a:off x="341280" y="2320920"/>
            <a:ext cx="4167360" cy="2989440"/>
          </a:xfrm>
          <a:prstGeom prst="rect">
            <a:avLst/>
          </a:prstGeom>
          <a:ln w="0">
            <a:noFill/>
          </a:ln>
        </p:spPr>
      </p:pic>
      <p:pic>
        <p:nvPicPr>
          <p:cNvPr id="940" name="status-t5" descr=""/>
          <p:cNvPicPr/>
          <p:nvPr/>
        </p:nvPicPr>
        <p:blipFill>
          <a:blip r:embed="rId2"/>
          <a:stretch/>
        </p:blipFill>
        <p:spPr>
          <a:xfrm>
            <a:off x="4610160" y="2320920"/>
            <a:ext cx="4167000" cy="29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A1BC-C718-47BC-85B6-4C28F5B96BC5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8147EAE-F646-429E-98A5-DC283CC3BDE1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versidade de Critério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udos Empíric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valiar e comparar os critérios de te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usto: esforço necessário para que um critério seja uti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ts val="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ficácia: capacidade de um critério em revelar um maior número de erros em relação a ou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ts val="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ficuldade de satisfação (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strength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): capacidade de satisfazer-se um critério tendo satisfeito ou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143000" y="2301840"/>
            <a:ext cx="6858000" cy="82548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ual deles utilizar a fim de obter a melhor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lação custo/benefíci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C800-0C67-42BA-8B32-4386EAAA51E9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8C6010-4A9D-4B25-8568-C775F28CC80D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ério Análise de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a eficácia em revelar a presença de er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o custo de apl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valência entre progr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de número de mutantes gerados e que precisam ser execu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ordagens Alternativ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tação Aleat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tação Sele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tação Restr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junto Essencial de Operadores de Mu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5943600"/>
            <a:ext cx="7848720" cy="70380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iabilizar a aplicação do critério em ambientes reai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 desenvolvimento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018A-E3C9-4D8B-B6B8-94BB0B7B080C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AF75D20-2D09-4ADD-A7D0-4091FE28AECD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ção Aleató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enas uma porcentagem dos mutantes gerados a partir de cada operador é conside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ção Seleti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operadores responsáveis pelo maior número de mutantes não são aplic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5C6A-975B-4FE0-B161-E9E33094C5C6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4A0BADD-AE8A-4015-94EA-0ABBA1332F86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tistas de software experientes dizem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atividade de teste nunca termina; ela apenas é transferida do projetista (você) para o seu cliente. Toda vez que o seu cliente usa o programa, um teste é realizad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FEB2-8AF3-4A5C-97F0-418121EFE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ção Restri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dores de mutação específicos são selecionados para serem utilizados na geração dos mu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3917880"/>
            <a:ext cx="7620120" cy="11912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ja OP o conjunto total de operadores de mutaçã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ubconjunto SC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{OP}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constitui um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itério de mutação restri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F26B-3188-4457-B181-7687E50E1E1B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431643-7F69-47F0-98A4-17B78A17323C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junto Essencial de Operadores de Mu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conjun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 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384880" y="367200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82160" y="37101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4438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icá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170160" y="371484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642480" y="407196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Symbol"/>
                <a:ea typeface="Symbol"/>
              </a:rPr>
              <a:t>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2971800" y="3657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E224-1E0C-48B1-897A-5D45CDAE79A3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9B07CB3-64CA-4D66-B708-F87D98F907AE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udo de Offutt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Fort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Mot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22 operadores de mutação: 5 compõem o conjunto essencial (classe de modificação de expressõ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gnificativa redução de custo: 77.5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o grau de adequação em relação à Análise de Mutantes: 0.9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blema: erros modelados pelas demais classes podem não estar representados no conjunto ess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9AAE-A2C6-45AC-A4DB-80F0860B726E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8EEBF3C-E168-4A47-822A-BE0F8FBB9494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udo de Wong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71 oper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junto de 11 oper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btido intuitivamente, com base na experiência dos au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6 operadores constituem um conjunto preliminar para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 determinação dos operadores essenciais da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850A-7D9B-44A8-9C99-0BA8F7C85E03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6CD67F-9014-44C6-A235-8AD04BB22D09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cedimento </a:t>
            </a:r>
            <a:r>
              <a:rPr b="1" lang="pt-BR" sz="2400" spc="-1" strike="noStrike">
                <a:solidFill>
                  <a:srgbClr val="ffffff"/>
                </a:solidFill>
                <a:latin typeface="augie"/>
              </a:rPr>
              <a:t>Essencia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definido por Barbos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sto de 6 passos, baseados em 6 diretrizes que descrevem as principais características de um conjunto ess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 Prote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71 operadores: 10 compõem o conjunto ess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gnificativa redução de custo: 6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o grau de adequação em relação à AM: 0.9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E727-26CE-4795-A386-F9AA02860BA7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9CAC827-17E9-46C4-AED0-CC5990851D99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dores Essenciais (unida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685800" y="2286000"/>
            <a:ext cx="8077320" cy="3876480"/>
            <a:chOff x="685800" y="2286000"/>
            <a:chExt cx="8077320" cy="3876480"/>
          </a:xfrm>
        </p:grpSpPr>
        <p:sp>
          <p:nvSpPr>
            <p:cNvPr id="969" name=""/>
            <p:cNvSpPr/>
            <p:nvPr/>
          </p:nvSpPr>
          <p:spPr>
            <a:xfrm>
              <a:off x="685800" y="2649600"/>
              <a:ext cx="80773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RRN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Troca operador relacional por operador relacio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5800" y="3375000"/>
              <a:ext cx="80773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csr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Troca referências escalares por constan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5800" y="4098960"/>
              <a:ext cx="80773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MTC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Interrompe a execução do laço após duas execuçõ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5800" y="515304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ccr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Troca constante por constant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85800" y="228600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SDL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Retira um comando de cada vez do progra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5800" y="301140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TWD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Troca referência escalar pelo sucessor e predecess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5800" y="374004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WDD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Troca o comando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ahoma"/>
                </a:rPr>
                <a:t>while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por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ahoma"/>
                </a:rPr>
                <a:t>do-whi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5800" y="445608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LBN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Troca operador lógico por operador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ahoma"/>
                </a:rPr>
                <a:t>bitwi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85800" y="5519880"/>
              <a:ext cx="807732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DTR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Requer valor negativo, positivo e zero para cada referência escal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5800" y="4819680"/>
              <a:ext cx="80773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ASN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Troca operador aritmético por operador de deslocamento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F8AE-3762-4A3B-B919-89FA89FE47C8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5775EF3-6035-488E-B093-25597F9631CE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udo de Vincenzi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et 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licação do Procedimento </a:t>
            </a:r>
            <a:r>
              <a:rPr b="0" lang="pt-BR" sz="2400" spc="-1" strike="noStrike">
                <a:solidFill>
                  <a:srgbClr val="ffffff"/>
                </a:solidFill>
                <a:latin typeface="augie"/>
              </a:rPr>
              <a:t>Essenci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m nível de integr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 Proteum/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3 operadores: 8 compõem o conjunto ess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dução de custo: 7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o grau de adequação em relação à Mutação de Interface: 0.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0060-2E20-4EEA-AC1F-73589B5DE0EC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2267023-FF9E-4277-B346-F42C3BE98C53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"/>
          <p:cNvGrpSpPr/>
          <p:nvPr/>
        </p:nvGrpSpPr>
        <p:grpSpPr>
          <a:xfrm>
            <a:off x="304920" y="2438280"/>
            <a:ext cx="8534160" cy="3413160"/>
            <a:chOff x="304920" y="2438280"/>
            <a:chExt cx="8534160" cy="3413160"/>
          </a:xfrm>
        </p:grpSpPr>
        <p:sp>
          <p:nvSpPr>
            <p:cNvPr id="982" name=""/>
            <p:cNvSpPr/>
            <p:nvPr/>
          </p:nvSpPr>
          <p:spPr>
            <a:xfrm>
              <a:off x="2023920" y="5516640"/>
              <a:ext cx="681516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ca variável não de interface por constantes requeri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4920" y="5516640"/>
              <a:ext cx="171900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RepRe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23920" y="4937040"/>
              <a:ext cx="6815160" cy="5796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ca variável não de interface por variáveis locais, declaradas na função cham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920" y="4937040"/>
              <a:ext cx="1719000" cy="5796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RepLo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023920" y="4357800"/>
              <a:ext cx="6815160" cy="579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ca variável não de interface por variáveis globais não utilizadas na função cham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920" y="4357800"/>
              <a:ext cx="1719000" cy="579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Rep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23920" y="3778200"/>
              <a:ext cx="6815160" cy="5796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ca variável não de interface por variáveis globais utilizadas na função cham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04920" y="3778200"/>
              <a:ext cx="1719000" cy="5796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RepGl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23920" y="3443400"/>
              <a:ext cx="681516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rescenta negação de bit em variáveis não de interfa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920" y="3443400"/>
              <a:ext cx="171900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BitNe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23920" y="3108240"/>
              <a:ext cx="6815160" cy="33516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rescenta negação de bit em variáveis de interfa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4920" y="3108240"/>
              <a:ext cx="1719000" cy="33516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DirVarBitNe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23920" y="2773440"/>
              <a:ext cx="681516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rante cobertura de nó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4920" y="2773440"/>
              <a:ext cx="171900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CovAllN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023920" y="2438280"/>
              <a:ext cx="6815160" cy="33516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rescenta negação aritmética antes de argum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4920" y="2438280"/>
              <a:ext cx="1719000" cy="33516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I-ArgAriNe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380880" y="243828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915400" y="243828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15400" y="27734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915400" y="31082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915400" y="34434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915400" y="377820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915400" y="411336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915400" y="4692600"/>
            <a:ext cx="0" cy="57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915400" y="527220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915400" y="58514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0880" y="27734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0880" y="31082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0880" y="34434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80880" y="377820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0880" y="411336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0880" y="4692600"/>
            <a:ext cx="0" cy="57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0880" y="527220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0880" y="58514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dores Essenciais (integraçã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71D5-79FE-42A5-841C-A77B1140B5AD}" type="slidenum">
              <a:t>127</a:t>
            </a:fld>
          </a:p>
        </p:txBody>
      </p:sp>
    </p:spTree>
  </p:cSld>
  <p:transition>
    <p:pull dir="l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449280" y="2670120"/>
            <a:ext cx="4071600" cy="3414600"/>
            <a:chOff x="449280" y="2670120"/>
            <a:chExt cx="4071600" cy="3414600"/>
          </a:xfrm>
        </p:grpSpPr>
        <p:sp>
          <p:nvSpPr>
            <p:cNvPr id="1020" name=""/>
            <p:cNvSpPr/>
            <p:nvPr/>
          </p:nvSpPr>
          <p:spPr>
            <a:xfrm>
              <a:off x="743760" y="4422600"/>
              <a:ext cx="67464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54200" y="5716440"/>
              <a:ext cx="72648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9280" y="5086080"/>
              <a:ext cx="1244520" cy="368280"/>
            </a:xfrm>
            <a:prstGeom prst="rect">
              <a:avLst/>
            </a:prstGeom>
            <a:solidFill>
              <a:srgbClr val="ffe2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15360" y="4197240"/>
              <a:ext cx="67464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43440" y="5491080"/>
              <a:ext cx="72648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873080" y="4860720"/>
              <a:ext cx="1244520" cy="368280"/>
            </a:xfrm>
            <a:prstGeom prst="rect">
              <a:avLst/>
            </a:prstGeom>
            <a:solidFill>
              <a:srgbClr val="c9f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506040" y="3968640"/>
              <a:ext cx="67464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516480" y="5262480"/>
              <a:ext cx="72648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64120" y="4632120"/>
              <a:ext cx="1256760" cy="368280"/>
            </a:xfrm>
            <a:prstGeom prst="rect">
              <a:avLst/>
            </a:prstGeom>
            <a:solidFill>
              <a:srgbClr val="ddff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141200" y="2670120"/>
              <a:ext cx="264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álise de Mut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1599840" y="3103200"/>
              <a:ext cx="1260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81280" y="3095280"/>
              <a:ext cx="204840" cy="164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95480" y="3122280"/>
              <a:ext cx="462240" cy="14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4560840" y="4422240"/>
            <a:ext cx="2611800" cy="1523880"/>
            <a:chOff x="4560840" y="4422240"/>
            <a:chExt cx="2611800" cy="1523880"/>
          </a:xfrm>
        </p:grpSpPr>
        <p:sp>
          <p:nvSpPr>
            <p:cNvPr id="1034" name=""/>
            <p:cNvSpPr/>
            <p:nvPr/>
          </p:nvSpPr>
          <p:spPr>
            <a:xfrm flipH="1" rot="5400000">
              <a:off x="4713120" y="4269600"/>
              <a:ext cx="1523880" cy="1828800"/>
            </a:xfrm>
            <a:custGeom>
              <a:avLst/>
              <a:gdLst>
                <a:gd name="textAreaLeft" fmla="*/ -360 w 1523880"/>
                <a:gd name="textAreaRight" fmla="*/ 1523880 w 15238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eacd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059160" y="5271840"/>
              <a:ext cx="111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ratég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rement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357160" y="1608120"/>
            <a:ext cx="3215520" cy="2719440"/>
            <a:chOff x="5357160" y="1608120"/>
            <a:chExt cx="3215520" cy="2719440"/>
          </a:xfrm>
        </p:grpSpPr>
        <p:sp>
          <p:nvSpPr>
            <p:cNvPr id="1037" name=""/>
            <p:cNvSpPr/>
            <p:nvPr/>
          </p:nvSpPr>
          <p:spPr>
            <a:xfrm>
              <a:off x="7048440" y="2422440"/>
              <a:ext cx="1524240" cy="190512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66400" y="1608120"/>
              <a:ext cx="271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ação de Interf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505640" y="2003400"/>
              <a:ext cx="2286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6324120" y="1984320"/>
              <a:ext cx="2286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410080" y="2422440"/>
              <a:ext cx="1524240" cy="190512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6056280" y="3073320"/>
              <a:ext cx="78264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43840" y="3073320"/>
              <a:ext cx="78264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359400" y="2693880"/>
              <a:ext cx="1244520" cy="368280"/>
            </a:xfrm>
            <a:prstGeom prst="rect">
              <a:avLst/>
            </a:prstGeom>
            <a:solidFill>
              <a:srgbClr val="ffe2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32480" y="3746520"/>
              <a:ext cx="1244520" cy="368280"/>
            </a:xfrm>
            <a:prstGeom prst="rect">
              <a:avLst/>
            </a:prstGeom>
            <a:solidFill>
              <a:srgbClr val="c9f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04320" y="3746520"/>
              <a:ext cx="1256760" cy="368280"/>
            </a:xfrm>
            <a:prstGeom prst="rect">
              <a:avLst/>
            </a:prstGeom>
            <a:solidFill>
              <a:srgbClr val="ddff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57160" y="239400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exão A-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009920" y="238284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exão A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CCEE-45CC-46E1-B5F5-0BA85E5A5410}" type="slidenum">
              <a:t>128</a:t>
            </a:fld>
          </a:p>
        </p:txBody>
      </p:sp>
    </p:spTree>
  </p:cSld>
  <p:transition>
    <p:pull dir="l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635440" y="1544760"/>
            <a:ext cx="34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ação de Interface (I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95400" y="2779560"/>
            <a:ext cx="2960640" cy="3548160"/>
          </a:xfrm>
          <a:prstGeom prst="ellipse">
            <a:avLst/>
          </a:prstGeom>
          <a:solidFill>
            <a:srgbClr val="ffe4a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59600" y="2951280"/>
            <a:ext cx="158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d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mu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un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27840" y="2779560"/>
            <a:ext cx="2982960" cy="3548160"/>
          </a:xfrm>
          <a:prstGeom prst="ellipse">
            <a:avLst/>
          </a:prstGeom>
          <a:solidFill>
            <a:srgbClr val="ffe4a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54" name=""/>
          <p:cNvCxnSpPr>
            <a:stCxn id="1051" idx="7"/>
            <a:endCxn id="1053" idx="1"/>
          </p:cNvCxnSpPr>
          <p:nvPr/>
        </p:nvCxnSpPr>
        <p:spPr>
          <a:xfrm flipH="1" rot="16200000">
            <a:off x="4541400" y="1378440"/>
            <a:ext cx="2520" cy="3840840"/>
          </a:xfrm>
          <a:prstGeom prst="curvedConnector5">
            <a:avLst>
              <a:gd name="adj1" fmla="val -36200000"/>
              <a:gd name="adj2" fmla="val 50000"/>
              <a:gd name="adj3" fmla="val -36200000"/>
            </a:avLst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5" name=""/>
          <p:cNvCxnSpPr/>
          <p:nvPr/>
        </p:nvCxnSpPr>
        <p:spPr>
          <a:xfrm rot="5400000">
            <a:off x="4541040" y="3879720"/>
            <a:ext cx="2160" cy="3840840"/>
          </a:xfrm>
          <a:prstGeom prst="curvedConnector5">
            <a:avLst>
              <a:gd name="adj1" fmla="val 36200000"/>
              <a:gd name="adj2" fmla="val 50000"/>
              <a:gd name="adj3" fmla="val 36200000"/>
            </a:avLst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56" name=""/>
          <p:cNvSpPr/>
          <p:nvPr/>
        </p:nvSpPr>
        <p:spPr>
          <a:xfrm>
            <a:off x="3646800" y="2221560"/>
            <a:ext cx="185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675600" y="6279120"/>
            <a:ext cx="185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26320" y="540936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ssencial-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88520" y="350748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ssencial-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20320" y="4266360"/>
            <a:ext cx="32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ssencial-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ssencial-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746760" y="2933640"/>
            <a:ext cx="16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d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mutaçã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594480" y="4127400"/>
            <a:ext cx="1930320" cy="1371600"/>
          </a:xfrm>
          <a:prstGeom prst="ellipse">
            <a:avLst/>
          </a:prstGeom>
          <a:solidFill>
            <a:srgbClr val="ffc68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03200" y="42512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ciai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9480" y="4122720"/>
            <a:ext cx="1932120" cy="1371600"/>
          </a:xfrm>
          <a:prstGeom prst="ellipse">
            <a:avLst/>
          </a:prstGeom>
          <a:solidFill>
            <a:srgbClr val="ffc68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20000" y="42512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ciai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6" name=""/>
          <p:cNvCxnSpPr>
            <a:stCxn id="1064" idx="7"/>
          </p:cNvCxnSpPr>
          <p:nvPr/>
        </p:nvCxnSpPr>
        <p:spPr>
          <a:xfrm flipH="1" flipV="1" rot="5400000">
            <a:off x="4073040" y="2301480"/>
            <a:ext cx="208800" cy="3837600"/>
          </a:xfrm>
          <a:prstGeom prst="curved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7" name=""/>
          <p:cNvCxnSpPr>
            <a:stCxn id="1064" idx="6"/>
            <a:endCxn id="1062" idx="2"/>
          </p:cNvCxnSpPr>
          <p:nvPr/>
        </p:nvCxnSpPr>
        <p:spPr>
          <a:xfrm>
            <a:off x="2541600" y="4808160"/>
            <a:ext cx="4053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"/>
          <p:cNvCxnSpPr>
            <a:stCxn id="1062" idx="3"/>
          </p:cNvCxnSpPr>
          <p:nvPr/>
        </p:nvCxnSpPr>
        <p:spPr>
          <a:xfrm rot="5400000">
            <a:off x="4728240" y="3363840"/>
            <a:ext cx="215280" cy="4082040"/>
          </a:xfrm>
          <a:prstGeom prst="curved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69" name=""/>
          <p:cNvSpPr/>
          <p:nvPr/>
        </p:nvSpPr>
        <p:spPr>
          <a:xfrm>
            <a:off x="45000" y="1547640"/>
            <a:ext cx="34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 de Un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e de Mutantes (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112E-23FC-4976-AF17-DE6381978EA7}" type="slidenum">
              <a:t>129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6094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de 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 processo de desenvolvimento de software envolve uma série de atividades nas quais, apesar das técnicas, métodos e ferramentas empregados, ERROS no produto ainda podem ocorr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44E9-8204-4969-A505-6DDBD3B652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e de Mutant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tação d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paráveis do ponto de vista da relação de inclu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m e devem ser utilizados de forma complementar na atividade de te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hor estraté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cial AM e Essencial 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cores superiores a 0.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ção de aproximadamente 6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C0F2-F7CB-4C54-93D4-89672A022AE5}" type="slidenum">
              <a:t>130</a:t>
            </a:fld>
          </a:p>
        </p:txBody>
      </p:sp>
    </p:spTree>
  </p:cSld>
  <p:transition>
    <p:pull dir="l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612440"/>
            <a:ext cx="784872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udo de Delam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térios de Mutação de Interface Altern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I-Aleatório, MI-Seletivo e MI-Restr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 S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o custo do critério Mutação de Interface se comparado aos critérios alternativos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MI-10%-aleatório e MI-19-seleti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ficácia de quase 10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s alternativos altamente eficaz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59 defeitos implantados, 153 revelados (97.48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rupo II: 447 mutantes (8.72%), 89.31% de eficá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2F5E-747F-47C7-8F61-1CDBADD860AF}" type="slidenum">
              <a:t>131</a:t>
            </a:fld>
          </a:p>
        </p:txBody>
      </p:sp>
    </p:spTree>
  </p:cSld>
  <p:transition>
    <p:pull dir="l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udo de Mathur, Wong e Offu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álise de Mutantes, Mutação Aleatória (10%), Mutação Restrita e Todo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usto (número de casos de tes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álise de Mutantes, Todos-Usos, Mutação Aleatória e Mutação Restri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ficá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álise de Mutantes, Mutação Restrita, Todos-Usos e Mutação Aleató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0963-A3BF-4CED-9155-04AE4B58EA1D}" type="slidenum">
              <a:t>132</a:t>
            </a:fld>
          </a:p>
        </p:txBody>
      </p:sp>
    </p:spTree>
  </p:cSld>
  <p:transition>
    <p:pull dir="l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udo de Sou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álise de Mutante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otenciai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usto (número de casos de tes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álise de Mutantes, Potenciais-U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álise de Mutantes e Todos-Potenciais-Usos são equivalentes do ponto de vista da relação de inclus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Potenciais-Usos/Du e Todos-Potenciais-Du-Caminhos apresentam maior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strength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que o critério Todos-Potenciais-Usos em relação à Análise de Mut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09A7-1E10-4119-AAB2-488FB2C799B9}" type="slidenum">
              <a:t>133</a:t>
            </a:fld>
          </a:p>
        </p:txBody>
      </p:sp>
    </p:spTree>
  </p:cSld>
  <p:transition>
    <p:pull dir="l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onclusõ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atividade de teste é fundamental no processo de desenvolvimento d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o custo da atividade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volvimento de técnicas e critério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volvimento e utilização de ferramenta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udos teóricos e empíricos para comparar os diversos crité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0BF3-7A40-44FB-B400-290F94082C0A}" type="slidenum">
              <a:t>134</a:t>
            </a:fld>
          </a:p>
        </p:txBody>
      </p:sp>
    </p:spTree>
  </p:cSld>
  <p:transition>
    <p:pull dir="l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Perspectiva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égia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de Integ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Orientado a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de Especif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de Sistemas Re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ente Integrado para Teste, Depuração e Manutenção d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EDF0-D500-4094-97DF-874B2838E252}" type="slidenum">
              <a:t>135</a:t>
            </a:fld>
          </a:p>
        </p:txBody>
      </p:sp>
    </p:spTree>
  </p:cSld>
  <p:transition>
    <p:pull dir="l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ritério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técnicas e critérios de teste fornecem ao desenvolvedor uma abordagem sistemática e teoricamente fundamentada, além de constituírem um mecanismo que pode auxiliar a avaliar a qualidade e a adequação da atividade de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térios de teste podem ser utilizados tanto para auxiliar na geração de conjunto de casos de teste como para auxiliar na avaliação da adequação desses conjun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EC1A-C11E-492A-A29D-A8C8ADB1EE50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ritério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ora exista uma grande variedade de critérios de teste que podem ser aplicados em nível de unidade, o mesmo não ocorre em nível de integração (critérios funciona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udos empíricos vêm sendo conduzido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6534-C18C-4435-9D40-6B661788403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Ferrament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se faz o desenvolvimento de ferramentas de teste para o suporte à atividade de teste propriamente dita, uma vez que essa atividade é muito propensa a erros, além de improdutiva, se aplicada manualmente, bem como para dar apoio a estudos empíricos que visem a avaliar e a comparar os diversos critérios de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m, a disponibilidade de ferramentas de teste propicia maior qualidade e produtividade para as atividades de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m-se na literatura esforços da comunidade científica nessa direçã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AE78-FC03-450B-99DD-6CE64B1DC54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Limitaçõ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atividade de teste é permeada por uma série de limitações, em geral, os seguintes problemas são indecidíve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) dados dois programas, se eles são equival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2) dadas duas seqüências de comandos (caminhos) de um programa, ou de programas diferentes, se eles computam a mesma fun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3) dado um caminho se ele é executável ou não, ou seja, se existe um conjunto de dados de entrada que levam à execução desse camin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7A85-42A8-414B-AC73-BF44DFB0E3F5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Questõ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tividade de teste deve promover CULP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tividade de teste é realmente destrutiv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sta: N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DEC9-31F2-4B5C-AC3D-999D7A94CF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Limitaçõ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ra limitação fundamental é a correção coincidente – o programa pode apresentar, coincidentemente, um resultado correto para um item particular de um dad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u seja, um particular item de dado ser executado, satisfazer a um requisito de teste e não revelar a presença de um er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2789-C1A5-4E5F-8ED2-BC126D937390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 e Critério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ra se conduzir e avaliar a qualidade da atividade de teste têm-se as técnicas de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ste funcional, estrutural e baseada em er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is técnicas diferenciam-se pela origem da informação utilizada na avaliação e construção dos conjuntos de casos de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critérios Potenciais U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critério Análise de Mutantes [DEM7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 ferramentas de suport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oke-Tool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rot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658E-0306-464F-9B20-EF73A7B28EF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projeto de casos de teste que usa a estrutura de controle do projeto procedimental para derivar casos de tes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r casos de teste qu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arantam que todos os caminhos independentes dentro de um módulo tenham sido exercitados pelo menos 1 v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xercitem todas as decisões lógicas para os valores F ou 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E268-3783-492E-82A8-354EDAB25ED1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r casos de teste qu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xecutem todos os laços em suas fronteiras e dentro de seus limites operacion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xercitem as estruturas de dados internas para garantir a sua valid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E950-76B3-49BF-ACE0-526474422F1E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Caminho Básic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ma das técnicas estrutur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tação de grafo de fluxo (grafo de program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grado de fluxo descreve o fluxo de controle lógic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plexidade Ciclomática: métrica de software que proporciona uma medida quantitativa da complexidade lógica de program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E564-1466-4345-AD46-6513AB2204EF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xercíci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do o seguinte programa, faça os itens abaix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Construa o grafo de fluxo de controle do programa, enumerando os nós com as linhas de código corresponden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Calcule a complexidade ciclomática (explique como obteve o valor) e descreva todos os CAMINHOS INDEPENDENTES do program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Defina casos de teste para testar cada caminho encontrado no item 2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1680-C42F-4BE9-952E-FFAE9C004B9A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1739880" y="923760"/>
            <a:ext cx="54230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lgoritmo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ler m, 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nquanto m &lt;&gt;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 m &gt;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 = m -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n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 = n -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im-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im-enqua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 m &gt;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crever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n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crever “m não exist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im-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im-tes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BB79-81D0-4CF8-9C08-11E054956F0B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Padrões Típicos Indústria de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m de 10 erros por KDSI (1000 linhas de código fonte liberad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s de alta qualidade apresentam da ordem de 0.1 erro por KD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 observação importante é que a maioria desses erros encontra-se em partes do código raramente execut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3281-2DCA-400C-BCB3-4C386CFAD6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1972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Software Quality Assurance: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adrão sistemático e planejado de ações que são exigidas para garantir a qualidade de softwar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7280" indent="0" algn="just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sas ações engloba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7280" indent="0"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Aplicação de Métodos Técnicos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judam o analista a conseguir uma especificação de elevada qualidade e o projetista a desenvolver um projeto de elevada qualid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7280" indent="0"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Realização de Revisões Técnicas Formais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ara avaliar a qualidade da especificação e do proje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7280" indent="0">
              <a:lnSpc>
                <a:spcPct val="12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Atividades de Teste de Software: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ara ajudar a garantir uma detecção de erros efe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Garantia da Qualidade de Produto de Software (SQA)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F1F7-B61D-4C82-A8EA-A9D75AB670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289080" indent="0">
              <a:lnSpc>
                <a:spcPct val="12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plicação de Padrões e Procedimentos Forma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no processo de engenharia de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9080" indent="0">
              <a:lnSpc>
                <a:spcPct val="12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sso de Controle de Mudança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ividade que faz parte do gerenciamento de configuração de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9080" indent="0">
              <a:lnSpc>
                <a:spcPct val="12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canismos de Mediçã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ra ser possível rastrear a qualidade d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9080" indent="0">
              <a:lnSpc>
                <a:spcPct val="12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)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otação e Manutenção de Registr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cedimentos para a coleta e disseminação de informações de garantia de qualidade de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Garantia da Qualidade de Produto de Software (SQA)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AE13-A66A-4D5E-92B0-D0CC27E0D6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Atividades de Garantia de Qualidade de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zidas ao longo de todo o processo de desenvolvimento, entre elas atividades de VV&amp;T –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Verificação, Validação e Tes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m o objetivo de minimizar a ocorrência de erros e riscos assoc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re as técnicas de verificação e validação, a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ividade de Tes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é uma das mais ut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13B6-68BA-43D5-909E-D85E3732DA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erificação e Valid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3560" y="1905120"/>
            <a:ext cx="807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erificação: refere-se ao conjunto de atividades que garante que o software implemente corretamente uma função especí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lidação: refere-se ao conjunto de atividades que garante que o software que foi construído é rastreável às exigências do cl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erificação: “Estamos construindo certo o produt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lidação: “Estamos construindo o produto cert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91A2-FEE9-4944-9F12-6EDD983347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Organização 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e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ologia e Conceitos B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écnicas e Critério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zação da Atividade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udos Empí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pectiv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8F9E-B36B-4A3A-AF87-73B67CFCAC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2FBA247-668E-4E80-B476-59D4CEB276AA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6858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Objetivos da Atividade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o processo de executar um PROGRAMA com a intenção de descobrir um ER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m bom caso de teste é aquele que tem uma elevada probabilidade de revelar um erro ainda não descober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m teste bem sucedido é aquele que revela um erro ainda não descober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071B-6B06-4695-A662-03ECA16CA8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858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Objetivos da Atividade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Afirmação FALS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Um teste bem sucedido é aquele em que nenhum erro é encontr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A atividade de teste não pode mostrar a ausência de bugs; ela só pode mostrar se defeitos de software estão pres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36C9-B37E-4D0D-9A88-C8576BE841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Atividade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tituindo-se em um dos elementos para fornecer evidências da confiabilidade do software em complemento a outras atividades, como por exemplo o uso de revisões e de técnicas formais e rigorosas de especificação e de verificação [PRE92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AF4F-036E-4321-AE07-9E7E53C6F6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Atividade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828800"/>
            <a:ext cx="83804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 de uma análise dinâmica do produ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 uma atividade relevante para a identificação e eliminação de erros que persi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conjunto de informação oriundo da atividade de teste é significativo para as atividades de depuração, manutenção e estimativa de confiabilidade de softw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E8C6-7360-47C3-AAE1-AA84CD289C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rminolog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3804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EEE tem realizado vários esforços de padronização, entre eles para padronizar a terminologia utilizada no contexto de Engenharia de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padrão IEEE diferencia os ter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feit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ul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rro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rr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lha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ilur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2BE6-8AFA-4EA8-B586-BE91B179B7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rminologia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eito        Erro            Falh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ito: deficiência mecânica ou algorítmica que, se ativada, pode levar a uma fal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: item de informação ou estado de execução inconsist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ha: evento notável em que o sistema viola suas especific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886040"/>
            <a:ext cx="457200" cy="304560"/>
          </a:xfrm>
          <a:custGeom>
            <a:avLst/>
            <a:gdLst>
              <a:gd name="textAreaLeft" fmla="*/ 568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49520" y="1886040"/>
            <a:ext cx="457200" cy="304560"/>
          </a:xfrm>
          <a:custGeom>
            <a:avLst/>
            <a:gdLst>
              <a:gd name="textAreaLeft" fmla="*/ 568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8825-AD66-4AC9-AB8E-C8A01B80804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4DE711E-0EA4-4550-9D0A-EBAA71F65CFA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bebe"/>
                </a:solidFill>
                <a:latin typeface="Times New Roman"/>
              </a:rPr>
              <a:t>Defeito (fault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752480"/>
            <a:ext cx="8380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o, processo ou definição de dados incorreto, como por exemplo, uma instrução ou comando incorre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191120"/>
            <a:ext cx="8380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ção humana que produz um resultado incorreto, com por exemplo, uma ação incorreta tomada pelo programad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971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bebe"/>
                </a:solidFill>
                <a:latin typeface="Times New Roman"/>
              </a:rPr>
              <a:t>Engano (mistak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6A87-C8B3-4247-8AC7-13CF958710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bebe"/>
                </a:solidFill>
                <a:latin typeface="Times New Roman"/>
              </a:rPr>
              <a:t>Erro (error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447920"/>
            <a:ext cx="8380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erença entre o valor obtido e o valor esperado, ou seja, qualquer estado intermediário incorreto ou resultado inesperado na execução do programa constitui um er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403848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ção de uma saída incorreta com relação à especif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 termos engano, defeito e erro serão referenciados com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RR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us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e o term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ALH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onseqüência) a um comportamento incorreto do progra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32004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bebe"/>
                </a:solidFill>
                <a:latin typeface="Times New Roman"/>
              </a:rPr>
              <a:t>Falha (failur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CBEA-3587-4C4C-9A27-73A76ED47E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lassific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447920"/>
            <a:ext cx="8380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uma forma geral, os erros são classificados 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rros Computaciona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erro provoca uma computação incorreta, mas o caminho executado (seqüências de comandos) é igual ao caminho espe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rros de domíni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caminho efetivamente executado é diferente do caminho esperado, ou seja, um caminho errado é selecion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3475-BB4F-4B58-904F-5BC5C6D14E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Defeitos no Processo</a:t>
            </a:r>
            <a:br>
              <a:rPr sz="4400"/>
            </a:b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de Desenvolviment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ior parte é de origem hum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gerados na comunicação e na transformação de inform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am presentes nos diversos produtos de software produzidos e liberados (10 defeitos a cada 1000 linhas de códig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ioria encontra-se em partes do código raramente execut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7279-CD8F-4960-BA58-255D0EB73E4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FFDC29-0E75-45C7-ADE1-A74B5A4F2DA8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600200"/>
            <a:ext cx="8382240" cy="4495680"/>
          </a:xfrm>
          <a:prstGeom prst="roundRect">
            <a:avLst>
              <a:gd name="adj" fmla="val 12486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828800"/>
            <a:ext cx="761976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Atividade de Teste é um ELEMENTO CRÍTICO para a garantia de qualidade do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 a última revisão de especificação, projeto e cod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cnicas que auxiliam no condução dessa atividade têm sido proposta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E6BA-348D-4CFD-89B1-BB9EAA91D5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Defeitos no Processo</a:t>
            </a:r>
            <a:br>
              <a:rPr sz="4400"/>
            </a:b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de Desenvolviment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o antes a presença do defeito for revelada, menor o custo de correção do defeito e maior a probabilidade de corrigi-lo corretame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 causa: tradução incorreta de informaçõ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ção: introduzir atividades de VV&amp;T ao longo de todo o ciclo de desenvolvime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71FC-CAC8-4FB2-BF23-D38EFB9F51F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1C980B4-1371-4BB7-8F82-8AAB21F59BA3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e Depura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s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pur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2286000"/>
            <a:ext cx="7086600" cy="155700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o de executar um programa com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 objetivo de revelar a presença de defeitos; ou, falhando nesse objetivo, aumentar a confiança sobre o progra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4572000"/>
            <a:ext cx="7086600" cy="11912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eqüência não previsível do teste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ós revelada a presença do defeito, el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ve ser encontrado e corrig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DDFD-42AC-49D4-8D4B-A8D1A502BB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5777DB3-95A6-44BF-93B7-BC9544D0824B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 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damental em todos os ramos de engenh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ftware: produto da Engenharia d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ividade essencial para ascensão ao nível 3 do Modelo CMM/S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ividade relevante para avaliação da característica funcionalidade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ISO 9126,14598-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B3B4-1588-4BFE-B02F-DCECAAE3B7E5}" type="slidenum">
              <a:t>32</a:t>
            </a:fld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o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ficação de uma entrada para o programa e a correspondente saída esp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ada para o programa: conjunto de dados necessários para uma execução do progr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ída esperada: resultado de uma execução do programa (um oráculo é esper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bom caso de teste tem alta probabilidade de revelar um erro ainda não descober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21B9-C476-4A1F-939B-5B699FBDABF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3C6DA6-2C40-429D-BF9C-1ECCF6B8BD81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imitaçõ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existe um algoritmo de teste de propósito geral para provar a corretitude de um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 geral, é indecidível se dois caminhos de um mesmo programa ou de diferentes programas computam a mesma fun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indecidível se existe um dado de entrada que leve à execução de um dado caminho de um programa; isto é, é indecidível se um dado caminho é executável ou n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54DF-C198-490B-9D39-32C14B12A9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1400" y="2800440"/>
            <a:ext cx="1877760" cy="1030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4840" y="3070080"/>
            <a:ext cx="16063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tividades de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ste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7760" y="2395440"/>
            <a:ext cx="592200" cy="54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9720" y="1746360"/>
            <a:ext cx="1602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Softwar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892080" y="3671640"/>
            <a:ext cx="571680" cy="63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4352760"/>
            <a:ext cx="160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Test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19600" y="2421000"/>
            <a:ext cx="1939680" cy="10713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55920" y="2814480"/>
            <a:ext cx="11638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079800" y="2998800"/>
            <a:ext cx="760320" cy="21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90640" y="2133720"/>
            <a:ext cx="1347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Test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48160" y="3263760"/>
            <a:ext cx="507960" cy="133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33760" y="4743360"/>
            <a:ext cx="1347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erad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45160" y="4530600"/>
            <a:ext cx="1812960" cy="1052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3456000"/>
            <a:ext cx="358560" cy="10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72040" y="3573360"/>
            <a:ext cx="99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do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 Tax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Err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96000" y="4762440"/>
            <a:ext cx="15573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elo 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4720" y="2862360"/>
            <a:ext cx="1855800" cy="1243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3046320"/>
            <a:ext cx="898560" cy="219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51520" y="2743200"/>
            <a:ext cx="6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r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51600" y="3330720"/>
            <a:ext cx="133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puraçã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72440" y="4133880"/>
            <a:ext cx="61272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24880" y="4984920"/>
            <a:ext cx="130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rreçõ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53120" y="5481720"/>
            <a:ext cx="49212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6019920"/>
            <a:ext cx="1698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vist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29B6-0AC5-44E2-BE40-6C060AB3A90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74427BC-AE97-4096-8B7E-BDB38BE764B7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teste de produtos de software envolve basicamente quatro etapa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to de caso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ção do programa com os cas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e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4184-1D58-4131-80B7-74B55A7945C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48D4928-39AD-4C68-88E1-EF9D9F58E71E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omo desenvolv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76520"/>
            <a:ext cx="83804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sas atividades devem ser desenvolvidas ao longo do próprio processo de desenvolvimento de software, e em geral, concretizam-se em três fases de tes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DDAD-F126-4BEC-AF33-6502E09DF3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e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 de 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erros de lógica e de implementaçã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 cada módulo do software, separad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 de Integr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erros associados às interfaces entre os módulos do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 de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ficar se as funções estão de acordo com a especificação e se todos os elementos do sistema combinam-se adequad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B963-5680-4BDD-9560-EE0BDBAA3CE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E70096B-ABC8-45AD-9C31-6F24CA341584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ste de Unida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81080"/>
            <a:ext cx="838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ntra esforços na menor unidade do projeto de software, ou seja, procura identificar erros de lógica e de implementação em cada módulo do software, separadam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922E-39DD-4A96-A8F4-96B01D398B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600200"/>
            <a:ext cx="8382240" cy="4495680"/>
          </a:xfrm>
          <a:prstGeom prst="roundRect">
            <a:avLst>
              <a:gd name="adj" fmla="val 12486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828800"/>
            <a:ext cx="761976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ngenharia de Software evoluiu significativamente nas últimas décadas procurando estabelec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écnic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tér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étod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rramen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 a produção de software, em conseqüência da crescente utilização de sistemas baseados em computação em praticamente todas as áreas da atividade hum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4C9F-2DAF-42BA-9A43-60913FC060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ste de Integ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752480"/>
            <a:ext cx="8380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 uma atividade sistemática aplicada durante a integração da estrutura do programa visando a descobrir erros associados às interfaces entre os módu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objetivo é, a partir dos módulos testados no nível de unidade, construir a estrutura de programa que foi determinada pelo pro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r erros de integração entre as unidades já testadas individu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FE0C-D603-474D-B8A6-17A8C46C9E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ste de Sist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teste de sistema, realizado após a integração do sistema, visa a identificar erros de funções e características de desempenho que não estejam de acordo com a espec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ender as exigências Funcionais, Comportamentais  e de Desempenho descritas na ESPEC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3C20-CECE-4660-B200-60EDC7532B6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asos de Teste: Ponto Cruc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pendentemente da fase, é o projeto e/ou a avaliação da qualidade de um determinado conjunto de casos de test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ado para o teste de um produ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dado que, em geral, é impraticável utilizar todo o domínio de dados de entrada para avaliar os aspectos funcionais e operacionais de um produto em te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3FD6-D75F-4E43-AE7A-F4E5B79466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685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asos de Teste: Ponto Cruc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438280"/>
            <a:ext cx="8380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objetivo é utilizar casos de teste que tenham alta probabilidade de encontrar a maioria dos defeitos com um mínimo de tempo e esforço, por questões de produti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2BCA-B21F-4708-A4D2-478B70A0621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ste: Encontrar Er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principal objetivo do teste de software é revelar a presença de erros no produ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anto, o teste bem sucedido é aquele que consegue determinar casos de teste para os quais o programa em teste fal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-se observado que a própria atividade de projeto de casos de teste é bastante efetiva em evidenciar a presença de defeitos de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749C-1CAB-4D94-8609-29BB88906FF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quer produto trabalhado por engenharia pode ser testado de duas maneir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1) conhecendo a função específica que um produto projetado deve executar, testes podem ser realizados para demonstrar que cada função é totalmente oper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3810-EEF1-41F4-80F7-BD716E8D037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2) conhecendo-se o funcionamento interno de um produto, testes podem ser realizados para garantir que todas as engrenagens se encaixam, ou seja, que a operação interna do produto tenha um desempenho de acordo com as especific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9788-8F19-41E3-96F9-F2747333595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 geral, os critérios de teste de software são estabelecidos, basicamente, a partir de três técnica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Funcional (caixa pre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Estrutural (caixa branca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Baseada em er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09B7-8C25-4807-A4DB-FFE75766E1A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762120"/>
            <a:ext cx="9144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écnica Func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s critérios e requisitos de teste são estabelecidos a partir da função de especificação do software (ESPECIFICAÇÃO) -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strutur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s critérios e requisitos são derivados essencialmente a partir das características de uma particular implementação do software (IMPLEMENTAÇÃ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aseada em Er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s critérios e requisitos de teste são oriundos do conhecimento sobre erros típicos/comuns que podem ocorrer durante o processo de desenvolvimento de softw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D3D5-488B-4D7B-84C7-17A90DD9897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s e Critérios de Test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écnica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quisitos funcionais do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 Particionamento em Classes de Equival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écnica Estru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rutura interna do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écnica Baseada em Er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rros mais freqüentes cometidos durante o processo de desenvolvimento d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 Análise de Mut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A4FB-F728-440A-8ABE-9CC2B78348F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50B31D1-2723-4613-BB8F-5150A9D6EFE1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600200"/>
            <a:ext cx="8382240" cy="4495680"/>
          </a:xfrm>
          <a:prstGeom prst="roundRect">
            <a:avLst>
              <a:gd name="adj" fmla="val 12486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133720"/>
            <a:ext cx="76201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oca uma crescente demanda po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qualid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dutivid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anto do ponto de vista do processo de produção como do ponto de vista dos produtos gerad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54B5-26FE-4824-BFAE-A9A499CC7E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600200"/>
            <a:ext cx="8763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nhuma dessas Técnicas de Teste é completa, devendo ser aplicadas em conjunto para tentar assegurar um teste de melhor qualid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406D-2DBE-421C-9316-5C65B09AC85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utomatização da Atividade de Test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rramenta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em para reduzir as falhas produzidas pela intervenção hum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a qualidade e produtividade da atividade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a confiabilidade do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m a condução de estudos comparativos entre crité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2328840"/>
            <a:ext cx="7010280" cy="100728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 a aplicação efetiva de um critério de teste faz-se necessário o uso de ferramentas automatizadas qu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óiem a aplicação desse crité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5CC1-57AC-4978-8DC6-6FFFDB36B137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C431D9D-4B23-4812-9849-C6476049DDAA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utomatização da Atividade de Test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5811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Estruturais: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s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xSuds (Atac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C e C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oke-Too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C, Cobol e Fort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Baseados em Mut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Mothr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Fort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/I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/R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especificaçõ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6A55-DCE5-46D3-BC58-8B5CC6E1B5E3}" type="slidenum">
              <a:t>52</a:t>
            </a:fld>
          </a:p>
        </p:txBody>
      </p:sp>
    </p:spTree>
  </p:cSld>
  <p:transition>
    <p:pull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bebe"/>
                </a:solidFill>
                <a:latin typeface="Times New Roman"/>
              </a:rPr>
              <a:t>Automatização da Atividade de Test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Sud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oftware Understanding &amp;          Diagnosis Syste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Ata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Sl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epu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V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anuten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Pr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lhoria d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Dif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mparação de cód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0272-785E-4C2C-BBF8-0B6BF1DC13A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 (Caixa Preta)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ia-se na especificação do software para derivar os requisito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da o software de um ponto de vista macroscóp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olve dois passos principa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as funções que o software deve realizar (especificação dos requisit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ar casos de teste capazes de checar se essas funções estão sendo executadas corret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1AA3-D972-45D6-B9DB-61C06BD6D16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10D5029-2CEE-401B-8819-A3B10C53BEE1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iculdade em quantificar a atividade de teste: não se pode garantir que partes essenciais ou críticas do software foram execut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érios da Técnica Func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onamento em Classes de Equival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álise do Valor Lim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fo de Causa-Efe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CA5A-1E29-4987-98D1-B50235E6752A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AB6B9C9-68D9-4D9B-9B5A-9B46DB5683EF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: Exempl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articionamento em Classes de Equivalên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 o domínio de entrada do programa em classes de dados (classes de equivalênci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dados de teste são derivados a partir das classes de equival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mínio de saída deve ser considerado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8B79-058C-43A3-AFDC-2BEF90A264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D97CBB3-DDB5-46E4-A3AF-866D954DC233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: Exempl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r classes de equival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ções de entr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es válidas e invál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r os casos de te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umeram-se as classes de equival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os de teste para as classes vál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os de teste para as classes invál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1052-34FB-4600-AD30-20445341803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6269123-6E26-4D1E-B957-C5C90B0A705C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: Exempl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pecificação do program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Identif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2498760"/>
            <a:ext cx="7543800" cy="1618560"/>
          </a:xfrm>
          <a:prstGeom prst="rect">
            <a:avLst/>
          </a:prstGeom>
          <a:solidFill>
            <a:srgbClr val="ffc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 programa deve determinar se um identificador é válido ou não em Silly Pascal (uma variante do Pascal). Um identificad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álido deve começar com uma letra e conter apenas letras ou dígitos. Além disso, deve ter no mínimo um caractere e no máximo seis caracteres de compriment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4038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7000"/>
          </a:bodyPr>
          <a:p>
            <a:pPr lvl="1" marL="349200" indent="-134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6120" y="5241960"/>
            <a:ext cx="2078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12 (válido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*1 (inválid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99160" y="5226120"/>
            <a:ext cx="23479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oma (inválid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23456 (inváli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753C-12BA-4CC9-A624-1647ECD565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036FE3E-E98E-4744-8823-239DF513A122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: Exempl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es de equival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73680" y="2322360"/>
            <a:ext cx="8392680" cy="2554200"/>
            <a:chOff x="373680" y="2322360"/>
            <a:chExt cx="8392680" cy="2554200"/>
          </a:xfrm>
        </p:grpSpPr>
        <p:sp>
          <p:nvSpPr>
            <p:cNvPr id="332" name=""/>
            <p:cNvSpPr/>
            <p:nvPr/>
          </p:nvSpPr>
          <p:spPr>
            <a:xfrm>
              <a:off x="380880" y="2817720"/>
              <a:ext cx="8382240" cy="6858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966760"/>
              <a:ext cx="3197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manh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o identificad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720" y="2398680"/>
              <a:ext cx="287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ções de Entra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95160" y="2398680"/>
              <a:ext cx="210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asses Válid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59840" y="2398680"/>
              <a:ext cx="2306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asses Inválid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880" y="4189320"/>
              <a:ext cx="8382240" cy="6858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880" y="2322360"/>
              <a:ext cx="838224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880" y="2817720"/>
              <a:ext cx="838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41200" y="2793960"/>
              <a:ext cx="12240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0880" y="4873320"/>
              <a:ext cx="838224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680" y="3639960"/>
              <a:ext cx="380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meiro caracter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é uma l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0360" y="4338360"/>
              <a:ext cx="35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ó contém caracteres váli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23760" y="2792160"/>
              <a:ext cx="6861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41800" y="3492360"/>
              <a:ext cx="62244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1040" y="3490920"/>
              <a:ext cx="65304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46840" y="4178160"/>
              <a:ext cx="62244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45720" y="4176720"/>
              <a:ext cx="65304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51240" y="233676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38960" y="2331720"/>
              <a:ext cx="0" cy="254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52280" y="5105520"/>
            <a:ext cx="876312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mplo de Conjunto de Casos de T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(a1,Válido), (2B3, Inválido), (Z-12, Inválido), (A1b2C3d, Inválido)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A01A-1291-4EC4-8A92-0475D781F720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439ADF4-CB9A-4099-8C57-40D7B9A52BAF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6094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de 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Engenharia de Software pode ser definida como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 disciplina que aplica os princípios de engenharia com o objetivo de produzir software d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lta qualidad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aixo cu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1114-0D59-4402-B79D-1711CECCA2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1960200"/>
            <a:ext cx="4495680" cy="32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xa Bran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e de Caminho Bás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ção de Grafo de Flux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xidade Ciclomá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rizes de Graf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e de Estrutura de Contr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e de Cond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e de Fluxo de D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e de La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267080" y="2209680"/>
            <a:ext cx="4572000" cy="21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xa Pre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ção em Classes de Equival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álise das Condições de Frontei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fo Causa Efe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54100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 você pensa que projetar e codificar aquele programa foi difíci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cê não viu nada ainda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bebe"/>
                </a:solidFill>
                <a:latin typeface="Times New Roman"/>
              </a:rPr>
              <a:t>Técnicas de Teste de Software</a:t>
            </a:r>
            <a:endParaRPr b="0" i="1" lang="en-US" sz="60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28BC-1380-4A47-BE88-1667ABDF703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 (Caixa Branca)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ada no conhecimento da estrutura interna (implementação) do pr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dos detalhes procediment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ioria dos critérios dessa técnica utilizam uma representação de programa conhecida como grafo de programa ou  grafo de fluxo de cont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39A3-F33D-4F63-B784-C28349F51FAF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C37CFED-1A73-4A22-B4CB-5077B4FAF106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s Caixa Branca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1981080"/>
            <a:ext cx="74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 do projeto procedi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ante caminhos independentes dentro de um módulo; exercita todas as decisões lógicas; executa todos os laços em suas fronteiras; exercita todas as estruturas de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 que? Erros residem no caminho que não é execu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0A57-3DB1-43C7-B331-1110CACBE9A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fo de Progra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ós: blocos “indivisívei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existe desvio para o meio do blo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a vez que o primeiro comando do bloco é executado, os demais comandos são executados seqüencia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stas ou Arcos: representam o fluxo de controle entre os nó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0A84-7122-4010-854A-3E35CB58ECA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4966267-F469-41CD-A646-9815B1DC5483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Caminho Básic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35960" y="41911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rcos de flu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egi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ós Pred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9920" y="1066680"/>
            <a:ext cx="5980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otação de Grafo de Flux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316880" y="1904040"/>
            <a:ext cx="7374600" cy="1829880"/>
            <a:chOff x="1316880" y="1904040"/>
            <a:chExt cx="7374600" cy="1829880"/>
          </a:xfrm>
        </p:grpSpPr>
        <p:sp>
          <p:nvSpPr>
            <p:cNvPr id="366" name=""/>
            <p:cNvSpPr/>
            <p:nvPr/>
          </p:nvSpPr>
          <p:spPr>
            <a:xfrm>
              <a:off x="1338120" y="297180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68320" y="296712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30360" y="297828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84560" y="2990880"/>
              <a:ext cx="2095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54360" y="342900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54360" y="24382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62440" y="304812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86280" y="305928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92720" y="304812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13680" y="311472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480520" y="32194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94720" y="346716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2640" y="31240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12000" y="276228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57360" y="3076560"/>
              <a:ext cx="210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543040" y="2666520"/>
              <a:ext cx="2811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43040" y="3200400"/>
              <a:ext cx="211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65320" y="2666880"/>
              <a:ext cx="2811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65320" y="3200040"/>
              <a:ext cx="211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32280" y="2819520"/>
              <a:ext cx="563400" cy="22860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32" y="240"/>
                  </a:moveTo>
                  <a:cubicBezTo>
                    <a:pt x="348" y="120"/>
                    <a:pt x="264" y="0"/>
                    <a:pt x="192" y="0"/>
                  </a:cubicBezTo>
                  <a:cubicBezTo>
                    <a:pt x="120" y="0"/>
                    <a:pt x="32" y="200"/>
                    <a:pt x="0" y="24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00400" y="3152880"/>
              <a:ext cx="281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6880" y="22849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Se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99280" y="19040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45400" y="213264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98240" y="23612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Unti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3560" y="3162240"/>
              <a:ext cx="984240" cy="571680"/>
            </a:xfrm>
            <a:custGeom>
              <a:avLst/>
              <a:gdLst/>
              <a:ahLst/>
              <a:rect l="l" t="t" r="r" b="b"/>
              <a:pathLst>
                <a:path w="672" h="360">
                  <a:moveTo>
                    <a:pt x="0" y="72"/>
                  </a:moveTo>
                  <a:cubicBezTo>
                    <a:pt x="136" y="216"/>
                    <a:pt x="272" y="360"/>
                    <a:pt x="384" y="360"/>
                  </a:cubicBezTo>
                  <a:cubicBezTo>
                    <a:pt x="496" y="360"/>
                    <a:pt x="640" y="0"/>
                    <a:pt x="672" y="7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29320" y="31240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51720" y="313524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59600" y="31240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99160" y="2895480"/>
              <a:ext cx="563400" cy="22860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32" y="240"/>
                  </a:moveTo>
                  <a:cubicBezTo>
                    <a:pt x="348" y="120"/>
                    <a:pt x="264" y="0"/>
                    <a:pt x="192" y="0"/>
                  </a:cubicBezTo>
                  <a:cubicBezTo>
                    <a:pt x="120" y="0"/>
                    <a:pt x="32" y="200"/>
                    <a:pt x="0" y="24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65840" y="3228840"/>
              <a:ext cx="282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77040" y="3238560"/>
              <a:ext cx="280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424640" y="2962080"/>
              <a:ext cx="3524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24640" y="3267000"/>
              <a:ext cx="35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24640" y="3343320"/>
              <a:ext cx="3524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58240" y="2886120"/>
              <a:ext cx="4222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58240" y="3267000"/>
              <a:ext cx="35244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8058240" y="3495600"/>
              <a:ext cx="42228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54600" y="22755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51DE-46CE-42AE-B15D-BEB80DD2668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1828800"/>
            <a:ext cx="569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porciona medida quantitativa da complexidade lógica do progr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minho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mples (2, 3, 4, 5, 6, 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leto (1, 2, 3, 4, 5, 7, 4, 8, 9, 1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vre de laço (2, 3, 4, 5, 6, 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minho não executável (6, 7, 4, 5, 7, 4, 8, 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otação de Grafo de Fluxo</a:t>
            </a:r>
            <a:endParaRPr b="0" i="1" lang="en-US" sz="36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69920" y="1066680"/>
            <a:ext cx="5980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mplexidade Ciclomát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840280" y="1828800"/>
            <a:ext cx="2961000" cy="4191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57200" y="388944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Regiões do gra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V(G) = E - N +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E - nº r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N - nº de nó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V(G) = P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P - nós pred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BB88-0AD2-4C2D-BF48-7D61B8B6777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aminhos Independe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 máximo para o número de testes que deve ser realizado para garantir que todas as instruções sejam executadas pelo menos uma v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 qualquer caminho através do programa que introduz pelo menos um novo conjunto de instruções de processamento ou uma nova condi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 incluir pelo menos um Ramo que não tenha sido atravessado antes que o caminho seja defini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6D28-7A42-493A-88F6-D8B29DDD733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Caminho Básic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69920" y="1066680"/>
            <a:ext cx="5980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atrizes de Graf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477800" y="1905120"/>
            <a:ext cx="2530440" cy="3276000"/>
            <a:chOff x="1477800" y="1905120"/>
            <a:chExt cx="2530440" cy="3276000"/>
          </a:xfrm>
        </p:grpSpPr>
        <p:sp>
          <p:nvSpPr>
            <p:cNvPr id="415" name=""/>
            <p:cNvSpPr/>
            <p:nvPr/>
          </p:nvSpPr>
          <p:spPr>
            <a:xfrm>
              <a:off x="2556360" y="190512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6360" y="472428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79760" y="380988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77800" y="380988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56360" y="289548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7320" y="2361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67320" y="3352680"/>
              <a:ext cx="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67320" y="429228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782360" y="3123720"/>
              <a:ext cx="703440" cy="76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11800" y="4267080"/>
              <a:ext cx="844200" cy="60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923120" y="4038480"/>
              <a:ext cx="632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124080"/>
              <a:ext cx="774000" cy="83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978280" y="3962160"/>
              <a:ext cx="774000" cy="83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28440" y="3351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76440" y="2437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22680" y="42408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13040" y="377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30840" y="33134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14000" y="3999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90000" y="440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35" name=""/>
          <p:cNvGraphicFramePr/>
          <p:nvPr/>
        </p:nvGraphicFramePr>
        <p:xfrm>
          <a:off x="5418000" y="1981080"/>
          <a:ext cx="2181240" cy="15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8000" y="1981080"/>
                    <a:ext cx="21812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5441400" y="1676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gado ao n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80600" y="2057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135400" y="4267080"/>
          <a:ext cx="2181240" cy="1536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4267080"/>
                    <a:ext cx="21812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4699800" y="4419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01000" y="3962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gado ao n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39680" y="42022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ex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63440" y="45594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 - 1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363440" y="50292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 - 1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63440" y="528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 - 1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63440" y="55371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 - 1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82120" y="57690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 + 1 =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A16E-59BD-4F6F-8CF9-4B19CAD46BC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85840" y="1904760"/>
            <a:ext cx="4800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fo de Progra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alhes considera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in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s (2,3,4,5,6,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o (1,2,3,4,5,7,4,8,9,1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vre de laço (2,3,4,5,6,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xo de cont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7040" y="5562720"/>
            <a:ext cx="302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fo de Programa d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 pel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ew-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ViewGraph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98116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E1EA-17EF-4634-898F-F9DE88C04AB4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6C3E088-3534-420A-A35F-5DC4351E6632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28600" y="685800"/>
            <a:ext cx="8458200" cy="544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 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har  acha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  length, valid_i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“Identificador: 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valid_id = valid_s(achar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if (valid_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2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 =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3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4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while (achar != '\n'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5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5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f (!(valid_f(achar)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6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valid_id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++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8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if (valid_id &amp;&amp; (length &gt;= 1) &amp;&amp; (length &lt;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9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printf (“Valido\n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0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0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“Invalido\n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1 */  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1494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r.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çã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91320" y="1066680"/>
            <a:ext cx="2971800" cy="8384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inh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-Execu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8EE0-119F-4137-838B-A3ED73DE1B43}" type="slidenum">
              <a:t>6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A4A043F-8C76-4E17-8F7C-84C47D5A3B70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enharia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zir software de alta qualidade e de baixo cu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486160"/>
            <a:ext cx="7086600" cy="155700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junto de princípios, métodos e técnica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 tratam o software como produto de engenharia que requer planejamento, projeto, implementação e manuten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18B9-9F1E-4EB2-8572-80890DD4A1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CAD0332-D478-4606-AE22-029E569832E6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da Técnica Estru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eados em Fluxo de Cont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Nós, Todas-Arestas e Todos-Camin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eados em Fluxo de 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s de Rapps e Weyu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as-Defs, Todos-Usos, Todos-P-Usos e ou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s Potenciais-Usos (Maldon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Potenciais-Usos, Todos-Potenciais-Usos/DU e ou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eados em Complex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 de McCa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F799-89D7-4697-953A-F1AB72D98267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1AB61F-2C73-4BC4-BA49-67A8D0375CEC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érios Baseados em Fluxo de Contro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s-Nó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2,3,4,5,6,7,8,9,10,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s-Ar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os primi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1,2&gt;,&lt;1,3&gt;,&lt;5,6&gt;,&lt;5,7&gt;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8,9&gt;,&lt;8,10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s-Camin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55000" y="5562720"/>
            <a:ext cx="302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fo de Programa d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 pel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ew-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ViewGraph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298116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34AB-0973-44DF-AA63-DD8313B30405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4312BA7-871B-4FA1-83B4-6BEE2F3BE4D8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pps e Weyu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tribuição de um valor a uma variá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edicativo: a variável é utilizada em uma condi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a &gt; 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utacional: a variável é utilizada em uma comput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 = a +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2743200"/>
            <a:ext cx="7848720" cy="3974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rafo Def-Uso: Grafo de Programa + Definição e Uso de Variáv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21A6-3F45-44D2-9341-BB169EF2EEB3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A8D6C1C-29CD-40DA-AA92-9CD6E50A8E5F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cc99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8077320" y="6624720"/>
            <a:ext cx="914400" cy="2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D060-BE1A-461B-AF54-724143921294}" type="slidenum">
              <a:rPr b="0" lang="en-US" sz="14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991440" y="152280"/>
            <a:ext cx="7094160" cy="6370920"/>
            <a:chOff x="991440" y="152280"/>
            <a:chExt cx="7094160" cy="6370920"/>
          </a:xfrm>
        </p:grpSpPr>
        <p:grpSp>
          <p:nvGrpSpPr>
            <p:cNvPr id="468" name=""/>
            <p:cNvGrpSpPr/>
            <p:nvPr/>
          </p:nvGrpSpPr>
          <p:grpSpPr>
            <a:xfrm>
              <a:off x="1617840" y="257040"/>
              <a:ext cx="5106600" cy="6266160"/>
              <a:chOff x="1617840" y="257040"/>
              <a:chExt cx="5106600" cy="62661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646800" y="257040"/>
                <a:ext cx="474480" cy="474840"/>
                <a:chOff x="3646800" y="257040"/>
                <a:chExt cx="474480" cy="4748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646800" y="257040"/>
                  <a:ext cx="474480" cy="4748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749760" y="331920"/>
                  <a:ext cx="28116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646800" y="1171440"/>
                <a:ext cx="474480" cy="47628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749760" y="12463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46800" y="208584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749760" y="21607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800" y="300024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749760" y="30751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6800" y="391464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68840" y="39895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46800" y="513396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49760" y="52084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646800" y="604836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92520" y="612144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4637160" y="714240"/>
                <a:ext cx="474840" cy="474840"/>
                <a:chOff x="4637160" y="714240"/>
                <a:chExt cx="474840" cy="474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637160" y="714240"/>
                  <a:ext cx="474840" cy="4748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740480" y="789120"/>
                  <a:ext cx="28116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4637160" y="3457440"/>
                <a:ext cx="474840" cy="474840"/>
                <a:chOff x="4637160" y="3457440"/>
                <a:chExt cx="474840" cy="4748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637160" y="3457440"/>
                  <a:ext cx="474840" cy="4748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740480" y="3532320"/>
                  <a:ext cx="28116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1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637160" y="5591160"/>
                <a:ext cx="474840" cy="474840"/>
                <a:chOff x="4637160" y="5591160"/>
                <a:chExt cx="474840" cy="4748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637160" y="5591160"/>
                  <a:ext cx="474840" cy="4748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740480" y="5665680"/>
                  <a:ext cx="28116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9</a:t>
                  </a:r>
                  <a:endParaRPr b="0" lang="en-US" sz="1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2656080" y="559116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82720" y="566568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884760" y="743040"/>
                <a:ext cx="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884760" y="1657440"/>
                <a:ext cx="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84760" y="2571840"/>
                <a:ext cx="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884760" y="3486240"/>
                <a:ext cx="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132440" y="457200"/>
                <a:ext cx="5904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4132440" y="1142640"/>
                <a:ext cx="5904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32440" y="3200400"/>
                <a:ext cx="5904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4132440" y="3885840"/>
                <a:ext cx="5904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32440" y="5353200"/>
                <a:ext cx="5904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4132440" y="6039000"/>
                <a:ext cx="5904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46680" y="5353200"/>
                <a:ext cx="5904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3046680" y="6039000"/>
                <a:ext cx="5904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17840" y="2344680"/>
                <a:ext cx="40251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1" y="21600"/>
                    </a:moveTo>
                    <a:arcTo wR="10800" hR="10800" stAng="5402710" swAng="108027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1" y="21600"/>
                    </a:moveTo>
                    <a:arcTo wR="10800" hR="10800" stAng="5402710" swAng="1080271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730880" y="2344680"/>
                <a:ext cx="4993560" cy="289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32" y="3"/>
                    </a:moveTo>
                    <a:arcTo wR="10800" hR="10800" stAng="-5485243" swAng="11023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32" y="3"/>
                    </a:moveTo>
                    <a:arcTo wR="10800" hR="10800" stAng="-5485243" swAng="1102304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991440" y="152280"/>
              <a:ext cx="5506200" cy="4377600"/>
              <a:chOff x="991440" y="152280"/>
              <a:chExt cx="5506200" cy="4377600"/>
            </a:xfrm>
          </p:grpSpPr>
          <p:sp>
            <p:nvSpPr>
              <p:cNvPr id="510" name=""/>
              <p:cNvSpPr/>
              <p:nvPr/>
            </p:nvSpPr>
            <p:spPr>
              <a:xfrm>
                <a:off x="991440" y="152280"/>
                <a:ext cx="2640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pt-BR" sz="1600" spc="-1" strike="noStrike">
                    <a:solidFill>
                      <a:srgbClr val="ff6600"/>
                    </a:solidFill>
                    <a:latin typeface="Arial"/>
                  </a:rPr>
                  <a:t>= {length, valid_id, achar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44760" y="784080"/>
                <a:ext cx="1216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pt-BR" sz="1600" spc="-1" strike="noStrike">
                    <a:solidFill>
                      <a:srgbClr val="ff6600"/>
                    </a:solidFill>
                    <a:latin typeface="Arial"/>
                  </a:rPr>
                  <a:t>= {length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78440" y="4194000"/>
                <a:ext cx="183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pt-BR" sz="1600" spc="-1" strike="noStrike">
                    <a:solidFill>
                      <a:srgbClr val="ff6600"/>
                    </a:solidFill>
                    <a:latin typeface="Arial"/>
                  </a:rPr>
                  <a:t>= {achar, length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43680" y="3548160"/>
                <a:ext cx="1353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pt-BR" sz="1600" spc="-1" strike="noStrike">
                    <a:solidFill>
                      <a:srgbClr val="ff6600"/>
                    </a:solidFill>
                    <a:latin typeface="Arial"/>
                  </a:rPr>
                  <a:t>= {valid_id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15880" y="1433520"/>
                <a:ext cx="1171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en-US" sz="1600" spc="-1" strike="noStrike">
                    <a:solidFill>
                      <a:srgbClr val="ff6600"/>
                    </a:solidFill>
                    <a:latin typeface="Arial"/>
                  </a:rPr>
                  <a:t>= {achar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449760" y="5826240"/>
              <a:ext cx="1635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6600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 = defini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cc99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8077320" y="6624720"/>
            <a:ext cx="914400" cy="2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C15C-855C-426C-9689-A1FEC7921932}" type="slidenum">
              <a:rPr b="0" lang="en-US" sz="14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88000" y="228600"/>
            <a:ext cx="8706960" cy="6370560"/>
            <a:chOff x="288000" y="228600"/>
            <a:chExt cx="8706960" cy="6370560"/>
          </a:xfrm>
        </p:grpSpPr>
        <p:grpSp>
          <p:nvGrpSpPr>
            <p:cNvPr id="519" name=""/>
            <p:cNvGrpSpPr/>
            <p:nvPr/>
          </p:nvGrpSpPr>
          <p:grpSpPr>
            <a:xfrm>
              <a:off x="2943360" y="333360"/>
              <a:ext cx="474480" cy="474840"/>
              <a:chOff x="2943360" y="333360"/>
              <a:chExt cx="474480" cy="474840"/>
            </a:xfrm>
          </p:grpSpPr>
          <p:sp>
            <p:nvSpPr>
              <p:cNvPr id="520" name=""/>
              <p:cNvSpPr/>
              <p:nvPr/>
            </p:nvSpPr>
            <p:spPr>
              <a:xfrm>
                <a:off x="2943360" y="33336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46320" y="4078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2943360" y="1247760"/>
              <a:ext cx="474480" cy="4762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6320" y="13222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43360" y="2162160"/>
              <a:ext cx="474480" cy="47484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6320" y="22366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43360" y="3076560"/>
              <a:ext cx="474480" cy="47484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46320" y="31510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43360" y="3990960"/>
              <a:ext cx="474480" cy="47484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65400" y="40654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43360" y="5210280"/>
              <a:ext cx="474480" cy="4744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6320" y="528480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43360" y="6124680"/>
              <a:ext cx="474480" cy="4744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89080" y="6197760"/>
              <a:ext cx="4150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933720" y="790560"/>
              <a:ext cx="474840" cy="474840"/>
              <a:chOff x="3933720" y="790560"/>
              <a:chExt cx="474840" cy="474840"/>
            </a:xfrm>
          </p:grpSpPr>
          <p:sp>
            <p:nvSpPr>
              <p:cNvPr id="535" name=""/>
              <p:cNvSpPr/>
              <p:nvPr/>
            </p:nvSpPr>
            <p:spPr>
              <a:xfrm>
                <a:off x="3933720" y="790560"/>
                <a:ext cx="47484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37040" y="8650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3933720" y="3533760"/>
              <a:ext cx="474840" cy="474840"/>
              <a:chOff x="3933720" y="3533760"/>
              <a:chExt cx="474840" cy="474840"/>
            </a:xfrm>
          </p:grpSpPr>
          <p:sp>
            <p:nvSpPr>
              <p:cNvPr id="538" name=""/>
              <p:cNvSpPr/>
              <p:nvPr/>
            </p:nvSpPr>
            <p:spPr>
              <a:xfrm>
                <a:off x="3933720" y="3533760"/>
                <a:ext cx="47484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037040" y="36082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3933720" y="5667480"/>
              <a:ext cx="474840" cy="474480"/>
              <a:chOff x="3933720" y="5667480"/>
              <a:chExt cx="474840" cy="474480"/>
            </a:xfrm>
          </p:grpSpPr>
          <p:sp>
            <p:nvSpPr>
              <p:cNvPr id="541" name=""/>
              <p:cNvSpPr/>
              <p:nvPr/>
            </p:nvSpPr>
            <p:spPr>
              <a:xfrm>
                <a:off x="3933720" y="5667480"/>
                <a:ext cx="474840" cy="47448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37040" y="5742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1952640" y="5667480"/>
              <a:ext cx="474480" cy="4744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79280" y="5742000"/>
              <a:ext cx="4150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81320" y="8190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81320" y="17334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1320" y="26478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1320" y="35622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29000" y="533520"/>
              <a:ext cx="5904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429000" y="1219320"/>
              <a:ext cx="5904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29000" y="3276720"/>
              <a:ext cx="5904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429000" y="3962520"/>
              <a:ext cx="5904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29000" y="5429160"/>
              <a:ext cx="5904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3429000" y="6114600"/>
              <a:ext cx="5904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343240" y="5429160"/>
              <a:ext cx="5904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2343240" y="6114600"/>
              <a:ext cx="5904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4400" y="2421000"/>
              <a:ext cx="402516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710" swAng="1080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710" swAng="1080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27440" y="2421000"/>
              <a:ext cx="499356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3"/>
                  </a:moveTo>
                  <a:arcTo wR="10800" hR="10800" stAng="-5485243" swAng="1102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3"/>
                  </a:moveTo>
                  <a:arcTo wR="10800" hR="10800" stAng="-5485243" swAng="110230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59600" y="458640"/>
              <a:ext cx="12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ff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0000ff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55200" y="4497480"/>
              <a:ext cx="1319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ff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0000ff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6120" y="83988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60160" y="26686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60120" y="31258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88560" y="35830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27080" y="276372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54800" y="529740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8080" y="529740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78120" y="32544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000" y="228600"/>
              <a:ext cx="264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length, valid_id, 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41320" y="86040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75000" y="4270320"/>
              <a:ext cx="1837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achar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40240" y="3624120"/>
              <a:ext cx="135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12440" y="1509840"/>
              <a:ext cx="117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en-US" sz="1600" spc="-1" strike="noStrike">
                  <a:solidFill>
                    <a:srgbClr val="ff66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26120" y="5181480"/>
              <a:ext cx="28688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ff6600"/>
                  </a:solidFill>
                  <a:latin typeface="Arial"/>
                </a:rPr>
                <a:t>d</a:t>
              </a:r>
              <a:r>
                <a:rPr b="0" lang="pt-BR" sz="2000" spc="-1" strike="noStrike">
                  <a:solidFill>
                    <a:srgbClr val="ff6600"/>
                  </a:solidFill>
                  <a:latin typeface="Arial"/>
                </a:rPr>
                <a:t> = defini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8000"/>
                  </a:solidFill>
                  <a:latin typeface="Arial"/>
                </a:rPr>
                <a:t>up</a:t>
              </a:r>
              <a:r>
                <a:rPr b="0" lang="pt-BR" sz="2000" spc="-1" strike="noStrike">
                  <a:solidFill>
                    <a:srgbClr val="008000"/>
                  </a:solidFill>
                  <a:latin typeface="Arial"/>
                </a:rPr>
                <a:t> = uso predicativ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ff"/>
                  </a:solidFill>
                  <a:latin typeface="Arial"/>
                </a:rPr>
                <a:t>uc</a:t>
              </a:r>
              <a:r>
                <a:rPr b="0" lang="pt-BR" sz="2000" spc="-1" strike="noStrike">
                  <a:solidFill>
                    <a:srgbClr val="0000ff"/>
                  </a:solidFill>
                  <a:latin typeface="Arial"/>
                </a:rPr>
                <a:t> = uso computacio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pps e Weyu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as-Definiçõ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3200400"/>
            <a:ext cx="7391520" cy="70236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er que cada definição de variável seja exercitada pelo menos uma vez, não importa se por um c-uso ou por um p-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5869-6303-4670-84AC-0FA7819BAE7F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352AEFD-C9E8-4B8D-B486-8F5A881A128D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37920" y="5257800"/>
            <a:ext cx="2868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= defin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8000"/>
                </a:solidFill>
                <a:latin typeface="Arial"/>
              </a:rPr>
              <a:t>up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 = uso predic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6600"/>
                </a:solidFill>
                <a:latin typeface="Arial"/>
              </a:rPr>
              <a:t>uc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= uso comput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51920" y="1035000"/>
            <a:ext cx="5818320" cy="5061600"/>
            <a:chOff x="151920" y="1035000"/>
            <a:chExt cx="5818320" cy="5061600"/>
          </a:xfrm>
        </p:grpSpPr>
        <p:grpSp>
          <p:nvGrpSpPr>
            <p:cNvPr id="581" name=""/>
            <p:cNvGrpSpPr/>
            <p:nvPr/>
          </p:nvGrpSpPr>
          <p:grpSpPr>
            <a:xfrm>
              <a:off x="742680" y="1412640"/>
              <a:ext cx="4114440" cy="4137120"/>
              <a:chOff x="742680" y="1412640"/>
              <a:chExt cx="4114440" cy="41371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77800" y="143136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41160" y="14126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377800" y="2026800"/>
                <a:ext cx="382680" cy="3106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41160" y="1998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77800" y="262368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22080" y="26060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377800" y="321876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31800" y="32014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377800" y="381564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47640" y="37983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77800" y="460944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41160" y="45921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77800" y="520632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76720" y="518724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174840" y="172980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33520" y="17013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74840" y="351720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28840" y="34999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174840" y="490788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238200" y="48906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579320" y="490788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563840" y="489060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570040" y="1747440"/>
                <a:ext cx="0" cy="27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70040" y="2344320"/>
                <a:ext cx="0" cy="30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70040" y="2939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70040" y="353628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68400" y="156168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768400" y="200916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68400" y="334908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2768400" y="379620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68400" y="475236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2768400" y="520020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1893240" y="475236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1893240" y="520020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2680" y="2791800"/>
                <a:ext cx="3242160" cy="119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1" y="21600"/>
                    </a:moveTo>
                    <a:arcTo wR="10800" hR="10800" stAng="5402710" swAng="108027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1" y="21600"/>
                    </a:moveTo>
                    <a:arcTo wR="10800" hR="10800" stAng="5402710" swAng="1080271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4120" y="2791800"/>
                <a:ext cx="4023000" cy="18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32" y="3"/>
                    </a:moveTo>
                    <a:arcTo wR="10800" hR="10800" stAng="-5485243" swAng="11023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32" y="3"/>
                    </a:moveTo>
                    <a:arcTo wR="10800" hR="10800" stAng="-5485243" swAng="1102304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2464200" y="1035000"/>
              <a:ext cx="264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, valid_id, 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25120" y="168264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56440" y="3946320"/>
              <a:ext cx="1837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achar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6040" y="3516120"/>
              <a:ext cx="135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12960" y="2161800"/>
              <a:ext cx="117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49120" y="1355400"/>
              <a:ext cx="12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49960" y="4190760"/>
              <a:ext cx="1319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94760" y="135540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97280" y="310824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86480" y="39844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22640" y="348120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97080" y="287964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82680" y="460044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1920" y="452412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83600" y="170172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70800" y="5759280"/>
              <a:ext cx="25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rafo Def-Uso do </a:t>
              </a:r>
              <a:r>
                <a:rPr b="0" i="1" lang="pt-BR" sz="1600" spc="-1" strike="noStrike">
                  <a:solidFill>
                    <a:srgbClr val="000000"/>
                  </a:solidFill>
                  <a:latin typeface="Arial"/>
                </a:rPr>
                <a:t>identifi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486400" y="685800"/>
            <a:ext cx="3276720" cy="29606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pps e Weyu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das-Defin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iniçã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no nó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3,4,5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1,3,4,8,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3,4,8,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3,4,5,6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FAA2-7BF5-4843-99CD-99245602C518}" type="slidenum">
              <a:t>7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6C402FA-D973-4455-938B-5782070DBAFD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pps e Weyu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U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143000" y="3429000"/>
            <a:ext cx="7162920" cy="131220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quer que todas as associações entre uma definição de variável e seus subseqüentes usos sejam exercitadas</a:t>
            </a:r>
            <a:br>
              <a:rPr sz="2000"/>
            </a:b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los casos de teste, atrável de pelo menos um</a:t>
            </a:r>
            <a:br>
              <a:rPr sz="2000"/>
            </a:b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aminho livre de definição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776B-C8B0-4261-85C4-1411668EC9E9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610F261-45EB-43AE-B707-81C52402751D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137920" y="5257800"/>
            <a:ext cx="2868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= defin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8000"/>
                </a:solidFill>
                <a:latin typeface="Arial"/>
              </a:rPr>
              <a:t>up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 = uso predic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6600"/>
                </a:solidFill>
                <a:latin typeface="Arial"/>
              </a:rPr>
              <a:t>uc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= uso comput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51920" y="1035000"/>
            <a:ext cx="5818320" cy="5061600"/>
            <a:chOff x="151920" y="1035000"/>
            <a:chExt cx="5818320" cy="5061600"/>
          </a:xfrm>
        </p:grpSpPr>
        <p:grpSp>
          <p:nvGrpSpPr>
            <p:cNvPr id="641" name=""/>
            <p:cNvGrpSpPr/>
            <p:nvPr/>
          </p:nvGrpSpPr>
          <p:grpSpPr>
            <a:xfrm>
              <a:off x="742680" y="1412640"/>
              <a:ext cx="4114440" cy="4137120"/>
              <a:chOff x="742680" y="1412640"/>
              <a:chExt cx="4114440" cy="4137120"/>
            </a:xfrm>
          </p:grpSpPr>
          <p:sp>
            <p:nvSpPr>
              <p:cNvPr id="642" name=""/>
              <p:cNvSpPr/>
              <p:nvPr/>
            </p:nvSpPr>
            <p:spPr>
              <a:xfrm>
                <a:off x="2377800" y="143136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14126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377800" y="2026800"/>
                <a:ext cx="382680" cy="3106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441160" y="1998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77800" y="262368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422080" y="26060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377800" y="321876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431800" y="32014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77800" y="381564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47640" y="37983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377800" y="460944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441160" y="45921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377800" y="520632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376720" y="518724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74840" y="172980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33520" y="17013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174840" y="351720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228840" y="34999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74840" y="490788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38200" y="48906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79320" y="490788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563840" y="489060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570040" y="1747440"/>
                <a:ext cx="0" cy="27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570040" y="2344320"/>
                <a:ext cx="0" cy="30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0040" y="2939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70040" y="353628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68400" y="156168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2768400" y="200916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768400" y="334908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768400" y="379620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68400" y="475236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768400" y="520020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1893240" y="475236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1893240" y="520020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42680" y="2791800"/>
                <a:ext cx="3242160" cy="119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1" y="21600"/>
                    </a:moveTo>
                    <a:arcTo wR="10800" hR="10800" stAng="5402710" swAng="108027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1" y="21600"/>
                    </a:moveTo>
                    <a:arcTo wR="10800" hR="10800" stAng="5402710" swAng="1080271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34120" y="2791800"/>
                <a:ext cx="4023000" cy="18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32" y="3"/>
                    </a:moveTo>
                    <a:arcTo wR="10800" hR="10800" stAng="-5485243" swAng="11023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32" y="3"/>
                    </a:moveTo>
                    <a:arcTo wR="10800" hR="10800" stAng="-5485243" swAng="1102304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2464200" y="1035000"/>
              <a:ext cx="264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, valid_id, 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25120" y="168264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6440" y="3946320"/>
              <a:ext cx="1837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achar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06040" y="3516120"/>
              <a:ext cx="135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712960" y="2161800"/>
              <a:ext cx="117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49120" y="1355400"/>
              <a:ext cx="12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49960" y="4190760"/>
              <a:ext cx="1319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94760" y="135540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7280" y="310824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86480" y="39844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22640" y="348120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297080" y="287964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82680" y="460044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51920" y="452412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83600" y="170172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70800" y="5759280"/>
              <a:ext cx="25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rafo Def-Uso do </a:t>
              </a:r>
              <a:r>
                <a:rPr b="0" i="1" lang="pt-BR" sz="1600" spc="-1" strike="noStrike">
                  <a:solidFill>
                    <a:srgbClr val="000000"/>
                  </a:solidFill>
                  <a:latin typeface="Arial"/>
                </a:rPr>
                <a:t>identifi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5486400" y="685800"/>
            <a:ext cx="3276720" cy="265572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pps e Weyu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dos-U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iniçã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no nó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7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1,(8,9)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(8,10)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3EB5-0BB8-4DC9-BECE-0DD2B00E93EE}" type="slidenum">
              <a:t>7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F04A4C-05D4-42CD-B413-64205AE1EB9B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ciai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ito de Potencial-Associ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ções são estabelecidas sem a necessidade de um uso explíc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143000" y="2879640"/>
            <a:ext cx="7162920" cy="3974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rafo Def: Grafo de Programa + Definição de Variáv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7B8E-7F5E-4521-B0AC-182691AF7E80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0DA2B47-D2A1-43FE-B377-BF7D7C4F44A3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lidade d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formidade com requisitos funcionais e de desempenho, padrões de desenvolvimento documentados, e características implícitas esperadas de todo software profissionalmente desenvolv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rret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fiabil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stabil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8D29-7C03-4AD7-93BD-6DF667B559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A3CB2E1-C4C3-4194-9DCB-FE743CB03B6E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28600" y="838080"/>
            <a:ext cx="5337000" cy="5106240"/>
            <a:chOff x="228600" y="838080"/>
            <a:chExt cx="5337000" cy="5106240"/>
          </a:xfrm>
        </p:grpSpPr>
        <p:grpSp>
          <p:nvGrpSpPr>
            <p:cNvPr id="700" name=""/>
            <p:cNvGrpSpPr/>
            <p:nvPr/>
          </p:nvGrpSpPr>
          <p:grpSpPr>
            <a:xfrm>
              <a:off x="228600" y="1123920"/>
              <a:ext cx="4114440" cy="4137480"/>
              <a:chOff x="228600" y="1123920"/>
              <a:chExt cx="4114440" cy="4137480"/>
            </a:xfrm>
          </p:grpSpPr>
          <p:sp>
            <p:nvSpPr>
              <p:cNvPr id="701" name=""/>
              <p:cNvSpPr/>
              <p:nvPr/>
            </p:nvSpPr>
            <p:spPr>
              <a:xfrm>
                <a:off x="1863720" y="114300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927080" y="11239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863720" y="1738440"/>
                <a:ext cx="382680" cy="3110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27080" y="17096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63720" y="233532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908000" y="23176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863720" y="293040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917720" y="29131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63720" y="352728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933560" y="3510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863720" y="432108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927080" y="43038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863720" y="491796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862640" y="489888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60760" y="1441440"/>
                <a:ext cx="38232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719440" y="1413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660760" y="3228840"/>
                <a:ext cx="38232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14760" y="32115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60760" y="4619520"/>
                <a:ext cx="38232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24120" y="46022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065240" y="461952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049760" y="460224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055960" y="1459080"/>
                <a:ext cx="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055960" y="2055960"/>
                <a:ext cx="0" cy="30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055960" y="2651040"/>
                <a:ext cx="0" cy="27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55960" y="3247920"/>
                <a:ext cx="0" cy="27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254320" y="127332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2254320" y="172044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254320" y="3060720"/>
                <a:ext cx="476280" cy="20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2254320" y="3508200"/>
                <a:ext cx="47628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254320" y="4464000"/>
                <a:ext cx="476280" cy="20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2254320" y="491148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1379160" y="4464000"/>
                <a:ext cx="476280" cy="20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 flipV="1">
                <a:off x="1379160" y="491148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28600" y="2503440"/>
                <a:ext cx="3242160" cy="11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1" y="21600"/>
                    </a:moveTo>
                    <a:arcTo wR="10800" hR="10800" stAng="5402710" swAng="108027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1" y="21600"/>
                    </a:moveTo>
                    <a:arcTo wR="10800" hR="10800" stAng="5402710" swAng="1080271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20040" y="2503440"/>
                <a:ext cx="4023000" cy="188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32" y="3"/>
                    </a:moveTo>
                    <a:arcTo wR="10800" hR="10800" stAng="-5485243" swAng="11023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32" y="3"/>
                    </a:moveTo>
                    <a:arcTo wR="10800" hR="10800" stAng="-5485243" swAng="1102304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873800" y="838080"/>
              <a:ext cx="264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, valid_id, 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11040" y="139392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199240" y="3701880"/>
              <a:ext cx="1837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achar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991600" y="3227400"/>
              <a:ext cx="135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98880" y="1873080"/>
              <a:ext cx="117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29760" y="5546880"/>
              <a:ext cx="1635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 = defini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31040" y="5410080"/>
              <a:ext cx="21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rafo Def do </a:t>
              </a:r>
              <a:r>
                <a:rPr b="0" i="1" lang="pt-BR" sz="1600" spc="-1" strike="noStrike">
                  <a:solidFill>
                    <a:srgbClr val="000000"/>
                  </a:solidFill>
                  <a:latin typeface="Arial"/>
                </a:rPr>
                <a:t>identifi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5410080" y="851040"/>
            <a:ext cx="3276720" cy="312552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tenciais-U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dos-Potenciais-U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1,2,{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1,(1,3), {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alid_i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2,(8,9), {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3,(8,10), {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char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 rot="5400000">
            <a:off x="6901920" y="32302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4E16-B129-4B0E-9879-0CD06E6F131B}" type="slidenum">
              <a:t>8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F3799F5-01E9-4416-993E-57F8A2E2E39D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940440" y="4983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0692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940440" y="4989600"/>
            <a:ext cx="6480" cy="1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94044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53440" cy="3619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ções Requerid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s-Potenciai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62120" y="5334120"/>
            <a:ext cx="670536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= { (a1, Válido), (2B3, Inválido), (Z-12, Inválido), (A1b2C3d, Inválido)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{(1#, Inválido), (%, Inválido), (c, Válido)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{(#-%, Inválido)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FFBB-9C8B-4B44-8030-8C978FBC090F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16FEC11-522A-4537-97CD-5D34FB5871D7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térios de Rapps e Weyu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térios Potenciai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os Critérios Estrutu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Nós, Todos-Arcos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as Caracter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 multi-lingua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portação de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serção e remoção de casos de teste dinamic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sos de teste podem ser habilitados ou desabili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ração de relató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5CCD-0897-4F5C-AD9E-97B6FB50C873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58C668E-9D45-400D-A3AB-C5D795DF9327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Interface Gráfi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PokeTool3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876640" cy="398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2100-EEDB-491C-AE4D-A8AAB75BF369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E8EEDF6-3EF5-4B2C-B434-49A1FDBC7DB8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Criando uma Sessão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createsession" descr=""/>
          <p:cNvPicPr/>
          <p:nvPr/>
        </p:nvPicPr>
        <p:blipFill>
          <a:blip r:embed="rId1"/>
          <a:stretch/>
        </p:blipFill>
        <p:spPr>
          <a:xfrm>
            <a:off x="2425680" y="2514600"/>
            <a:ext cx="4127400" cy="31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9233-AC30-4D30-8E8F-6F6A37DBF54E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E17C7A-4B0D-4068-95C7-F94E1CDE7328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Elementos Requeri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elementosrequeridos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862520" cy="29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F9C0-FE72-4604-84B4-2C1B32E396F8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AF78EE2-FAD6-45EA-9B69-E89CF0CF5FFD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Grafo de Progra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controlflowgraph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862520" cy="29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B512-BEAF-4D49-BF0B-5E91473EBE26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F72D27-29A2-425B-B239-390B15D0BE41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940440" y="4983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0692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940440" y="4989600"/>
            <a:ext cx="6480" cy="1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94044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Relatório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report" descr=""/>
          <p:cNvPicPr/>
          <p:nvPr/>
        </p:nvPicPr>
        <p:blipFill>
          <a:blip r:embed="rId1"/>
          <a:stretch/>
        </p:blipFill>
        <p:spPr>
          <a:xfrm>
            <a:off x="5081760" y="2590920"/>
            <a:ext cx="3838320" cy="2336760"/>
          </a:xfrm>
          <a:prstGeom prst="rect">
            <a:avLst/>
          </a:prstGeom>
          <a:ln w="0">
            <a:noFill/>
          </a:ln>
        </p:spPr>
      </p:pic>
      <p:pic>
        <p:nvPicPr>
          <p:cNvPr id="775" name="statust2" descr=""/>
          <p:cNvPicPr/>
          <p:nvPr/>
        </p:nvPicPr>
        <p:blipFill>
          <a:blip r:embed="rId2"/>
          <a:stretch/>
        </p:blipFill>
        <p:spPr>
          <a:xfrm>
            <a:off x="380880" y="2612880"/>
            <a:ext cx="4626000" cy="340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8D29-F261-44C6-940A-5C05F547408D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32A8635-C8D6-43B5-AC32-E0BAAD547AEB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6940440" y="4983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0692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40440" y="4989600"/>
            <a:ext cx="6480" cy="1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94044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pic>
        <p:nvPicPr>
          <p:cNvPr id="781" name="report_t4ne" descr=""/>
          <p:cNvPicPr/>
          <p:nvPr/>
        </p:nvPicPr>
        <p:blipFill>
          <a:blip r:embed="rId1"/>
          <a:stretch/>
        </p:blipFill>
        <p:spPr>
          <a:xfrm>
            <a:off x="4689360" y="2379600"/>
            <a:ext cx="3692520" cy="2944800"/>
          </a:xfrm>
          <a:prstGeom prst="rect">
            <a:avLst/>
          </a:prstGeom>
          <a:ln w="0">
            <a:noFill/>
          </a:ln>
        </p:spPr>
      </p:pic>
      <p:pic>
        <p:nvPicPr>
          <p:cNvPr id="782" name="report_t4b" descr=""/>
          <p:cNvPicPr/>
          <p:nvPr/>
        </p:nvPicPr>
        <p:blipFill>
          <a:blip r:embed="rId2"/>
          <a:stretch/>
        </p:blipFill>
        <p:spPr>
          <a:xfrm>
            <a:off x="905040" y="2362320"/>
            <a:ext cx="3519360" cy="386532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Relatório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6F0A-E81F-4CEB-937B-BA49609539A7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D73A0E6-5932-4F13-A71B-15FBEC354C17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Baseada em Err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requisitos de teste são derivados a partir dos  erros mais freqüentes cometidos durante o processo de desenvolvimento do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érios da Técnica Baseada em Er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eadura de Er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 de Mu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álise de Mutantes (unida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ção de Interface (integraçã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4CC4-2BB8-452E-9A79-A656A6D4EC5B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9DB53A-B4B4-4141-9698-1D6A7FC42AB0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rantia de Qualidade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unto de atividades técnicas aplicadas durante todo o processo de desenvolv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antir que tanto o processo de desenvolvimento quanto o produto de software atinjam os níveis de qualidade especific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V&amp;T – Verificação, Validação 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8914-B24A-4ACF-BBC8-129DCF75A9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8252DD3-6A37-41F3-BB23-F55566E112B1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800" y="173340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pótese do Programador Compet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eito de Acoplam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50840" y="2575080"/>
            <a:ext cx="7178760" cy="70236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adores experientes escrevem programa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tos ou  muito próximos do corr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50840" y="4708440"/>
            <a:ext cx="7407360" cy="100728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sos de teste capazes de revelar erros simples são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ão sensíveis que, implicitamente, também são capaz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 revelar erros mais complex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98B3-7B56-4DC0-AF23-E00B20DB9E23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730E51E-0954-40D4-A056-4DDF52CBC810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os da Análise de Mu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 Geração de Mut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96760" y="2666880"/>
            <a:ext cx="7407360" cy="100728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a modelar os desvios sintáticos mais comuns,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dores de mutação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são aplicados a um programa, transformando-o em programas similares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tante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2084760" y="3809880"/>
            <a:ext cx="5492520" cy="2865240"/>
            <a:chOff x="2084760" y="3809880"/>
            <a:chExt cx="5492520" cy="2865240"/>
          </a:xfrm>
        </p:grpSpPr>
        <p:sp>
          <p:nvSpPr>
            <p:cNvPr id="794" name=""/>
            <p:cNvSpPr/>
            <p:nvPr/>
          </p:nvSpPr>
          <p:spPr>
            <a:xfrm>
              <a:off x="5936400" y="6306840"/>
              <a:ext cx="12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utan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35560" y="3809880"/>
              <a:ext cx="685800" cy="609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16480" y="390492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141960" y="5598720"/>
              <a:ext cx="685800" cy="60984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22880" y="569412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5080" y="4552560"/>
              <a:ext cx="685800" cy="60984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78360" y="461448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86720" y="4343040"/>
              <a:ext cx="685800" cy="60984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67640" y="4438440"/>
              <a:ext cx="7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rot="16264200">
              <a:off x="6063480" y="51386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834240" y="5124240"/>
              <a:ext cx="685800" cy="609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15160" y="521964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38600" y="4343040"/>
              <a:ext cx="1600200" cy="1219320"/>
            </a:xfrm>
            <a:prstGeom prst="rightArrow">
              <a:avLst>
                <a:gd name="adj1" fmla="val 50000"/>
                <a:gd name="adj2" fmla="val 32809"/>
              </a:avLst>
            </a:prstGeom>
            <a:solidFill>
              <a:srgbClr val="ffb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64880" y="4643280"/>
              <a:ext cx="131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Operadore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de Mutaçã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67000" y="4647960"/>
              <a:ext cx="685800" cy="609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62040" y="4762440"/>
              <a:ext cx="4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84760" y="5367240"/>
              <a:ext cx="125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rogram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m Tes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778D-7C66-4FF6-8C6D-B6BE6521C40F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6CD0B43-9621-4D1B-BCEC-37B31B73271D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mplo de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43000" y="434340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tante Gerado pelo Operador OR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valid_id &amp;&amp; (length &gt;= 1) &amp;&amp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 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&lt;=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43000" y="2514600"/>
            <a:ext cx="6248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tante Gerado pelo Operador OL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valid_id 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*</a:t>
            </a:r>
            <a:r>
              <a:rPr b="1" lang="pt-B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 &gt;= 1) &amp;&amp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 &lt;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981760" y="4705200"/>
            <a:ext cx="2286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2895480"/>
            <a:ext cx="2286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F6B6-37CB-46AE-AF2D-3A5654DE7CBF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311F81-D3B6-4D19-9F1D-8DF2925560A6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ção dos operadores de mut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n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z de modelar a maior parte dos 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quena cardina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as de cu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o maior o número de operadores utilizados, maior o número de mutantes ge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39CC-6DB2-42AC-9EAC-9DDC8BE55C13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360C8D7-38B9-41E7-BA9D-5FD42EAF327E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os da Análise de Mu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- Execução do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ção do programa com os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- Execução dos Mut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ção dos mutantes com os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e mo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e v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- Análise dos Mutantes V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e equival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core de mut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são de novos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556240" y="4778280"/>
            <a:ext cx="3054240" cy="786240"/>
            <a:chOff x="5556240" y="4778280"/>
            <a:chExt cx="3054240" cy="786240"/>
          </a:xfrm>
        </p:grpSpPr>
        <p:sp>
          <p:nvSpPr>
            <p:cNvPr id="822" name=""/>
            <p:cNvSpPr/>
            <p:nvPr/>
          </p:nvSpPr>
          <p:spPr>
            <a:xfrm>
              <a:off x="6919920" y="5164200"/>
              <a:ext cx="1690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56240" y="4938480"/>
              <a:ext cx="15238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8680" bIns="58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25600"/>
                  <a:tab algn="l" pos="2851200"/>
                  <a:tab algn="l" pos="4276800"/>
                  <a:tab algn="l" pos="5702400"/>
                  <a:tab algn="l" pos="7128000"/>
                  <a:tab algn="l" pos="8553600"/>
                  <a:tab algn="l" pos="99792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ms(P,T)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35760" y="5165640"/>
              <a:ext cx="160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M(P) - EM(P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222680" y="477828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M(P,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B49D-3041-4A37-889A-3519565AE0AE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1C7B47A-9757-47C4-BB73-1621F9280322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tério Análise de Mut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as Caracter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 multi-lingua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portação de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serção e remoção de casos de teste dinamic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sos de teste podem ser habilitados ou desabili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leção dos operadores a serem uti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71 operadores: comandos, operadores, variáveis e cons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ração de relató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12C9-9640-4531-BB87-A8E9BEA0EB7D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2622E7-5DB5-42FA-BD7C-06500674050F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esenta um conjunto de programas que podem ser invocados de duas manei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grá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s fác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ante interação com o test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i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ilitam a condução de uma sessão de teste de modo program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ínio dos conceitos de mutação e dos programas que compõem as ferram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8E15-285A-410F-9ADC-D7FD315B021B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6670D27-4FF8-4DE0-827D-C91FADFAF2A7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Interface Gráfic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1676520" y="2286000"/>
          <a:ext cx="58230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58230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59FF-B982-449D-83AD-788AC1BF1254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CF6F4D6-855D-4A86-A992-FC10DE393C45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Criando uma Sessão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create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857840" cy="35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3035-83B6-4E8F-AA07-CF85BC2A0F7D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56D924-8B54-4F6D-91DC-A539DA94DE56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Gerando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unit-oper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20040" cy="447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F389-F36F-4202-8B56-3A8A3B9220B8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A49608B-AF5F-46C7-9463-AC889CDF7E89}" type="datetime5">
              <a:rPr lang="en-US"/>
              <a:t>Jul 30, 2026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1T04:09:20Z</dcterms:created>
  <dc:creator>UFMS-Campo Grande</dc:creator>
  <dc:description/>
  <dc:language>en-US</dc:language>
  <cp:lastModifiedBy>teste</cp:lastModifiedBy>
  <cp:lastPrinted>1998-04-01T14:36:28Z</cp:lastPrinted>
  <dcterms:modified xsi:type="dcterms:W3CDTF">2002-06-28T02:08:53Z</dcterms:modified>
  <cp:revision>246</cp:revision>
  <dc:subject/>
  <dc:title>Avaliação e Melhoria de Qualidade de Software</dc:title>
</cp:coreProperties>
</file>