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43881-91CE-4CF6-B8EC-5B8B76042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41760" y="5039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7B935-6700-41BC-980D-F61947B1E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2172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41760" y="5039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21720" y="5039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05DC2-D3A2-44E6-9237-C5A453CD5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5720" y="4123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70040" y="4123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41760" y="5039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905720" y="5039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70040" y="5039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8AE87-0F6A-49A9-819F-6CF9AD2FA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BAC68-29D5-4A13-8E8D-20C83C30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176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874D3-EC52-4A16-B24C-85E246DC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B653A-1200-4A62-BE21-0CC454DE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021720" y="41238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4842A-3E13-47C5-8E33-D365A123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04F81-54D9-4638-AC91-E292119C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738160" y="1380600"/>
            <a:ext cx="6404040" cy="1081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4DDCE-A828-4AB0-860D-A57B5F69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21720" y="41238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741760" y="5039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64E67-1BE1-4268-8227-307A03EB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4176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3F72-57C0-4EC6-BF48-0F5EF3CDA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2172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1720" y="5039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682C1-52D2-4E42-AD8C-B1CFFFCE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2172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741760" y="5039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C9BC6-3D16-4745-AEF0-9EBB64FB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741760" y="5039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6BEEB-065E-4EF2-80AC-31461E83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2172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741760" y="5039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21720" y="5039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05589-6281-4A80-8C0B-E33CF809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4123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070040" y="4123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741760" y="5039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905720" y="5039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070040" y="5039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0BAC2-57E7-430F-A18C-92FCC879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3D876-AE1A-4978-9A0D-7684699AB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21720" y="41238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96994-826C-4BDB-89FA-3373ECF1A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BCF27-27D8-4416-BC5B-951201D14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38160" y="1380600"/>
            <a:ext cx="6404040" cy="1081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DB7B9-3853-4D79-9F17-447ECFF6D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21720" y="41238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41760" y="5039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58A54-36AD-48E2-9EBD-489E1FC8E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2172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21720" y="5039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FEA7F-A3E9-4BCB-8F5B-4DD6CFEAA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2172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41760" y="5039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5626-683F-4F26-B6B5-98292D353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33720" y="152352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343040" y="6366960"/>
            <a:ext cx="480060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3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333300"/>
                </a:solidFill>
                <a:latin typeface="Arial"/>
              </a:rPr>
              <a:t>&lt;footer&gt;</a:t>
            </a:r>
            <a:r>
              <a:rPr b="1" lang="pt-BR" sz="1300" spc="-1" strike="noStrike">
                <a:solidFill>
                  <a:srgbClr val="333300"/>
                </a:solidFill>
                <a:latin typeface="Arial"/>
              </a:rPr>
              <a:t>ICECE'2000 - International Conference on Engineering and Computer Edu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24760" y="6334200"/>
            <a:ext cx="10764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A2C0-3419-4A4D-B058-534106D00911}" type="slidenum">
              <a:rPr b="0" lang="pt-BR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19320" y="0"/>
            <a:ext cx="7924680" cy="1447920"/>
          </a:xfrm>
          <a:prstGeom prst="rect">
            <a:avLst/>
          </a:prstGeom>
          <a:gradFill rotWithShape="0">
            <a:gsLst>
              <a:gs pos="0">
                <a:srgbClr val="b1d7d7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1219320" y="-380880"/>
            <a:ext cx="3505320" cy="7561080"/>
          </a:xfrm>
          <a:prstGeom prst="ellipse">
            <a:avLst/>
          </a:prstGeom>
          <a:gradFill rotWithShape="0">
            <a:gsLst>
              <a:gs pos="0">
                <a:srgbClr val="004747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9E09-D07D-4CF2-9286-6661585CB118}" type="datetime">
              <a:rPr b="1" lang="pt-BR" sz="3200" spc="-1" strike="noStrike">
                <a:solidFill>
                  <a:srgbClr val="333300"/>
                </a:solidFill>
                <a:latin typeface="Arial"/>
              </a:rPr>
              <a:t>31/07/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767040" y="6319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196040" y="6319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269B-0CFB-4C54-9BB2-F64335F92F93}" type="slidenum">
              <a:rPr b="0" lang="pt-BR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0"/>
            <a:ext cx="80010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10800000"/>
          </a:gra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066680" y="-304920"/>
            <a:ext cx="3504960" cy="7561440"/>
          </a:xfrm>
          <a:prstGeom prst="ellipse">
            <a:avLst/>
          </a:prstGeom>
          <a:gradFill rotWithShape="0">
            <a:gsLst>
              <a:gs pos="0">
                <a:srgbClr val="004747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st@dct.ufms.br" TargetMode="External"/><Relationship Id="rId2" Type="http://schemas.openxmlformats.org/officeDocument/2006/relationships/hyperlink" Target="mailto:mast@dct.ufms.br" TargetMode="External"/><Relationship Id="rId3" Type="http://schemas.openxmlformats.org/officeDocument/2006/relationships/hyperlink" Target="mailto:mast@dct.ufms.br" TargetMode="External"/><Relationship Id="rId4" Type="http://schemas.openxmlformats.org/officeDocument/2006/relationships/hyperlink" Target="mailto:mast@dct.ufms.br" TargetMode="External"/><Relationship Id="rId5" Type="http://schemas.openxmlformats.org/officeDocument/2006/relationships/hyperlink" Target="mailto:mast@dct.ufms.br" TargetMode="External"/><Relationship Id="rId6" Type="http://schemas.openxmlformats.org/officeDocument/2006/relationships/hyperlink" Target="mailto:mast@dct.ufms.br" TargetMode="External"/><Relationship Id="rId7" Type="http://schemas.openxmlformats.org/officeDocument/2006/relationships/hyperlink" Target="mailto:mast@dct.ufms.br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6708600" cy="23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ngenharia de Software</a:t>
            </a:r>
            <a:br>
              <a:rPr sz="44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68 horas/a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437920" y="3124080"/>
            <a:ext cx="67057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Prof. Dr. Marcelo Augusto S. Turin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403f15"/>
                </a:solidFill>
                <a:uFillTx/>
                <a:latin typeface="Arial"/>
                <a:hlinkClick r:id="rId1"/>
              </a:rPr>
              <a:t>mast</a:t>
            </a:r>
            <a:r>
              <a:rPr b="1" lang="pt-BR" sz="2400" spc="-1" strike="noStrike" u="sng">
                <a:solidFill>
                  <a:srgbClr val="403f15"/>
                </a:solidFill>
                <a:uFillTx/>
                <a:latin typeface="Arial"/>
                <a:hlinkClick r:id="rId2"/>
              </a:rPr>
              <a:t>@</a:t>
            </a:r>
            <a:r>
              <a:rPr b="1" lang="pt-BR" sz="2400" spc="-1" strike="noStrike" u="sng">
                <a:solidFill>
                  <a:srgbClr val="403f15"/>
                </a:solidFill>
                <a:uFillTx/>
                <a:latin typeface="Arial"/>
                <a:hlinkClick r:id="rId3"/>
              </a:rPr>
              <a:t>dct</a:t>
            </a:r>
            <a:r>
              <a:rPr b="1" lang="pt-BR" sz="2400" spc="-1" strike="noStrike" u="sng">
                <a:solidFill>
                  <a:srgbClr val="403f15"/>
                </a:solidFill>
                <a:uFillTx/>
                <a:latin typeface="Arial"/>
                <a:hlinkClick r:id="rId4"/>
              </a:rPr>
              <a:t>.</a:t>
            </a:r>
            <a:r>
              <a:rPr b="1" lang="pt-BR" sz="2400" spc="-1" strike="noStrike" u="sng">
                <a:solidFill>
                  <a:srgbClr val="403f15"/>
                </a:solidFill>
                <a:uFillTx/>
                <a:latin typeface="Arial"/>
                <a:hlinkClick r:id="rId5"/>
              </a:rPr>
              <a:t>ufms</a:t>
            </a:r>
            <a:r>
              <a:rPr b="1" lang="pt-BR" sz="2400" spc="-1" strike="noStrike" u="sng">
                <a:solidFill>
                  <a:srgbClr val="403f15"/>
                </a:solidFill>
                <a:uFillTx/>
                <a:latin typeface="Arial"/>
                <a:hlinkClick r:id="rId6"/>
              </a:rPr>
              <a:t>.</a:t>
            </a:r>
            <a:r>
              <a:rPr b="1" lang="pt-BR" sz="2400" spc="-1" strike="noStrike" u="sng">
                <a:solidFill>
                  <a:srgbClr val="403f15"/>
                </a:solidFill>
                <a:uFillTx/>
                <a:latin typeface="Arial"/>
                <a:hlinkClick r:id="rId7"/>
              </a:rPr>
              <a:t>b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Universidade Federal do Mato Grosso do Su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Departamento de Computação e Estatístic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Ciência da Computação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00"/>
                </a:solidFill>
                <a:latin typeface="Arial"/>
              </a:rPr>
              <a:t>2002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555120" y="0"/>
            <a:ext cx="393228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a apresentação irá envolver algum debate com a platéia, o que irá criar itens de ação.   Use o PowerPoint para registrar estes itens de ação durante sua apresentação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modo de apresentação de slides, clique no botão direito do mous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cione 'Registro de reunião'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cione a guia 'Itens de ação'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gite os itens de ação à medida que eles forem surgindo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lique em OK para desconsiderar esta caixa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sso criará automaticamente um slide do item de ação no fim da apresentação contendo os pontos que você forneceu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60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362320" y="2133720"/>
            <a:ext cx="678168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  <a:ea typeface="Arial"/>
              </a:rPr>
              <a:t>Conceitos de software e modelo de processo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  <a:ea typeface="Arial"/>
              </a:rPr>
              <a:t>Planejamento e gerência de projetos de softwa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  <a:ea typeface="Arial"/>
              </a:rPr>
              <a:t>Metodologias de Análise, Projeto e Teste de Software (Abordagem Convencional e OO)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  <a:ea typeface="Arial"/>
              </a:rPr>
              <a:t>Manutenção de Softwa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  <a:ea typeface="Arial"/>
              </a:rPr>
              <a:t>Tópicos Avançados: Métodos formais, Engenharia de Software Cleanroom, ESBC, Engenharia de Software Cliente/Servidor, Engenharia de Websites, Reengenharia e ferramentas CAS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DESENVOLVER UM PRODUTO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(PROJETO DE SOFTWARE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286000" y="1600200"/>
            <a:ext cx="6858000" cy="4717440"/>
            <a:chOff x="2286000" y="1600200"/>
            <a:chExt cx="6858000" cy="4717440"/>
          </a:xfrm>
        </p:grpSpPr>
        <p:sp>
          <p:nvSpPr>
            <p:cNvPr id="132" name=""/>
            <p:cNvSpPr/>
            <p:nvPr/>
          </p:nvSpPr>
          <p:spPr>
            <a:xfrm>
              <a:off x="2415960" y="1600200"/>
              <a:ext cx="6665400" cy="39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  <a:p>
              <a:pPr marL="285840" indent="-285840">
                <a:buClr>
                  <a:srgbClr val="ffcc99"/>
                </a:buClr>
                <a:buSzPct val="50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Fornecer conceitos sobre </a:t>
              </a:r>
              <a:r>
                <a:rPr b="0" lang="pt-BR" sz="2800" spc="-1" strike="noStrike">
                  <a:solidFill>
                    <a:srgbClr val="ffcc99"/>
                  </a:solidFill>
                  <a:latin typeface="Times New Roman"/>
                </a:rPr>
                <a:t>qualidade de produto</a:t>
              </a: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 e de </a:t>
              </a:r>
              <a:r>
                <a:rPr b="0" lang="pt-BR" sz="2800" spc="-1" strike="noStrike">
                  <a:solidFill>
                    <a:srgbClr val="ffcc99"/>
                  </a:solidFill>
                  <a:latin typeface="Times New Roman"/>
                </a:rPr>
                <a:t>qualidade de</a:t>
              </a: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 </a:t>
              </a:r>
              <a:r>
                <a:rPr b="0" lang="pt-BR" sz="2800" spc="-1" strike="noStrike">
                  <a:solidFill>
                    <a:srgbClr val="ffcc99"/>
                  </a:solidFill>
                  <a:latin typeface="Times New Roman"/>
                </a:rPr>
                <a:t>processo </a:t>
              </a: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de software, apresentando </a:t>
              </a:r>
              <a:r>
                <a:rPr b="0" lang="pt-BR" sz="2800" spc="-1" strike="noStrike">
                  <a:solidFill>
                    <a:srgbClr val="ffcc99"/>
                  </a:solidFill>
                  <a:latin typeface="Times New Roman"/>
                </a:rPr>
                <a:t>modelos</a:t>
              </a: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 e </a:t>
              </a:r>
              <a:r>
                <a:rPr b="0" lang="pt-BR" sz="2800" spc="-1" strike="noStrike">
                  <a:solidFill>
                    <a:srgbClr val="ffcc99"/>
                  </a:solidFill>
                  <a:latin typeface="Times New Roman"/>
                </a:rPr>
                <a:t>normas</a:t>
              </a: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 para </a:t>
              </a:r>
              <a:r>
                <a:rPr b="0" lang="pt-BR" sz="2800" spc="-1" strike="noStrike">
                  <a:solidFill>
                    <a:srgbClr val="ffcc99"/>
                  </a:solidFill>
                  <a:latin typeface="Times New Roman"/>
                </a:rPr>
                <a:t>avaliação</a:t>
              </a: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 e </a:t>
              </a:r>
              <a:r>
                <a:rPr b="0" lang="pt-BR" sz="2800" spc="-1" strike="noStrike">
                  <a:solidFill>
                    <a:srgbClr val="ffcc99"/>
                  </a:solidFill>
                  <a:latin typeface="Times New Roman"/>
                </a:rPr>
                <a:t>melhoria</a:t>
              </a: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 da </a:t>
              </a:r>
              <a:r>
                <a:rPr b="0" lang="pt-BR" sz="2800" spc="-1" strike="noStrike">
                  <a:solidFill>
                    <a:srgbClr val="ffcc99"/>
                  </a:solidFill>
                  <a:latin typeface="Times New Roman"/>
                </a:rPr>
                <a:t>qualidade</a:t>
              </a: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. </a:t>
              </a: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  <a:p>
              <a:pPr marL="285840" indent="-285840">
                <a:buClr>
                  <a:srgbClr val="ffcc99"/>
                </a:buClr>
                <a:buSzPct val="50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Fornecer noções sobre algumas </a:t>
              </a:r>
              <a:r>
                <a:rPr b="0" lang="pt-BR" sz="2800" spc="-1" strike="noStrike">
                  <a:solidFill>
                    <a:srgbClr val="ffcc99"/>
                  </a:solidFill>
                  <a:latin typeface="Times New Roman"/>
                </a:rPr>
                <a:t>atividades gerenciais</a:t>
              </a: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 importantes para </a:t>
              </a:r>
              <a:r>
                <a:rPr b="0" lang="pt-BR" sz="2800" spc="-1" strike="noStrike">
                  <a:solidFill>
                    <a:srgbClr val="ffcc99"/>
                  </a:solidFill>
                  <a:latin typeface="Times New Roman"/>
                </a:rPr>
                <a:t>melhoria de qualidade</a:t>
              </a: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 de software.</a:t>
              </a: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69840"/>
              <a:ext cx="6858000" cy="444780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219320" y="0"/>
            <a:ext cx="7600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Objetivos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35080" y="2444760"/>
            <a:ext cx="1587240" cy="520560"/>
          </a:xfrm>
          <a:prstGeom prst="roundRect">
            <a:avLst>
              <a:gd name="adj" fmla="val 12495"/>
            </a:avLst>
          </a:prstGeom>
          <a:solidFill>
            <a:srgbClr val="ccecff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4419720"/>
            <a:ext cx="1968480" cy="749160"/>
          </a:xfrm>
          <a:prstGeom prst="rect">
            <a:avLst/>
          </a:prstGeom>
          <a:solidFill>
            <a:srgbClr val="b3b2be"/>
          </a:solidFill>
          <a:ln w="12600">
            <a:solidFill>
              <a:srgbClr val="3333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4572000"/>
            <a:ext cx="2133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69696"/>
                </a:solidFill>
                <a:latin typeface="Times New Roman"/>
              </a:rPr>
              <a:t>ATIVIDADES  EM CLASSE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867280" y="4952880"/>
          <a:ext cx="990720" cy="12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952880"/>
                    <a:ext cx="99072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668680" y="3105000"/>
          <a:ext cx="3138480" cy="155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8680" y="3105000"/>
                    <a:ext cx="3138480" cy="15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505680" y="4419720"/>
            <a:ext cx="1305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ffcc00"/>
                </a:solidFill>
                <a:latin typeface="Times New Roman"/>
              </a:rPr>
              <a:t>PROJETOS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733920" y="1371600"/>
            <a:ext cx="2058840" cy="1071720"/>
            <a:chOff x="3733920" y="1371600"/>
            <a:chExt cx="2058840" cy="1071720"/>
          </a:xfrm>
        </p:grpSpPr>
        <p:grpSp>
          <p:nvGrpSpPr>
            <p:cNvPr id="144" name=""/>
            <p:cNvGrpSpPr/>
            <p:nvPr/>
          </p:nvGrpSpPr>
          <p:grpSpPr>
            <a:xfrm>
              <a:off x="5445000" y="1581480"/>
              <a:ext cx="333000" cy="772920"/>
              <a:chOff x="5445000" y="1581480"/>
              <a:chExt cx="333000" cy="77292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5445000" y="1822680"/>
                <a:ext cx="333000" cy="531720"/>
                <a:chOff x="5445000" y="1822680"/>
                <a:chExt cx="333000" cy="5317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5501880" y="1822680"/>
                  <a:ext cx="221760" cy="11268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445000" y="1895760"/>
                  <a:ext cx="333000" cy="4586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446080" y="1824120"/>
                  <a:ext cx="122760" cy="18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" y="10428"/>
                      </a:moveTo>
                      <a:arcTo wR="10800" hR="10800" stAng="-10681504" swAng="51933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" y="10428"/>
                      </a:moveTo>
                      <a:arcTo wR="10800" hR="10800" stAng="-10681504" swAng="5193376"/>
                    </a:path>
                  </a:pathLst>
                </a:cu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652720" y="1825920"/>
                  <a:ext cx="1231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23" y="4"/>
                      </a:moveTo>
                      <a:arcTo wR="10800" hR="10800" stAng="-5488128" swAng="54273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23" y="4"/>
                      </a:moveTo>
                      <a:arcTo wR="10800" hR="10800" stAng="-5488128" swAng="5427303"/>
                    </a:path>
                  </a:pathLst>
                </a:cu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5519160" y="1581480"/>
                <a:ext cx="180720" cy="22032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105160" y="1371600"/>
              <a:ext cx="333000" cy="771840"/>
              <a:chOff x="5105160" y="1371600"/>
              <a:chExt cx="333000" cy="77184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5105160" y="1611360"/>
                <a:ext cx="333000" cy="532080"/>
                <a:chOff x="5105160" y="1611360"/>
                <a:chExt cx="333000" cy="5320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162040" y="1611360"/>
                  <a:ext cx="221760" cy="114480"/>
                </a:xfrm>
                <a:prstGeom prst="rect">
                  <a:avLst/>
                </a:prstGeom>
                <a:solidFill>
                  <a:srgbClr val="00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105160" y="1686240"/>
                  <a:ext cx="333000" cy="457200"/>
                </a:xfrm>
                <a:prstGeom prst="rect">
                  <a:avLst/>
                </a:prstGeom>
                <a:solidFill>
                  <a:srgbClr val="00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108040" y="1613160"/>
                  <a:ext cx="11988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" y="10616"/>
                      </a:moveTo>
                      <a:arcTo wR="10800" hR="10800" stAng="-10741494" swAng="525222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" y="10616"/>
                      </a:moveTo>
                      <a:arcTo wR="10800" hR="10800" stAng="-10741494" swAng="5252222"/>
                    </a:path>
                  </a:pathLst>
                </a:custGeom>
                <a:solidFill>
                  <a:srgbClr val="00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315040" y="1613160"/>
                  <a:ext cx="122400" cy="18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23" y="4"/>
                      </a:moveTo>
                      <a:arcTo wR="10800" hR="10800" stAng="-5488128" swAng="548812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23" y="4"/>
                      </a:moveTo>
                      <a:arcTo wR="10800" hR="10800" stAng="-5488128" swAng="5488128"/>
                    </a:path>
                  </a:pathLst>
                </a:custGeom>
                <a:solidFill>
                  <a:srgbClr val="00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5179680" y="1371600"/>
                <a:ext cx="180360" cy="220680"/>
              </a:xfrm>
              <a:prstGeom prst="ellipse">
                <a:avLst/>
              </a:prstGeom>
              <a:solidFill>
                <a:srgbClr val="00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109760" y="1371600"/>
              <a:ext cx="333000" cy="771840"/>
              <a:chOff x="4109760" y="1371600"/>
              <a:chExt cx="333000" cy="77184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4109760" y="1611360"/>
                <a:ext cx="333000" cy="532080"/>
                <a:chOff x="4109760" y="1611360"/>
                <a:chExt cx="333000" cy="5320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166640" y="1611360"/>
                  <a:ext cx="222120" cy="11448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109760" y="1686240"/>
                  <a:ext cx="333000" cy="45720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112640" y="1613160"/>
                  <a:ext cx="11988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" y="10616"/>
                      </a:moveTo>
                      <a:arcTo wR="10800" hR="10800" stAng="-10741494" swAng="525222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" y="10616"/>
                      </a:moveTo>
                      <a:arcTo wR="10800" hR="10800" stAng="-10741494" swAng="5252222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318200" y="1613160"/>
                  <a:ext cx="122400" cy="18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4184280" y="1371600"/>
                <a:ext cx="180360" cy="22068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3759120" y="1581480"/>
              <a:ext cx="331560" cy="772920"/>
              <a:chOff x="3759120" y="1581480"/>
              <a:chExt cx="331560" cy="772920"/>
            </a:xfrm>
          </p:grpSpPr>
          <p:sp>
            <p:nvSpPr>
              <p:cNvPr id="166" name=""/>
              <p:cNvSpPr/>
              <p:nvPr/>
            </p:nvSpPr>
            <p:spPr>
              <a:xfrm>
                <a:off x="3833280" y="1581480"/>
                <a:ext cx="180720" cy="220320"/>
              </a:xfrm>
              <a:prstGeom prst="ellipse">
                <a:avLst/>
              </a:prstGeom>
              <a:solidFill>
                <a:srgbClr val="99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3759120" y="1822680"/>
                <a:ext cx="331560" cy="531720"/>
                <a:chOff x="3759120" y="1822680"/>
                <a:chExt cx="33156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814200" y="1822680"/>
                  <a:ext cx="223560" cy="112680"/>
                </a:xfrm>
                <a:prstGeom prst="rect">
                  <a:avLst/>
                </a:prstGeom>
                <a:solidFill>
                  <a:srgbClr val="99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759120" y="1895760"/>
                  <a:ext cx="331560" cy="458640"/>
                </a:xfrm>
                <a:prstGeom prst="rect">
                  <a:avLst/>
                </a:prstGeom>
                <a:solidFill>
                  <a:srgbClr val="99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760200" y="1824120"/>
                  <a:ext cx="119880" cy="18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" y="10428"/>
                      </a:moveTo>
                      <a:arcTo wR="10800" hR="10800" stAng="-10681504" swAng="51910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" y="10428"/>
                      </a:moveTo>
                      <a:arcTo wR="10800" hR="10800" stAng="-10681504" swAng="5191058"/>
                    </a:path>
                  </a:pathLst>
                </a:custGeom>
                <a:solidFill>
                  <a:srgbClr val="99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967200" y="1825920"/>
                  <a:ext cx="12276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3917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39175"/>
                    </a:path>
                  </a:pathLst>
                </a:custGeom>
                <a:solidFill>
                  <a:srgbClr val="99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3733920" y="1594080"/>
              <a:ext cx="2058840" cy="760320"/>
            </a:xfrm>
            <a:custGeom>
              <a:avLst/>
              <a:gdLst/>
              <a:ahLst/>
              <a:rect l="l" t="t" r="r" b="b"/>
              <a:pathLst>
                <a:path w="1297" h="479">
                  <a:moveTo>
                    <a:pt x="0" y="478"/>
                  </a:moveTo>
                  <a:lnTo>
                    <a:pt x="461" y="0"/>
                  </a:lnTo>
                  <a:lnTo>
                    <a:pt x="814" y="0"/>
                  </a:lnTo>
                  <a:lnTo>
                    <a:pt x="1296" y="478"/>
                  </a:lnTo>
                  <a:lnTo>
                    <a:pt x="0" y="47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751280" y="1656000"/>
              <a:ext cx="410760" cy="787320"/>
              <a:chOff x="4751280" y="1656000"/>
              <a:chExt cx="410760" cy="787320"/>
            </a:xfrm>
          </p:grpSpPr>
          <p:sp>
            <p:nvSpPr>
              <p:cNvPr id="174" name=""/>
              <p:cNvSpPr/>
              <p:nvPr/>
            </p:nvSpPr>
            <p:spPr>
              <a:xfrm>
                <a:off x="4844520" y="1656000"/>
                <a:ext cx="220320" cy="26820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4751280" y="1946520"/>
                <a:ext cx="410760" cy="496800"/>
                <a:chOff x="4751280" y="1946520"/>
                <a:chExt cx="410760" cy="4968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820760" y="1946520"/>
                  <a:ext cx="269640" cy="137880"/>
                </a:xfrm>
                <a:prstGeom prst="rect">
                  <a:avLst/>
                </a:prstGeom>
                <a:solidFill>
                  <a:srgbClr val="fe9b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751280" y="2038680"/>
                  <a:ext cx="410760" cy="404640"/>
                </a:xfrm>
                <a:prstGeom prst="rect">
                  <a:avLst/>
                </a:prstGeom>
                <a:solidFill>
                  <a:srgbClr val="fe9b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751280" y="1947960"/>
                  <a:ext cx="151560" cy="22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2763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27637"/>
                    </a:path>
                  </a:pathLst>
                </a:custGeom>
                <a:solidFill>
                  <a:srgbClr val="fe9b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011560" y="1951200"/>
                  <a:ext cx="148320" cy="22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74" y="2"/>
                      </a:moveTo>
                      <a:arcTo wR="10800" hR="10800" stAng="-5471846" swAng="54718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74" y="2"/>
                      </a:moveTo>
                      <a:arcTo wR="10800" hR="10800" stAng="-5471846" swAng="5471846"/>
                    </a:path>
                  </a:pathLst>
                </a:custGeom>
                <a:solidFill>
                  <a:srgbClr val="fe9b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" name=""/>
            <p:cNvGrpSpPr/>
            <p:nvPr/>
          </p:nvGrpSpPr>
          <p:grpSpPr>
            <a:xfrm>
              <a:off x="4322520" y="1648080"/>
              <a:ext cx="411840" cy="787320"/>
              <a:chOff x="4322520" y="1648080"/>
              <a:chExt cx="411840" cy="787320"/>
            </a:xfrm>
          </p:grpSpPr>
          <p:sp>
            <p:nvSpPr>
              <p:cNvPr id="181" name=""/>
              <p:cNvSpPr/>
              <p:nvPr/>
            </p:nvSpPr>
            <p:spPr>
              <a:xfrm>
                <a:off x="4416120" y="1648080"/>
                <a:ext cx="219960" cy="268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4322520" y="1938600"/>
                <a:ext cx="411840" cy="496800"/>
                <a:chOff x="4322520" y="1938600"/>
                <a:chExt cx="411840" cy="4968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392000" y="1938600"/>
                  <a:ext cx="269640" cy="137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322520" y="2032200"/>
                  <a:ext cx="410760" cy="403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322520" y="1941840"/>
                  <a:ext cx="151560" cy="21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281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28154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586040" y="1940040"/>
                  <a:ext cx="148320" cy="22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74" y="2"/>
                      </a:moveTo>
                      <a:arcTo wR="10800" hR="10800" stAng="-5471846" swAng="54718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74" y="2"/>
                      </a:moveTo>
                      <a:arcTo wR="10800" hR="10800" stAng="-5471846" swAng="5471846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7" name=""/>
          <p:cNvSpPr/>
          <p:nvPr/>
        </p:nvSpPr>
        <p:spPr>
          <a:xfrm>
            <a:off x="5257800" y="2133720"/>
            <a:ext cx="1905120" cy="609480"/>
          </a:xfrm>
          <a:prstGeom prst="roundRect">
            <a:avLst>
              <a:gd name="adj" fmla="val 12495"/>
            </a:avLst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2214720"/>
            <a:ext cx="198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Times New Roman"/>
              </a:rPr>
              <a:t>PARTICIPAÇÃO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1447920"/>
            <a:ext cx="1548000" cy="1307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631880" y="1535040"/>
            <a:ext cx="1299960" cy="1425240"/>
            <a:chOff x="1631880" y="1535040"/>
            <a:chExt cx="1299960" cy="1425240"/>
          </a:xfrm>
        </p:grpSpPr>
        <p:grpSp>
          <p:nvGrpSpPr>
            <p:cNvPr id="191" name=""/>
            <p:cNvGrpSpPr/>
            <p:nvPr/>
          </p:nvGrpSpPr>
          <p:grpSpPr>
            <a:xfrm>
              <a:off x="1631880" y="1535040"/>
              <a:ext cx="1299960" cy="1425240"/>
              <a:chOff x="1631880" y="1535040"/>
              <a:chExt cx="1299960" cy="1425240"/>
            </a:xfrm>
          </p:grpSpPr>
          <p:sp>
            <p:nvSpPr>
              <p:cNvPr id="192" name=""/>
              <p:cNvSpPr/>
              <p:nvPr/>
            </p:nvSpPr>
            <p:spPr>
              <a:xfrm flipH="1" flipV="1">
                <a:off x="1631880" y="1535040"/>
                <a:ext cx="355680" cy="49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1863720" y="1603080"/>
                <a:ext cx="1068120" cy="1357200"/>
                <a:chOff x="1863720" y="1603080"/>
                <a:chExt cx="1068120" cy="13572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066760" y="2204640"/>
                  <a:ext cx="133560" cy="11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346120" y="1603080"/>
                  <a:ext cx="309600" cy="308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863720" y="1898280"/>
                  <a:ext cx="1047600" cy="1062000"/>
                </a:xfrm>
                <a:custGeom>
                  <a:avLst/>
                  <a:gdLst/>
                  <a:ahLst/>
                  <a:rect l="l" t="t" r="r" b="b"/>
                  <a:pathLst>
                    <a:path w="660" h="669">
                      <a:moveTo>
                        <a:pt x="465" y="25"/>
                      </a:moveTo>
                      <a:lnTo>
                        <a:pt x="503" y="25"/>
                      </a:lnTo>
                      <a:lnTo>
                        <a:pt x="554" y="53"/>
                      </a:lnTo>
                      <a:lnTo>
                        <a:pt x="659" y="208"/>
                      </a:lnTo>
                      <a:lnTo>
                        <a:pt x="656" y="277"/>
                      </a:lnTo>
                      <a:lnTo>
                        <a:pt x="584" y="330"/>
                      </a:lnTo>
                      <a:lnTo>
                        <a:pt x="525" y="370"/>
                      </a:lnTo>
                      <a:lnTo>
                        <a:pt x="451" y="282"/>
                      </a:lnTo>
                      <a:lnTo>
                        <a:pt x="480" y="257"/>
                      </a:lnTo>
                      <a:lnTo>
                        <a:pt x="503" y="239"/>
                      </a:lnTo>
                      <a:lnTo>
                        <a:pt x="454" y="161"/>
                      </a:lnTo>
                      <a:lnTo>
                        <a:pt x="311" y="257"/>
                      </a:lnTo>
                      <a:lnTo>
                        <a:pt x="450" y="446"/>
                      </a:lnTo>
                      <a:lnTo>
                        <a:pt x="567" y="359"/>
                      </a:lnTo>
                      <a:lnTo>
                        <a:pt x="566" y="668"/>
                      </a:lnTo>
                      <a:lnTo>
                        <a:pt x="268" y="668"/>
                      </a:lnTo>
                      <a:lnTo>
                        <a:pt x="267" y="205"/>
                      </a:lnTo>
                      <a:lnTo>
                        <a:pt x="199" y="249"/>
                      </a:lnTo>
                      <a:lnTo>
                        <a:pt x="138" y="249"/>
                      </a:lnTo>
                      <a:lnTo>
                        <a:pt x="132" y="241"/>
                      </a:lnTo>
                      <a:lnTo>
                        <a:pt x="87" y="178"/>
                      </a:lnTo>
                      <a:lnTo>
                        <a:pt x="0" y="67"/>
                      </a:lnTo>
                      <a:lnTo>
                        <a:pt x="98" y="0"/>
                      </a:lnTo>
                      <a:lnTo>
                        <a:pt x="160" y="83"/>
                      </a:lnTo>
                      <a:lnTo>
                        <a:pt x="177" y="100"/>
                      </a:lnTo>
                      <a:lnTo>
                        <a:pt x="301" y="25"/>
                      </a:lnTo>
                      <a:lnTo>
                        <a:pt x="352" y="25"/>
                      </a:lnTo>
                      <a:lnTo>
                        <a:pt x="465" y="25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805120" y="2207880"/>
                  <a:ext cx="126720" cy="146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427120" y="1871640"/>
                  <a:ext cx="180720" cy="138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7" y="10557"/>
                      </a:moveTo>
                      <a:arcTo wR="10800" hR="10800" stAng="-77239" swAng="109544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7" y="10557"/>
                      </a:moveTo>
                      <a:arcTo wR="10800" hR="10800" stAng="-77239" swAng="10954479"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"/>
            <p:cNvSpPr/>
            <p:nvPr/>
          </p:nvSpPr>
          <p:spPr>
            <a:xfrm>
              <a:off x="2574000" y="1939680"/>
              <a:ext cx="176760" cy="13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18" y="3311"/>
                  </a:moveTo>
                  <a:arcTo wR="10800" hR="10800" stAng="-8166028" swAng="106856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018" y="3311"/>
                  </a:moveTo>
                  <a:arcTo wR="10800" hR="10800" stAng="-8166028" swAng="10685682"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28600" y="2514600"/>
            <a:ext cx="167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69696"/>
                </a:solidFill>
                <a:latin typeface="Times New Roman"/>
              </a:rPr>
              <a:t>SEMINÁRIO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90720" y="3962520"/>
            <a:ext cx="1139400" cy="1520640"/>
            <a:chOff x="990720" y="3962520"/>
            <a:chExt cx="1139400" cy="1520640"/>
          </a:xfrm>
        </p:grpSpPr>
        <p:grpSp>
          <p:nvGrpSpPr>
            <p:cNvPr id="202" name=""/>
            <p:cNvGrpSpPr/>
            <p:nvPr/>
          </p:nvGrpSpPr>
          <p:grpSpPr>
            <a:xfrm>
              <a:off x="990720" y="4079160"/>
              <a:ext cx="1139400" cy="1404000"/>
              <a:chOff x="990720" y="4079160"/>
              <a:chExt cx="1139400" cy="1404000"/>
            </a:xfrm>
          </p:grpSpPr>
          <p:sp>
            <p:nvSpPr>
              <p:cNvPr id="203" name=""/>
              <p:cNvSpPr/>
              <p:nvPr/>
            </p:nvSpPr>
            <p:spPr>
              <a:xfrm>
                <a:off x="1353960" y="4157640"/>
                <a:ext cx="446040" cy="30636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990720" y="4079160"/>
                <a:ext cx="513720" cy="49140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475280" y="4486680"/>
                <a:ext cx="268200" cy="46116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599120" y="4499280"/>
                <a:ext cx="410040" cy="35424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31160" y="4900680"/>
                <a:ext cx="498960" cy="5724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317960" y="4899600"/>
                <a:ext cx="335880" cy="58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677240" y="3962520"/>
              <a:ext cx="205560" cy="171720"/>
              <a:chOff x="1677240" y="3962520"/>
              <a:chExt cx="205560" cy="171720"/>
            </a:xfrm>
          </p:grpSpPr>
          <p:sp>
            <p:nvSpPr>
              <p:cNvPr id="210" name=""/>
              <p:cNvSpPr/>
              <p:nvPr/>
            </p:nvSpPr>
            <p:spPr>
              <a:xfrm>
                <a:off x="1716840" y="3962520"/>
                <a:ext cx="165960" cy="11952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77240" y="4101840"/>
                <a:ext cx="51480" cy="324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228600" y="5410080"/>
            <a:ext cx="3048120" cy="520920"/>
          </a:xfrm>
          <a:prstGeom prst="roundRect">
            <a:avLst>
              <a:gd name="adj" fmla="val 12495"/>
            </a:avLst>
          </a:prstGeom>
          <a:solidFill>
            <a:srgbClr val="ccecff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69696"/>
                </a:solidFill>
                <a:latin typeface="Book Antiqua"/>
              </a:rPr>
              <a:t>AVALIAÇÃO INDIVIDUAL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19320" y="0"/>
            <a:ext cx="7600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Avaliação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601812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??/??/??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??/??/??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19600" y="6248520"/>
            <a:ext cx="42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MF = 0,6*MAval + 0,4*MTrabalho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7954920" y="2057400"/>
          <a:ext cx="118908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4920" y="2057400"/>
                    <a:ext cx="118908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2362320" y="1600200"/>
            <a:ext cx="678168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buClr>
                <a:srgbClr val="cc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cc9900"/>
                </a:solidFill>
                <a:latin typeface="Times New Roman"/>
              </a:rPr>
              <a:t>Quinta feira – Manhã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cc9900"/>
                </a:solidFill>
                <a:latin typeface="Times New Roman"/>
              </a:rPr>
              <a:t>07:00 às 09:00h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cc9900"/>
                </a:solidFill>
                <a:latin typeface="Times New Roman"/>
              </a:rPr>
              <a:t>Sexta feira – Matutin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cc9900"/>
                </a:solidFill>
                <a:latin typeface="Times New Roman"/>
              </a:rPr>
              <a:t>09:00 às 11:00h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cc9900"/>
                </a:solidFill>
                <a:latin typeface="Times New Roman"/>
              </a:rPr>
              <a:t>Atendimento a Aluno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cc9900"/>
                </a:solidFill>
                <a:latin typeface="Times New Roman"/>
              </a:rPr>
              <a:t>Distância - E-mail e Site de Gestã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cc9900"/>
                </a:solidFill>
                <a:latin typeface="Times New Roman"/>
              </a:rPr>
              <a:t>Presencial – Sexta feira das 14:00 às 16:00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0"/>
            <a:ext cx="7600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Logística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739600" y="533520"/>
            <a:ext cx="6404040" cy="23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dministrar bem um negócio é administrar seu futuro, e administrar o futuro é administrar as inform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388584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Informações para tomada de decisões ..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00"/>
                </a:solidFill>
                <a:latin typeface="Arial"/>
              </a:rPr>
              <a:t>Executive Information System (EIS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00"/>
                </a:solidFill>
                <a:latin typeface="Arial"/>
              </a:rPr>
              <a:t>é uma ferramenta de consulta a base de dados para a apresentação de informações de forma simples e amigável, atendendo às necessidades dos executivos de alto ní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28164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ducar o Educador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Só vale a pena ser educador dentro de um contexto comunicacional participativo, interativo, vivencial. Não vale a pena ensinar dentro de estruturas autoritárias e ensinar de forma autoritária”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00"/>
                </a:solidFill>
                <a:latin typeface="Arial"/>
              </a:rPr>
              <a:t>José Manuel Moran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00"/>
                </a:solidFill>
                <a:latin typeface="Arial"/>
              </a:rPr>
              <a:t>ECA-USP, SP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33720" y="152352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Quando um Software é bem sucedido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Possui as necessidades das pessoas que o usam (</a:t>
            </a:r>
            <a:r>
              <a:rPr b="0" i="1" lang="pt-BR" sz="2400" spc="-1" strike="noStrike">
                <a:solidFill>
                  <a:srgbClr val="333300"/>
                </a:solidFill>
                <a:latin typeface="Arial"/>
              </a:rPr>
              <a:t>who use it</a:t>
            </a: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Executa perfeitamente em um longo período de tempo (</a:t>
            </a:r>
            <a:r>
              <a:rPr b="0" i="1" lang="pt-BR" sz="2400" spc="-1" strike="noStrike">
                <a:solidFill>
                  <a:srgbClr val="333300"/>
                </a:solidFill>
                <a:latin typeface="Arial"/>
              </a:rPr>
              <a:t>long period of time</a:t>
            </a: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Fácil de modificar e utiliza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PODE E MUDA COISAS PARA MELHOR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Quando um Software falha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Usuários estão insatisfeito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Erros ocorre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Difícil de modificar e utiliza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COISAS RUIM PODEM E ACONTECE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33720" y="152352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Quando um Software é bem sucedido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Possui as necessidades das pessoas que o usam (</a:t>
            </a:r>
            <a:r>
              <a:rPr b="0" i="1" lang="pt-BR" sz="2400" spc="-1" strike="noStrike">
                <a:solidFill>
                  <a:srgbClr val="333300"/>
                </a:solidFill>
                <a:latin typeface="Arial"/>
              </a:rPr>
              <a:t>who use it</a:t>
            </a: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Executa perfeitamente em um longo período de tempo (</a:t>
            </a:r>
            <a:r>
              <a:rPr b="0" i="1" lang="pt-BR" sz="2400" spc="-1" strike="noStrike">
                <a:solidFill>
                  <a:srgbClr val="333300"/>
                </a:solidFill>
                <a:latin typeface="Arial"/>
              </a:rPr>
              <a:t>long period of time</a:t>
            </a: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Fácil de modificar e utiliza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PODE E MUDA COISAS PARA MELHOR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Quando um Software falha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Usuários estão insatisfeito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Erros ocorre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Difícil de modificar e utiliza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COISAS RUIM PODEM E ACONTECE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3048120"/>
            <a:ext cx="5638680" cy="1556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00"/>
                </a:solidFill>
                <a:latin typeface="Times New Roman"/>
              </a:rPr>
              <a:t>Necessário DISCIPLINA quando o software é projetado e desenvolvido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4648320"/>
            <a:ext cx="5638680" cy="1556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00"/>
                </a:solidFill>
                <a:latin typeface="Times New Roman"/>
              </a:rPr>
              <a:t>Utilização de uma ABORDAGEM DE ENGENHARIA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ngenharia de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720" y="152352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Indústria de Softw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Modelos de Processo de Softwa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Métodos de Engenharia de Softwa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Ferramentas de Softwa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00"/>
                </a:solidFill>
                <a:latin typeface="Arial"/>
              </a:rPr>
              <a:t>Pressman 5a Edição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32 Capítulos - 5 Part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V="1">
            <a:off x="4800600" y="5333760"/>
            <a:ext cx="1981080" cy="75960"/>
          </a:xfrm>
          <a:prstGeom prst="line">
            <a:avLst/>
          </a:prstGeom>
          <a:ln cap="sq"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3657600"/>
            <a:ext cx="380880" cy="838080"/>
          </a:xfrm>
          <a:prstGeom prst="line">
            <a:avLst/>
          </a:prstGeom>
          <a:ln cap="sq"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486400" y="2666880"/>
            <a:ext cx="914400" cy="990720"/>
          </a:xfrm>
          <a:prstGeom prst="line">
            <a:avLst/>
          </a:prstGeom>
          <a:ln cap="sq"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819520"/>
            <a:ext cx="457200" cy="609480"/>
          </a:xfrm>
          <a:prstGeom prst="line">
            <a:avLst/>
          </a:prstGeom>
          <a:ln cap="sq"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Programa do Cur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743200" cy="19814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Parte IV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Engenharia de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Orientada a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Objeto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3200400"/>
            <a:ext cx="2666880" cy="14479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Parte II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Gerenciamento de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Projetos de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1600200"/>
            <a:ext cx="3048120" cy="213372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Parte III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Métodos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Convencionais para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Engenharia de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952880"/>
            <a:ext cx="3200400" cy="160020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Parte V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Tópicos Avançados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em Engenharia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de Softwar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1600200"/>
            <a:ext cx="2895480" cy="12193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Parte I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O Produto e o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Process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ngenharia de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720" y="152352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Parte I – O Produto e o Processo:  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apresenta uma introdução ao ambiente de engenharia de software e tópicos relevantes para os próximos capítulos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Parte II – Gerenciamento de Projetos de Software:  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conceitos para quem deseja planejar, gerenciar e controlar o projeto de desenvolvimento do software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Parte III – Métodos convencionais de Engenharia de Software:  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métodos de análise, projeto e teste de software na engenharia convencional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Parte IV – Engenharia de Software Orientada a Objeto: 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métodos de análise, projeto e teste de software OO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Parte V – Tópicos Avançados em Engenharia de Software:  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apresenta métodos formais, engenharia de software </a:t>
            </a:r>
            <a:r>
              <a:rPr b="0" i="1" lang="pt-BR" sz="1600" spc="-1" strike="noStrike">
                <a:solidFill>
                  <a:srgbClr val="333300"/>
                </a:solidFill>
                <a:latin typeface="Arial"/>
              </a:rPr>
              <a:t>cleanroom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, ESBC, engenharia de software Cliente/Servidor, Engenharia de Websites, Reengenharia, CASE, Qualidade de Software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418000" y="4121280"/>
            <a:ext cx="1282680" cy="444240"/>
          </a:xfrm>
          <a:prstGeom prst="leftArrow">
            <a:avLst>
              <a:gd name="adj1" fmla="val 50000"/>
              <a:gd name="adj2" fmla="val 144354"/>
            </a:avLst>
          </a:prstGeom>
          <a:solidFill>
            <a:srgbClr val="969696"/>
          </a:solidFill>
          <a:ln w="12600">
            <a:solidFill>
              <a:srgbClr val="333300"/>
            </a:solidFill>
            <a:miter/>
          </a:ln>
          <a:effectLst>
            <a:outerShdw dist="7178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80320" y="4121280"/>
            <a:ext cx="1282680" cy="444240"/>
          </a:xfrm>
          <a:prstGeom prst="leftArrow">
            <a:avLst>
              <a:gd name="adj1" fmla="val 50000"/>
              <a:gd name="adj2" fmla="val 144354"/>
            </a:avLst>
          </a:prstGeom>
          <a:solidFill>
            <a:srgbClr val="969696"/>
          </a:solidFill>
          <a:ln w="12600">
            <a:solidFill>
              <a:srgbClr val="333300"/>
            </a:solidFill>
            <a:miter/>
          </a:ln>
          <a:effectLst>
            <a:outerShdw dist="7178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8880" y="2368440"/>
            <a:ext cx="1282680" cy="444600"/>
          </a:xfrm>
          <a:prstGeom prst="leftArrow">
            <a:avLst>
              <a:gd name="adj1" fmla="val 50000"/>
              <a:gd name="adj2" fmla="val 144238"/>
            </a:avLst>
          </a:prstGeom>
          <a:solidFill>
            <a:srgbClr val="969696"/>
          </a:solidFill>
          <a:ln w="12600">
            <a:solidFill>
              <a:srgbClr val="333300"/>
            </a:solidFill>
            <a:miter/>
          </a:ln>
          <a:effectLst>
            <a:outerShdw dist="7178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40240" y="2292480"/>
            <a:ext cx="1282680" cy="444240"/>
          </a:xfrm>
          <a:prstGeom prst="leftArrow">
            <a:avLst>
              <a:gd name="adj1" fmla="val 50000"/>
              <a:gd name="adj2" fmla="val 144354"/>
            </a:avLst>
          </a:prstGeom>
          <a:solidFill>
            <a:srgbClr val="969696"/>
          </a:solidFill>
          <a:ln w="12600">
            <a:solidFill>
              <a:srgbClr val="333300"/>
            </a:solidFill>
            <a:miter/>
          </a:ln>
          <a:effectLst>
            <a:outerShdw dist="7178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12920" y="4721400"/>
            <a:ext cx="3046680" cy="10072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69696"/>
                </a:solidFill>
                <a:latin typeface="Times New Roman"/>
              </a:rPr>
              <a:t>Entendimento         Modificação             Revalidação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38480" y="2832120"/>
            <a:ext cx="2944800" cy="1007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69696"/>
                </a:solidFill>
                <a:latin typeface="Times New Roman"/>
              </a:rPr>
              <a:t>Projeto               Codificação                Test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27240" y="1525680"/>
            <a:ext cx="3056040" cy="70236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69696"/>
                </a:solidFill>
                <a:latin typeface="Times New Roman"/>
              </a:rPr>
              <a:t>Análise de Sistema Análise de Requisito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7520" y="1494000"/>
            <a:ext cx="2903400" cy="108396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100000">
                <a:srgbClr val="e4885b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2520" y="1719360"/>
            <a:ext cx="264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DEFINIÇÃ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054240"/>
            <a:ext cx="3429000" cy="12826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b16a6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3429000"/>
            <a:ext cx="335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DESENVOLVIMENT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69880" y="2597040"/>
            <a:ext cx="709920" cy="444600"/>
          </a:xfrm>
          <a:prstGeom prst="down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ff9966"/>
              </a:gs>
              <a:gs pos="100000">
                <a:srgbClr val="cb795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4794120"/>
            <a:ext cx="2903400" cy="121608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b16a8d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2800" y="5219640"/>
            <a:ext cx="26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MANUTENÇÃ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7440" y="4349880"/>
            <a:ext cx="701640" cy="425160"/>
          </a:xfrm>
          <a:prstGeom prst="down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ff9999"/>
              </a:gs>
              <a:gs pos="100000">
                <a:srgbClr val="b16a6a"/>
              </a:gs>
            </a:gsLst>
            <a:lin ang="5400000"/>
          </a:gradFill>
          <a:ln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1600200"/>
            <a:ext cx="2425680" cy="48628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69696"/>
                </a:solidFill>
                <a:latin typeface="Times New Roman"/>
              </a:rPr>
              <a:t>Atividades de Apoio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190440" indent="-1904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969696"/>
                </a:solidFill>
                <a:latin typeface="Times New Roman"/>
              </a:rPr>
              <a:t>Planejamento e Acompanhamento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969696"/>
                </a:solidFill>
                <a:latin typeface="Times New Roman"/>
              </a:rPr>
              <a:t>Gerenciamento de Configuração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969696"/>
                </a:solidFill>
                <a:latin typeface="Times New Roman"/>
              </a:rPr>
              <a:t>Garantia de Qualidade de Softwar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969696"/>
                </a:solidFill>
                <a:latin typeface="Times New Roman"/>
              </a:rPr>
              <a:t>Reengenharia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969696"/>
                </a:solidFill>
                <a:latin typeface="Times New Roman"/>
              </a:rPr>
              <a:t>Método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190440" indent="-1904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0"/>
            <a:ext cx="75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Processo de Desenvolvimento de Software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ustos" descr=""/>
          <p:cNvPicPr/>
          <p:nvPr/>
        </p:nvPicPr>
        <p:blipFill>
          <a:blip r:embed="rId1"/>
          <a:stretch/>
        </p:blipFill>
        <p:spPr>
          <a:xfrm>
            <a:off x="0" y="812880"/>
            <a:ext cx="8915400" cy="6045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95280" y="0"/>
            <a:ext cx="75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Processo de Desenvolvimento de Software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6:35:39Z</dcterms:created>
  <dc:creator>Marcelo Turine</dc:creator>
  <dc:description/>
  <dc:language>en-US</dc:language>
  <cp:lastModifiedBy>Marcelo Turine</cp:lastModifiedBy>
  <cp:lastPrinted>2001-03-09T17:28:42Z</cp:lastPrinted>
  <dcterms:modified xsi:type="dcterms:W3CDTF">2002-04-05T01:28:45Z</dcterms:modified>
  <cp:revision>87</cp:revision>
  <dc:subject/>
  <dc:title>Status do projeto</dc:title>
</cp:coreProperties>
</file>