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C6E1-5FAA-412C-903C-93E88CD3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CAB-B4FF-4DDD-8335-57CDBE81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A60-6969-4164-8C7F-B670265E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35A-A28A-428A-8B00-2E2564B4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AEC3-B2FC-4E19-8E17-085760D2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CD54-3593-486C-B5E0-E4A30B56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8B96-7029-44B9-9E12-44AE5987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A717-5535-41DF-93FB-B1633858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F5BE-2D90-44BB-A7D3-BF83FEFB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17EB-0ABD-4D35-93EF-7F1CC1AD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7676-FBB2-4939-A11A-D8A5A0F8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7CB-3247-4F37-82E2-CB9C28D5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265D-BDF9-48BF-8001-7D9FAD4D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F3B0-90A0-4CDA-9D06-A42359D0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515C-6BC3-4D1E-99E5-55513DF6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CA8E-052A-48DA-B1D4-27FE1306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F1D6-54CD-44A5-997D-B4D8D77D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6B24-6FC5-4D71-87BB-6380D568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0B95-506C-49E6-9CBC-DAB4A8D3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186-6B4F-48F1-8336-AC656561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94E-C6F0-46AF-8554-B603A3CC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B98-D18A-42DA-B32E-0E2A44E9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EE2-6A7C-4005-BC5E-249FD959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58C-A0B0-42F2-BA51-810A5DE4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73F2-05D9-484C-B4CD-ED0A974539C6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37F7-7FCF-492C-A9D3-ECC618C0D912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Marc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194328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224784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2247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369576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3467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5676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rite(m,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62080" y="15429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92420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22876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2228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6766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6080" y="3448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56577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= m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620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98108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2860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,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25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2286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5715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= s+m*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7339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62080" y="1581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92420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222876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,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25,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228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36766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448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56577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rite(m,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41338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390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,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620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96200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226692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, 6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25,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226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37148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3486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56959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= m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1720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39434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,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62080" y="1562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190512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220968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, 6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25,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2209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36576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638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4114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,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62080" y="150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arte superior do retângulo contem o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valores dos parâmetros e das variáveis loca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valores sucessiv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ra cada parâmetro ou variável é 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sultado da execução de comand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 atribuição e de E/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um procedimen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hamado dentro de outro procedimento 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ntão o registro de ativação d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rá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caixad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registro d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7958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exemplo2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, i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oma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div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2)*2 = 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:= 0; i:= 0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do beg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oma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); i:= i+1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7280" y="1566720"/>
            <a:ext cx="281916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3720" y="1052640"/>
            <a:ext cx="4343400" cy="487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ondo que os valores lidos par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ja 2, temos o diagrama de execução a segu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"/>
          <p:cNvSpPr/>
          <p:nvPr/>
        </p:nvSpPr>
        <p:spPr>
          <a:xfrm>
            <a:off x="952560" y="174132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1160" y="181764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76840" y="1817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28880" y="54752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, s, i: integer / read(n) / s:= 0; / i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13413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e em um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imulaçã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a execução de um progr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 maneira sistemá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 par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ostrar a relação entre o código-fonte e a execução dinâm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ta-se de um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otaçã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 torna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emântic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a LP mais clara, em espe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regras de esco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chamadas de procedimen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assagem de parâmet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166860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28600" y="1744560"/>
            <a:ext cx="243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24640" y="1744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76320" y="54021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57200" y="288756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33520" y="2887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48320" y="2887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9080" y="126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179064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186696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18669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55245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rite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300996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3009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84804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2400" y="36194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62080" y="1390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186696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194328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1943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560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= i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308628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086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39243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72400" y="3695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62080" y="1467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84788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19242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1924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5581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306720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306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67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3905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367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405756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40575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91320" y="4057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62080" y="1447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182880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190512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5562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rite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304812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048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132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3886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7240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3886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7240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403848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4038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800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62080" y="1447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180972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188604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1886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55436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= i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02904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302904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91320" y="3029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3867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72400" y="363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867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772400" y="363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00200" y="401940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76520" y="4019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91320" y="4019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4781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72400" y="4552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2080" y="14097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>
            <a:off x="1143000" y="1847880"/>
            <a:ext cx="624852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19242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1924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5581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306720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306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3067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905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772400" y="367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00200" y="405756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40575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1320" y="4057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62080" y="1447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4819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72400" y="459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00200" y="497196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76520" y="4971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91320" y="4971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1847880"/>
            <a:ext cx="624852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19242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1924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5581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rite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0200" y="306720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306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3067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3905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72400" y="367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405756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40575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4057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62080" y="1447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62520" y="4819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772400" y="459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497196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76520" y="4971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91320" y="4971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56577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72400" y="5429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55245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= i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1790640"/>
            <a:ext cx="6248520" cy="38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186696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2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18669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00200" y="300996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3009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384804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72400" y="36194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400068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4000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62080" y="1390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62520" y="476244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2400" y="4533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491508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915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4915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56008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72400" y="537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"/>
          <p:cNvSpPr/>
          <p:nvPr/>
        </p:nvSpPr>
        <p:spPr>
          <a:xfrm>
            <a:off x="1219320" y="5619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1886040"/>
            <a:ext cx="624852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19620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2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196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10500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31050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91320" y="3105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394344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772400" y="3714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00200" y="409572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095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91320" y="4095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62080" y="1486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485784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772400" y="4629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00200" y="501012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76520" y="5010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91320" y="5010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62520" y="56959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5467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nalid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é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elhorar a compreensão dos concei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nhuma definição formal é dada para o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iagramas de execu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 possível desenvolver um formalismo adequado para a notação e relacioná-la com a sintaxe, obtendo-se u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étodo para especificar a semântica de uma 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imulaçõ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dem s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gramadas para comput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te um diagrama de execução para o programa a segu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632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exercicio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, 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g(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= 2*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= 2*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= 3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=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+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7)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do em um programa, existem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árias chamadas a um mesmo procedimen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costuma-se adotar uma das seguintes alterna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erar seqüencialmente cada diagrama de execução do procedimento chama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r os valores dos parâmetros que estão sendo passados para o proced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"/>
          <p:cNvSpPr/>
          <p:nvPr/>
        </p:nvSpPr>
        <p:spPr>
          <a:xfrm>
            <a:off x="1143000" y="243828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25146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67280" y="2514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61722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00200" y="3581280"/>
            <a:ext cx="5257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76520" y="3467160"/>
            <a:ext cx="21333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62520" y="4495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77240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4495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77240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00200" y="4648320"/>
            <a:ext cx="5257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4510080"/>
            <a:ext cx="21333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913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55119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772400" y="5283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do 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smo procediment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amado em diversas partes do program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costuma-se indicar, por meio de uma flecha, qual o registro de ativação (diagrama de execução) que realizou a cha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 então, utiliza-se uma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flecha pontilhad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dicando qual o escopo está sendo referenciado dentro da fun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"/>
          <p:cNvSpPr/>
          <p:nvPr/>
        </p:nvSpPr>
        <p:spPr>
          <a:xfrm>
            <a:off x="1143000" y="243828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25146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2514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61722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143000" y="396252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143000" y="49528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00200" y="3581280"/>
            <a:ext cx="5257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76520" y="3467160"/>
            <a:ext cx="21333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62520" y="4495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7240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648320"/>
            <a:ext cx="5257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4510080"/>
            <a:ext cx="21333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913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62520" y="55119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772400" y="5283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ça o diagrama de execução para o programa a segu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95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int 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z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,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x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void 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g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(int 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int </a:t>
            </a:r>
            <a:r>
              <a:rPr b="1" i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y</a:t>
            </a: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i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y</a:t>
            </a: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= t*</a:t>
            </a:r>
            <a:r>
              <a:rPr b="1" i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t</a:t>
            </a: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; z= z+x+y; cout &lt;&lt; 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void 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f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(int 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y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int t</a:t>
            </a: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t= z+x+y; g(t); z= 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void 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h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(int 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y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int </a:t>
            </a:r>
            <a:r>
              <a:rPr b="1" i="1" lang="pt-BR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x</a:t>
            </a:r>
            <a:r>
              <a:rPr b="1" lang="pt-BR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x= y+1; f(x); g(z+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pt-BR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z= 1; x= 3; h(x); g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cout &lt;&lt; x,z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}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5816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os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parâmetros passados por referênc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ndica-se qual o registro de ativação que provém a variável passada como parâmetro efetivo por meio de um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lech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dicando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QUAL VARIÁVEL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stá sendo referenci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valor de retorno de uma funçã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arece ao lado do nome da função, separado por uma bar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09640" y="2285640"/>
            <a:ext cx="79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int fat(int n)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if (n == 0) return 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else return (n * fat(n-1)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cout &lt;&lt; “fat(3)= “ &lt;&lt; fat(3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ódigo-font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 um objeto que possui uma estrutura descrita pela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árvore de deriv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á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árvore de derivaçã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é o resultado das construções sintáticas de uma 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scop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uma definição é a região onde esta definição se aplica. Em geral pode 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Global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essada em qualquer ponto do progr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ocal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essada apenas no ponto em que foi defin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"/>
          <p:cNvSpPr/>
          <p:nvPr/>
        </p:nvSpPr>
        <p:spPr>
          <a:xfrm>
            <a:off x="1119240" y="1654200"/>
            <a:ext cx="624852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42920" y="1197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76440" y="226368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00120" y="1806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76440" y="2187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38760" y="18828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596360" y="1654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135080" y="22766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1695600"/>
            <a:ext cx="62485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1238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600200" y="230508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23880" y="1847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222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62520" y="1924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20120" y="1695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33720" y="2990880"/>
            <a:ext cx="44956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57400" y="253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2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33720" y="293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1600200" y="2838240"/>
            <a:ext cx="53352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173240" y="22953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1695600"/>
            <a:ext cx="62485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66680" y="1238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230508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3880" y="1847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00200" y="222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2520" y="1924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0120" y="1695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33720" y="2990880"/>
            <a:ext cx="44956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57400" y="253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2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33720" y="293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1600200" y="2838240"/>
            <a:ext cx="53352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66880" y="3676680"/>
            <a:ext cx="3733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90920" y="3219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1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43200" y="364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133360" y="3632040"/>
            <a:ext cx="533160" cy="1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173240" y="22953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4" name=""/>
          <p:cNvSpPr/>
          <p:nvPr/>
        </p:nvSpPr>
        <p:spPr>
          <a:xfrm>
            <a:off x="1143000" y="1676520"/>
            <a:ext cx="62485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66680" y="1219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228600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23880" y="1828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0020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1905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0120" y="1676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971800"/>
            <a:ext cx="44956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57400" y="2514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2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33720" y="291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600200" y="2895480"/>
            <a:ext cx="533520" cy="1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66880" y="3657600"/>
            <a:ext cx="3733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00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1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43200" y="3625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2133360" y="3612960"/>
            <a:ext cx="53316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00400" y="4419720"/>
            <a:ext cx="2895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3962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0)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443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2651040" y="4419360"/>
            <a:ext cx="53352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1173240" y="22953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1676520"/>
            <a:ext cx="62485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66680" y="1219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228600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23880" y="1828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0020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62520" y="1905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20120" y="1676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33720" y="2971800"/>
            <a:ext cx="44956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57400" y="2514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2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33720" y="291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1600200" y="2895480"/>
            <a:ext cx="533520" cy="1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66880" y="3657600"/>
            <a:ext cx="3733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90920" y="3200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1)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43200" y="3625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2133360" y="3612960"/>
            <a:ext cx="53316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00400" y="4419720"/>
            <a:ext cx="2895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24080" y="3962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0)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76720" y="443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651040" y="4419360"/>
            <a:ext cx="533520" cy="1522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173240" y="22953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6" name=""/>
          <p:cNvSpPr/>
          <p:nvPr/>
        </p:nvSpPr>
        <p:spPr>
          <a:xfrm>
            <a:off x="1143000" y="1695600"/>
            <a:ext cx="62485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66680" y="1238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00200" y="230508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1847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00200" y="222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62520" y="1924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1695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33720" y="2990880"/>
            <a:ext cx="44956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253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2)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33720" y="293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1600200" y="2914560"/>
            <a:ext cx="533520" cy="1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666880" y="3676680"/>
            <a:ext cx="3733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90920" y="3219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1)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43200" y="364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2133360" y="3632040"/>
            <a:ext cx="533160" cy="15264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0" y="4438800"/>
            <a:ext cx="2895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3981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0)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4457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2651040" y="4438440"/>
            <a:ext cx="53352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173240" y="22953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7" name=""/>
          <p:cNvSpPr/>
          <p:nvPr/>
        </p:nvSpPr>
        <p:spPr>
          <a:xfrm>
            <a:off x="1143000" y="1695600"/>
            <a:ext cx="62485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66680" y="1238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230508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23880" y="1847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00200" y="222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1924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20120" y="1695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33720" y="2990880"/>
            <a:ext cx="44956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057400" y="253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2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133720" y="293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1600200" y="2914560"/>
            <a:ext cx="533520" cy="15264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666880" y="3676680"/>
            <a:ext cx="3733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90920" y="3219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1)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43200" y="364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2133360" y="3632040"/>
            <a:ext cx="533160" cy="1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00400" y="4438800"/>
            <a:ext cx="2895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124080" y="3981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0)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76720" y="4457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2651040" y="4438440"/>
            <a:ext cx="53352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5962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0120" y="573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173240" y="22766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imulaçã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um programa na notação d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agramas de execu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é feita por meio d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tângulos encaix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da retângulo indica 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ício ou ativação de um procedi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m retângulo só é completado quando encerrar-se a simulação da execução da ativação do procedi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9640" y="17575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exemplo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:= 0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do beg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+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752480"/>
            <a:ext cx="3657600" cy="3962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ondo que os valores lidos par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jam, respectivamente, 5 e 6, temos o diagrama de execução a segu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94328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224784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2247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5676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, n, s: integer / read(m,n) / s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62080" y="15429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8108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22860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286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5715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= s+m*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62080" y="1581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3T12:09:19Z</dcterms:created>
  <dc:creator>UCDB</dc:creator>
  <dc:description/>
  <dc:language>en-US</dc:language>
  <cp:lastModifiedBy>Marcelo Silva Cintra</cp:lastModifiedBy>
  <dcterms:modified xsi:type="dcterms:W3CDTF">2006-11-23T15:29:50Z</dcterms:modified>
  <cp:revision>70</cp:revision>
  <dc:subject/>
  <dc:title>Compiladores II</dc:title>
</cp:coreProperties>
</file>