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D0B-C556-4203-B188-EB75A4CE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55A-949F-4883-98BC-0918E871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CA1-8AA3-4A30-A954-715B1A41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60F-B325-4EC5-84BF-448894DA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CAF0-99BE-4DD7-8F39-B308B39A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7CFC-D91C-438A-9E65-6786E0AD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E0B5-9F9F-45C9-8B7D-78AD6ED1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A97B-7118-43FA-A34F-99C0253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5677-8A7C-4C0B-991E-63921358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2088-8952-4628-B8C3-2885F1AE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030B-48AB-47BB-AC69-7F9A3517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032-A263-4A7F-BC39-A7B33C20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1D95-D23E-4047-A962-403113E6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338B-12DD-4C84-B4C2-6958A67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1DCE-144F-4624-9DDC-3C9D008E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07A1-ECD6-4C4B-BB54-2DA86EFA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6EA2-EE23-46B8-841E-F29241E1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D51-DB6B-45E3-8369-8B3AFF6D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07C-2DA4-4FEF-B88F-E7F1ADE3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C60-4141-4D5F-95DD-E4AC84CA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819-8228-4AA6-95B9-C93C06D9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C2D-BB90-4C08-8671-7CD98F2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B95-0ED9-4A02-8EF9-06A08C8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8F8-4295-4C57-A377-B3A3CBCB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C146-CA52-4767-A28C-3D240A549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640" y="130032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145260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8B6C-98E7-4008-90CC-A309AED4C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640" y="364500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8600" y="379728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álise Semâ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itos compiladores Pascal combinam a verificação estática e a geração de código intermediário com 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construções mais complexas, tais como em Ada, pode ser conveniente ter uma passagem separada de verificação de tipos antes da geração de código intermedi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boa parte das verificações estáticas podem ser implementadas com as técnicas de </a:t>
            </a:r>
            <a:r>
              <a:rPr b="1" lang="en-GB" sz="32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Tradução Dirigida pela Sintax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ções a respeito dos tipos de variáveis pode ser úteis e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 de geração de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8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sobrecarga de operador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na aplicação de operadores no contexto dos oper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GB" sz="28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polimorfis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mite a execução de funções com argumentos de vários t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s linguagens de programação em geral os tipos podem s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99"/>
              </a:spcBef>
              <a:buClr>
                <a:srgbClr val="ff3333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Básic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não possuem estrutura interna. Ex.: inteiro, real, booleano, carácter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intervalo e enum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99"/>
              </a:spcBef>
              <a:buClr>
                <a:srgbClr val="ff3333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Construíd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possuem uma estrutura interna composta por tipos básicos e outros tipos construídos. Ex.: ponteiros, estruturas, registros, vetores e mat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47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expressão de tip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é o tipo de uma construção de linguagem qualq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ão expressões de ti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tipos bás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char, integer, real,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mes de express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type linha =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                      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idade: inter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                       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nome: array [1..15] of 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var tabela : aray [1..101] of linh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 construtor de tipo aplicado sobre uma expressão de tipo (vetores, apontadores, funções e procedimen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var A: array[1..10] of 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var p: ^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função c(a,b: integer): integ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sistema de tipo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é uma coleção de regras para expressões de tipos de um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dem ser especificados na forma de </a:t>
            </a:r>
            <a:r>
              <a:rPr b="1" lang="en-GB" sz="2800" spc="-1" strike="noStrike">
                <a:solidFill>
                  <a:srgbClr val="ff3333"/>
                </a:solidFill>
                <a:latin typeface="Arial"/>
              </a:rPr>
              <a:t>definições dirigidas pela sintaxe (ações semânt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laração de Tipos (estilo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d: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incluir_ID(id.entrada,T.tipo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cha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caracter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integer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intei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array [num] of 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vetor(1..num.val, T.tipo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apontador(T.tipo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ir_ID(e, t): insere um identificador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 o tipo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tabela de símb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acter e inteiro: são tip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tor(a1, an, t): tipo construtído vetor de elementos do tip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 intervalo de variação de índic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é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ontador(t): tipo construído apontador para o tipo básic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os de Expressões (estilo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liter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E.tipo:= caracter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E.tipo:= intei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E.tipo:= procurar(id.entrada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claration_p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: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: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:=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eld_li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4005360"/>
            <a:ext cx="3889440" cy="2376360"/>
          </a:xfrm>
          <a:prstGeom prst="wedgeRoundRectCallout">
            <a:avLst>
              <a:gd name="adj1" fmla="val -65796"/>
              <a:gd name="adj2" fmla="val -60287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tr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que será feita a construção dos t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seja, 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remos criando novos tipos e para isso utilizaremos a estrutura de dados do descritor de tipos vista anterior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 se as construções sintaticamente corretas possuem significado lógico dentro da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 a consistência da declaração e uso dos identif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ém disso, deve fazer conversões necessárias, e permitidas, para dar significado a uma sente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ype_definition(vo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_SIMBOLO *t_simbolo;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*i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= Atr.identifi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(IDENTIFIE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_simbolo = busca_arvoreb(Vet_Identifier[nivel], i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_simbolo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\n Erro Semantico - Identificador de tipo ja declarad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t(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_simbolo = insere_arvoreb(Vet_Identifier+nivel,IDTIPO,nivel,i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(EQU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_simbolo-&gt;u.id_tipo.tipo = typ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700280"/>
            <a:ext cx="3168720" cy="1224000"/>
          </a:xfrm>
          <a:prstGeom prst="wedgeEllipseCallout">
            <a:avLst>
              <a:gd name="adj1" fmla="val -87222"/>
              <a:gd name="adj2" fmla="val 6465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sca o identificador de tipo no nível 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5661000"/>
            <a:ext cx="3240000" cy="1008000"/>
          </a:xfrm>
          <a:prstGeom prst="wedgeEllipseCallout">
            <a:avLst>
              <a:gd name="adj1" fmla="val -60976"/>
              <a:gd name="adj2" fmla="val -65120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ere o identificador de tipo na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var_declaratio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_list( &amp;head_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COL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= typ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Reduziu para var_declaration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/ inserir cada identificador (com seu tipo) da 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/ encadeada dentro da Tabela de símb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1484280"/>
            <a:ext cx="3240000" cy="1366920"/>
          </a:xfrm>
          <a:prstGeom prst="wedgeRectCallout">
            <a:avLst>
              <a:gd name="adj1" fmla="val -98310"/>
              <a:gd name="adj2" fmla="val 50231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rá que retornar uma lista encadeada contendo a lista de identificadores encont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3141720"/>
            <a:ext cx="3238560" cy="792000"/>
          </a:xfrm>
          <a:prstGeom prst="wedgeRectCallout">
            <a:avLst>
              <a:gd name="adj1" fmla="val -152796"/>
              <a:gd name="adj2" fmla="val 84268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ipo deverá ser reconh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rocedure_declaratio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PROCEDU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IDENTIFI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lookahead == 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_parameter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SEMICOL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Reduziu para procedure_declaratio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1628640"/>
            <a:ext cx="3527280" cy="2160720"/>
          </a:xfrm>
          <a:prstGeom prst="wedgeRoundRectCallout">
            <a:avLst>
              <a:gd name="adj1" fmla="val -72592"/>
              <a:gd name="adj2" fmla="val 54703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uma lista encadeada com ponteiros para todos os parâmetros form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nó da lista contém ponteiros para a Tabela d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rocedure_call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(lookahead == 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ahead = anale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_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Reduziu para procedure_call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simple_expr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lookahead == ADD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ahead = anale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( &amp;t1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( lookahead == ADDOP || lookahead == 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o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(&amp;t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if( o tipo t1 for diferente de 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erro semânt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acter: tip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iro: tip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urar(i): busca o tipo de um identificador na tabela de símbolos (se exist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os de Expressões (estilo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od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{E.tipo :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inteiro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intei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inteir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nã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po_er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{E.tipo :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vetor(s,t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intei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nã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po_er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compilador necessita coletar e usar informações sobre os nomes (identificadores) que aparecem no programa-fo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s informações são colocadas numa estrutura de dados chamada Tabela de Símbolos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formações coletadas sobre o nome inclu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deia de caracteres pelo qual é denotado, isto é, 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xe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identifica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nteiro, real, booleano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r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variável simples, identificador de tipo, identificador de função, identificador de procedimen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man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ização na memó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outros atributos, dependendo da linguag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rante a análise semântica também podem ser obtidas algumas conclusões que permitem ao compilador alterar a árvore sintática, de modo que redundâncias e ineficiências sejam, sempre que possível, eliminadas, obtendo-se uma árvore que descreve um programa equivalente, porém mais e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umas mudanças serão realizadas em nosso analisador lexico/sint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rimeira mudança é a retirada da inserção dos identificadores na Tabela de Símbolos na análise léx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ações semânticas inseridas no analisador sintático serão responsáveis por inserir os identificadores na Tabela de Símbo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motivo disto é a checagem da semântica da linguagem P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inicialmente definir a estrutura da Tabela de Símb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tabela de símbolos então será responsável pela organização da informação dos identificadores que o compilador “conhe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ompilador associa com cada identificador presente na tabela de símbolos um certo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tributos associados com cada identificador dependerão de sua categ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exemplo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riáveis Simpl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tegoria, tipo e endere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âmetro Simpl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tegoria, tipo, endereço, mecanismo de passagem (por valor ou referê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cedi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tegoria, rótulo interno (no programa objeto), nível em que foi declarado, número de parâmetros, tipo e mecanismo de passagem de cada parâ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s slides a seguir, é apresentada a estrutura de dados de uma Tabela de Símbolos para a linguagem P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ume-se que a tabela de símbolos seja representada por uma árvore bin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mesma definição poderia ser feita usando-se uma tabela h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tegoria dos ident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RO, FUNCAO, VARS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ENTO, IDTIP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E, _LAB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REG, LEITURA, ESC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CATEGORI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def struct tab_simbolo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*identificador;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ponteiro para lex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AS categori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ivel;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nível em que o id foi defi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// identificador de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_tipos *tipo;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ptr para tipo no 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id_tip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variavel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da variável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deslocamento;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deslocamento na pi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v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para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do parâ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deslocamento;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deslocamento na pi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P passagem;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PP pode ser valor ou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par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//proce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rotulo;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rotulo do procedim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n;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número de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lista com os ponteiros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parâmetros na tabela de Si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aParam *listaParametr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proc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// fu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uct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_tipos *tipo;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tipo do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 rotulo;      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rotulo da funca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 n;    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numero de para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lista de ptr dos parâmetros na T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Param *listaParametr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}fun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erificação de tipos pode ser estática e dinâ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estática  - é feita no código fonte, no processo de compi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dinâmica – é feita durante o tempo de 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ntraremos mais na prim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54944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va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const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 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lab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lab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u;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fim da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 tab_simbolo *pesq, *pdir;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se for usar arvore b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TAB_SIMBO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te caso TAB_SIMBOLO representa o nó de uma árvore bin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fôssemos implementar um hashing, a primeira mudança seria deixar somente um ponteiro dentro de TAB_SIMBOLO (*prox ao invés de *pesq e *pd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ém disso teríamos que defin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B_SIMBOLO *tab_hash[21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es de definir o descritor de tipos vejamos as estruturas que este uti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imeira estrutura é uma lista encadeada de ponteiros para constantes na Tabela de Sí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ct List_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_SIMBOLO *ptr;      // apontador pa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e na 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t_Const *prox;  // proxim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Lista_Const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gunda estrutura de dados necessária é uma lista encadeada para armazenar os campos de um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ypedef 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*ident;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identificador associado ao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TEGORIAS categoria;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categoria do campo de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do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locamento;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deslocamento dentro do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o *prox;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apontador para o proximo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Tab_Cam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c_tipos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TOR constru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tam;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amanho em bytes ocupado pelo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um_eleme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m_inf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m_sup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c_tipos *tipo;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elem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enum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num_element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aConstantes *l_consta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En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num_element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 Desc_tipos *tipo_i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 Desc_tipos *tipo_el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Arr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 Desc_tipos *tipo_el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Poin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regi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_Campos *tab_camp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reco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ivariante;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fim da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D_tip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cores = ( branco, vermelho, verde, azul, pre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gb = vermelho..azu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= vetor[1..2000] of rg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lare  v :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: vetor[boolean, 1..10] of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finição de P acima é equivalente 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: vetor[boolean] de vetor [1..10] de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                CAT           NIVEL         TIPO        VAL             DE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- “boolean”     IDTIPO         -1                 0               -               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- “false”          CONST         -1                0       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- “true”           CONST         -1                0 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- “integer”      IDTIPO          -1                1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- “cores”        IDTIPO           0               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 -  “branco”    CONST           0                 2              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 -  “vermelho” CONST          0                 2              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 -  “verde”       CONST          0                 2   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-  “azul”         CONST          0                 2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 -  “preto”       CONST           0                 2    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- “rgb”          IDTIPO           0                 3            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- “T”             IDTIPO           0                4             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- “v”             VARS              0                4                -            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3- “P”            VARS              0                6                                    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T        TAM    NELEM    L.CONST      Mr. V      Ma. V   Tipo    TI      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-   ENUM             1          2            [1,2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-  INTERVALO    2          -              -                  -32768    32767     1        -      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   ENUM             1        5            [5,6,7,8,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-  INTERVALO    1        3                                     1              3          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-  ARRAY           2000   2000                                                                    5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- INTERVALO     1       2000                                1           200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- ARRAY           40000  20                                                                          0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- ARRAY          20000   10                                                                         8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8- INTERVALO     1         10                                   1            10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95640" y="2924280"/>
            <a:ext cx="0" cy="2809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2080" y="5810400"/>
            <a:ext cx="1736640" cy="914400"/>
          </a:xfrm>
          <a:prstGeom prst="borderCallout1">
            <a:avLst>
              <a:gd name="adj1" fmla="val 2784"/>
              <a:gd name="adj2" fmla="val -1800"/>
              <a:gd name="adj3" fmla="val 20178"/>
              <a:gd name="adj4" fmla="val -180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São ponteiros da tabela de símbo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Exemplos de verificação estática incluem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ompilador deve relatar um erro se um operador for aplicado a um operando incompat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a variável array é somada a um identificador de um proce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variável do tipo inteiro é somada com uma  variável do tipo string em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slide anterior temos as legen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  = constr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       = tamanho em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LEM  = número de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.CONST = lista de constantes da enum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r. V        = men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. V       = mai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        = tipo do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             = tipo do indice do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            = tipo do elemento do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stre a tabela de símbolos e o descritor de tipos para o trecho de código a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meses = (janeiro, fevereiro, marco, abril, maio, junho, julho, agosto, setembro, outubro, novembro, dezembr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trMes =  ^me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lare  m : me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: ptrM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1: vetor [meses] de ptrM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2: vetor [ 1..10] de me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3: vetor [junho..novembro] de array[janeiro..maio] de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tipos pré-definidos, integer, boolean, true e false devem ser inicialmente inseridos no nível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e o seguinte exemplo de código em 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1(int a, float 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%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entativa de compilar esse código irá gerar um erro detectado pelo analisador semântico, mais especificamente pelas regras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indicando que o operador módulo % não pode ter um operador re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ão do fluxo de control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comandos que fazem o fluxo de controle deixar uma construção precisam ter algum local para onde transferir o controle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O comando break em C faz com que o fluxo de controle saia do while, for ou switch mais interno. Um erro ocorre se este comando não aparecer dentro de pelo menos um while, for ou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ões de unic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situações nas quais um objeto precisa ser definido exatamente uma 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 Em Pas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identificador precisa ser declarado univocamente no mesm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rótulos em enunciados case precisam ser disti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lementos em um tipo escalar não podem ser rep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ão relacionada aos nom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mas vezes, o mesmo nome precisa figurar duas ou mais vez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da, um laço ou bloco precisa ter um nome que apareça ao início e ao final da constru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ilador precisa verificar se o mesmo nome é usado em ambos os loc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32:39Z</dcterms:created>
  <dc:creator>mArCeLo</dc:creator>
  <dc:description/>
  <dc:language>en-US</dc:language>
  <cp:lastModifiedBy>Marcelo Silva Cintra</cp:lastModifiedBy>
  <dcterms:modified xsi:type="dcterms:W3CDTF">2006-11-18T00:44:57Z</dcterms:modified>
  <cp:revision>536</cp:revision>
  <dc:subject/>
  <dc:title>Aula 1802 – Fases de um compilador</dc:title>
</cp:coreProperties>
</file>