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AF8-3863-4BBE-B4DF-23F0DE7C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F34-9F44-42CB-9642-EDB1426B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D1C-C363-471B-B265-75E065FA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FFE-4CFB-4924-A893-AD48EC34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B1B0-A830-4603-AA80-3CC61D33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2469-A004-43B9-AF74-E9B7DC04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FC93-B178-4D34-9C6B-8829C645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B3A0-BAC4-4773-9645-131754D9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4B14-073B-4E5C-942B-059E1A43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8A29-D48C-4FD0-82B5-EDA86AF4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3688-BBE4-4EE6-BB73-92238121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CF8-47EB-4663-8A01-70EC4D9A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32A0-1882-404F-80F8-E32829D8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29A4-D7AF-4F16-A7AA-2D9B466D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B9E7-0D1A-4139-AC98-513B1FA0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BF27-5917-4ED9-AAB7-BD0D5FED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8338-7AED-46F9-BE14-CD10706D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00C-F79F-4761-8DD1-49D98B98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D6E-F0C7-49CF-8189-ADDAB935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8D0-C0CE-47D8-A4C7-13BB13BE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0C5-5B1A-4DBD-9E09-2218D8B2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FA2-4E09-4909-8B6E-24D1E5E5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29E-8C42-493A-8F11-529E5D6B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4DC-76D2-428A-97ED-16F1429C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CE62-E33C-45E0-AAD2-7D5E3F7DF259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6AAC-CF4A-4770-8BB7-98E94C073691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Marc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194328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224784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247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369576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3467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5676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(m,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62080" y="15429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92420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22876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2228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6766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3448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6577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= m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620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98108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2860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,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286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= s+m*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7339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62080" y="1581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92420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222876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,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228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36766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448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56577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(m,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41338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390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620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96200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226692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, 6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226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37148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3486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5695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= m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1720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39434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62080" y="1562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190512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22096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, 6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2209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6576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4114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62080" y="150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arte superior do retângulo contem o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valores dos parâmetros e das variáveis loc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valores sucessiv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a cada parâmetro ou variável é 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sultado da execução de comand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atribuição e de E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um procedimen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hamado dentro de outro procedimento 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ntão o registro de ativação d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rá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caixad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registro d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7958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exemplo2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, i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oma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div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2)*2 = 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= 0; i:= 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do beg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oma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); i:= i+1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7280" y="1566720"/>
            <a:ext cx="281916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3720" y="1052640"/>
            <a:ext cx="4343400" cy="487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ondo que os valores lidos par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ja 2, temos o diagrama de execução a seg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"/>
          <p:cNvSpPr/>
          <p:nvPr/>
        </p:nvSpPr>
        <p:spPr>
          <a:xfrm>
            <a:off x="952560" y="174132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1160" y="181764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76840" y="1817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28880" y="54752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, s, i: integer / read(n) / s:= 0; / i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13413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e em um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imulaçã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a execução de um prog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maneira sistem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 par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ostrar a relação entre o código-fonte e a execução dinâm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ta-se de um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otaçã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 torna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emântic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a LP mais clara, em espe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regras de esco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chamadas de procedi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assagem de parâmet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166860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8600" y="174456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24640" y="1744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76320" y="54021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57200" y="28875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33520" y="2887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48320" y="2887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9080" y="126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179064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86696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18669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55245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300996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3009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8480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2400" y="36194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62080" y="1390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186696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19432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1943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560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= i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308628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086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39243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72400" y="3695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62080" y="1467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84788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19242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1924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5581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306720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306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67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905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367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40575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40575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1320" y="4057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620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82880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190512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5562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304812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048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132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3886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7240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3886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7240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403848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038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800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620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180972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88604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1886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55436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= i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02904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30290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91320" y="3029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3867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72400" y="363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67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72400" y="363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0200" y="401940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4019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91320" y="4019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4781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2400" y="4552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2080" y="14097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1847880"/>
            <a:ext cx="624852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9242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1924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5581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306720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306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3067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905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72400" y="367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00200" y="40575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40575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4057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620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4819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72400" y="459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00200" y="49719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4971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91320" y="4971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1847880"/>
            <a:ext cx="624852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9242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1924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5581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0200" y="306720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306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3067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3905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72400" y="367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40575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40575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057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620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62520" y="4819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72400" y="459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49719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76520" y="4971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1320" y="4971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56577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5429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55245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= i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1790640"/>
            <a:ext cx="624852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186696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18669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00200" y="300996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3009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38480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72400" y="36194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400068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4000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62080" y="1390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62520" y="47624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2400" y="4533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491508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915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56008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7240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5619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1886040"/>
            <a:ext cx="624852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19620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196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10500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31050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91320" y="310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39434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72400" y="3714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409572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095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91320" y="4095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62080" y="1486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48578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72400" y="4629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00200" y="501012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5010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91320" y="5010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62520" y="56959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5467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nalid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é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elhorar a compreensão dos concei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nhuma definição formal é dada para o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iagramas de execu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 possível desenvolver um formalismo adequado para a notação e relacioná-la com a sintaxe, obtendo-se u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étodo para especificar a semântica de uma 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imulaçõ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dem s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gramadas para comput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te um diagrama de execução para o programa a seg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632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exercicio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, 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g(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= 2*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= 2*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= 3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+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7)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do em um programa, existe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árias chamadas a um mesmo procedimen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ostuma-se adotar uma das seguintes alterna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ar seqüencialmente cada diagrama de execução do procedimento chama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r os valores dos parâmetros que estão sendo passados para o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"/>
          <p:cNvSpPr/>
          <p:nvPr/>
        </p:nvSpPr>
        <p:spPr>
          <a:xfrm>
            <a:off x="1143000" y="243828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25146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67280" y="2514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6172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3581280"/>
            <a:ext cx="5257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3467160"/>
            <a:ext cx="21333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62520" y="4495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7240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4495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77240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0200" y="4648320"/>
            <a:ext cx="5257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4510080"/>
            <a:ext cx="21333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13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55119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72400" y="5283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do 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smo procediment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amado em diversas partes do program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ostuma-se indicar, por meio de uma flecha, qual o registro de ativação (diagrama de execução) que realizou a cha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 então, utiliza-se uma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flecha pontilhad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dicando qual o escopo está sendo referenciado dentro da fun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243828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25146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2514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6172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143000" y="396252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143000" y="49528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3581280"/>
            <a:ext cx="5257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76520" y="3467160"/>
            <a:ext cx="21333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62520" y="4495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7240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648320"/>
            <a:ext cx="5257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4510080"/>
            <a:ext cx="21333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913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62520" y="55119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772400" y="5283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ça o diagrama de execução para o programa a seg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95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int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z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,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x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void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g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(int 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int </a:t>
            </a:r>
            <a:r>
              <a:rPr b="1" i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y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i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y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= t*</a:t>
            </a:r>
            <a:r>
              <a:rPr b="1" i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t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; z= z+x+y; cout &lt;&lt; 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void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f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(int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y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int t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t= z+x+y; g(t); z= 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void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h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(int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y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int </a:t>
            </a:r>
            <a:r>
              <a:rPr b="1" i="1" lang="pt-BR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x</a:t>
            </a:r>
            <a:r>
              <a:rPr b="1" lang="pt-BR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x= y+1; f(x); g(z+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pt-BR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z= 1; x= 3; h(x); g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cout &lt;&lt; x,z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}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5816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os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parâmetros passados por referênc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ndica-se qual o registro de ativação que provém a variável passada como parâmetro efetivo por meio de um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lech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dicando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QUAL VARIÁVEL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stá sendo referenci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valor de retorno de uma funçã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arece ao lado do nome da função, separado por uma bar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09640" y="2285640"/>
            <a:ext cx="79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int fat(int n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if (n == 0) return 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else return (n * fat(n-1)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cout &lt;&lt; “fat(3)= “ &lt;&lt; fat(3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ódigo-font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 um objeto que possui uma estrutura descrita pela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árvore de deriv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á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árvore de derivaçã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é o resultado das construções sintáticas de uma 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scop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uma definição é a região onde esta definição se aplica. Em geral pode 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Global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essada em qualquer ponto do progr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ocal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essada apenas no ponto em que foi defin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"/>
          <p:cNvSpPr/>
          <p:nvPr/>
        </p:nvSpPr>
        <p:spPr>
          <a:xfrm>
            <a:off x="1119240" y="1654200"/>
            <a:ext cx="624852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42920" y="1197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76440" y="226368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00120" y="1806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76440" y="2187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38760" y="18828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596360" y="1654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135080" y="22766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169560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1238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00200" y="230508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23880" y="1847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222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62520" y="1924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20120" y="1695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33720" y="299088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57400" y="253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33720" y="293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1600200" y="2838240"/>
            <a:ext cx="5335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173240" y="22953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169560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1238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230508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1847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00200" y="222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2520" y="1924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0120" y="1695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33720" y="299088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57400" y="253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33720" y="293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1600200" y="2838240"/>
            <a:ext cx="5335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66880" y="3676680"/>
            <a:ext cx="3733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90920" y="3219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1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43200" y="364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133360" y="3632040"/>
            <a:ext cx="53316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173240" y="22953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167652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66680" y="1219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228600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23880" y="1828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0020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1905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012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97180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57400" y="2514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33720" y="291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600200" y="2895480"/>
            <a:ext cx="53352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66880" y="3657600"/>
            <a:ext cx="3733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00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1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43200" y="3625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2133360" y="3612960"/>
            <a:ext cx="53316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00400" y="4419720"/>
            <a:ext cx="2895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3962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0)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443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2651040" y="4419360"/>
            <a:ext cx="5335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1173240" y="22953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167652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66680" y="1219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228600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23880" y="1828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0020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1905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2012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33720" y="297180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57400" y="2514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291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1600200" y="2895480"/>
            <a:ext cx="53352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66880" y="3657600"/>
            <a:ext cx="3733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90920" y="3200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1)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43200" y="3625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2133360" y="3612960"/>
            <a:ext cx="53316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00400" y="4419720"/>
            <a:ext cx="2895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24080" y="3962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0)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76720" y="443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651040" y="4419360"/>
            <a:ext cx="533520" cy="1522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73240" y="22953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"/>
          <p:cNvSpPr/>
          <p:nvPr/>
        </p:nvSpPr>
        <p:spPr>
          <a:xfrm>
            <a:off x="1143000" y="169560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66680" y="1238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0200" y="230508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1847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00200" y="222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62520" y="1924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1695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3720" y="299088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253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33720" y="293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1600200" y="2914560"/>
            <a:ext cx="53352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666880" y="3676680"/>
            <a:ext cx="3733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0920" y="3219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1)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43200" y="364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2133360" y="3632040"/>
            <a:ext cx="533160" cy="15264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0" y="4438800"/>
            <a:ext cx="2895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398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0)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4457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2651040" y="4438440"/>
            <a:ext cx="5335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73240" y="22953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7" name=""/>
          <p:cNvSpPr/>
          <p:nvPr/>
        </p:nvSpPr>
        <p:spPr>
          <a:xfrm>
            <a:off x="1143000" y="169560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66680" y="1238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30508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1847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00200" y="222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1924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20120" y="1695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33720" y="299088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57400" y="253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133720" y="293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1600200" y="2914560"/>
            <a:ext cx="533520" cy="15264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66880" y="3676680"/>
            <a:ext cx="3733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90920" y="3219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1)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43200" y="364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2133360" y="3632040"/>
            <a:ext cx="53316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00400" y="4438800"/>
            <a:ext cx="2895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24080" y="398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0)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76720" y="4457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2651040" y="4438440"/>
            <a:ext cx="5335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5962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012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173240" y="22766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imulaçã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um programa na notação d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agramas de execu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é feita por meio d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tângulos encaix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da retângulo indica 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ício ou ativação de um procedi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m retângulo só é completado quando encerrar-se a simulação da execução da ativação do procedi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9640" y="17575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exemplo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:= 0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do beg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+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752480"/>
            <a:ext cx="3657600" cy="3962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ondo que os valores lidos par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jam, respectivamente, 5 e 6, temos o diagrama de execução a seg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94328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224784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2247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676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, n, s: integer / read(m,n) / s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62080" y="15429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8108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2860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286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= s+m*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62080" y="1581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3T12:09:19Z</dcterms:created>
  <dc:creator>UCDB</dc:creator>
  <dc:description/>
  <dc:language>en-US</dc:language>
  <cp:lastModifiedBy>Marcelo Silva Cintra</cp:lastModifiedBy>
  <dcterms:modified xsi:type="dcterms:W3CDTF">2006-11-23T15:29:50Z</dcterms:modified>
  <cp:revision>70</cp:revision>
  <dc:subject/>
  <dc:title>Compiladores II</dc:title>
</cp:coreProperties>
</file>