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0DC-75B5-4B17-A932-65A82F30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608-94F4-4E52-B703-48BEF5C4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370-EFAA-482A-8C70-36287665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53F-6C37-463B-A73A-FD440C62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B445-5F09-47A8-8F07-BF96AA62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6531-4DED-4181-BA0C-3BA0CDF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F73-90FF-4F83-B26B-A15E1227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BF80-D6A6-4050-BDEF-CA332042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1C32-A04E-4999-BEEC-735BB93D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8CA7-E2D9-451B-B4FD-7BD0A26D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A87-DE6B-4EAC-AAFB-C4308088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591-F33F-456A-AAAA-E4099906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95BF-BB23-44BC-A380-2F820D5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9D03-030C-4748-BBCE-F0307581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4E3A-3DF0-4A50-9C91-8E55A142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C9D9-0955-46BF-BAC5-24B24B2F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7667-3C82-4D6C-8AB4-E0DF7467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3C1-C536-4F10-A232-4C544E7E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8C2-07EA-42B4-A684-FD3D35D0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459-7AB3-4384-9733-07F53F3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5DA-8EE7-4711-9068-2627B4D9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A89-AC74-4598-8562-D35950B4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9C5-E36A-4F1E-9C4E-919A75CC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DA1-B3F7-45D9-93D2-821E1C9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0E99-6A78-4906-AF42-1CE6E35500C6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9D38-95C4-47BB-92D2-35574023238E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Marc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9432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2478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247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69576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467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676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m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2080" y="1542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9242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2287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6766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344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6577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= m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62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810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286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= s+m*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7339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62080" y="158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9242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2287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6766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448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56577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m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1338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390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62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96200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2669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2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7148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3486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695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= m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1720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3943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62080" y="1562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90512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2096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, 6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25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657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114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,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62080" y="150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arte superior do retângulo contem o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alores dos parâmetros e das variáveis 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valores sucessiv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a cada parâmetro ou variável é 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sultado da execução de comand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atribuição e de E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um procedimen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hamado dentro de outro procedimento 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ntão o registro de ativação d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rá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caixad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registro d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7958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exemplo2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, 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oma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div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2)*2 = 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:= 0; i: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oma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5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); i:= i+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5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7280" y="1566720"/>
            <a:ext cx="281916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3720" y="1052640"/>
            <a:ext cx="434340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ndo que os valores lidos par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ja 2, temos o diagrama de execução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952560" y="174132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1160" y="18176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6840" y="1817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28880" y="54752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, s, i: integer / read(n) / s:= 0; / i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34136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 em um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çã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a execução de um prog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maneira siste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 par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strar a relação entre o código-fonte e a execução dinâm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ta-se de um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açã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torna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mânti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 LP mais clara, em espe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gras de esco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hamadas de procedi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ssagem de parâmet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6686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8600" y="174456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24640" y="1744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76320" y="5402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57200" y="288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33520" y="2887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8320" y="288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9080" y="126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179064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8669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866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5245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300996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3009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8480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3619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62080" y="1390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86696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19432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1943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560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0862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086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39243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72400" y="3695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62080" y="146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8478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82880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9051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562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30481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048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7240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403848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038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800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180972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8860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188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5543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02904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30290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3029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3867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72400" y="36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67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63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01940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4019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4019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4781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4552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208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84788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4819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459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49719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4971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4971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84788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24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1924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5581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306720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306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3067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3905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72400" y="367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40575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05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57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620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4819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72400" y="459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97196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4971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971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56577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5429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55245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= i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790640"/>
            <a:ext cx="624852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18669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1866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300996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3009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38480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3619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40006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000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62080" y="1390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47624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2400" y="4533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491508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915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5600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5619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88604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1962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196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105000"/>
            <a:ext cx="5257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3105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310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39434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37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40957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095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4095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62080" y="1486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48578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462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5010120"/>
            <a:ext cx="5257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501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91320" y="5010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5695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5467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nalid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é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elhorar a compreensão dos conce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nhuma definição formal é dada para o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agramas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 possível desenvolver um formalismo adequado para a notação e relacioná-la com a sintaxe, obtendo-se u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étodo para especificar a semântica de uma 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çõ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dem s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adas para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e um diagrama de execução para o programa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exercicio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, 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(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2*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2*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3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: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+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7); 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em um programa, existe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árias chamadas a um mesmo procedimen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ostuma-se adotar uma das seguintes altern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ar seqüencialmente cada diagrama de execução do procedimento cham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r os valores dos parâmetros que estão sendo passados para 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24382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5146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6172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58128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346716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464832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451008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55119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72400" y="5283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smo procediment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amado em diversas partes do program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ostuma-se indicar, por meio de uma flecha, qual o registro de ativação (diagrama de execução) que realizou a cha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 então, utiliza-se um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lecha pontilhad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dicando qual o escopo está sendo referenciado dentro da fun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24382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5146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0, 0,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 0,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6172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143000" y="396252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143000" y="49528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358128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346716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724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64832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4510080"/>
            <a:ext cx="21333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55119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72400" y="5283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ça o diagrama de execução para o programa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95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z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,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g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= t*</a:t>
            </a:r>
            <a:r>
              <a:rPr b="1" i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t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 z= z+x+y; cout &lt;&lt; 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f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t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t= z+x+y; g(t); z= 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h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(int </a:t>
            </a:r>
            <a:r>
              <a:rPr b="1" i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int </a:t>
            </a:r>
            <a:r>
              <a:rPr b="1" i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</a:t>
            </a: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s-ES_tradnl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x= y+1; f(x); g(z+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pt-BR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z= 1; x= 3; h(x); g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Courier New"/>
              </a:rPr>
              <a:t>cout &lt;&lt; x,z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}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581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os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parâmetros passados por referênc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ndica-se qual o registro de ativação que provém a variável passada como parâmetro efetivo por meio de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lech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dicando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QUAL VARIÁVEL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stá sendo referenci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alor de retorno de uma funçã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arece ao lado do nome da função, separado por uma bar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640" y="228564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nt fat(int n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if (n == 0) return 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lse return (n * fat(n-1)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cout &lt;&lt; “fat(3)= “ &lt;&lt; fat(3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ódigo-font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 um objeto que possui uma estrutura descrita pela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árvore de deriv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á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árvore de deriva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é o resultado das construções sintáticas de uma 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scop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uma definição é a região onde esta definição se aplica. Em geral pode 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Global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ada em qualquer ponto do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ocal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ada apenas no ponto em que foi defin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"/>
          <p:cNvSpPr/>
          <p:nvPr/>
        </p:nvSpPr>
        <p:spPr>
          <a:xfrm>
            <a:off x="1119240" y="1654200"/>
            <a:ext cx="624852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42920" y="1197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6440" y="22636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00120" y="1806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76440" y="2187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38760" y="1882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96360" y="1654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135080" y="22766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600200" y="28382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1600200" y="28382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167652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219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228600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1905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01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97180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291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600200" y="289548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6880" y="365760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43200" y="3625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133360" y="3612960"/>
            <a:ext cx="5331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441972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443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2651040" y="441936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167652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1219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228600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0020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1905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01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33720" y="297180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5740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291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1600200" y="289548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365760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90920" y="3200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3625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2133360" y="3612960"/>
            <a:ext cx="53316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00400" y="441972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720" y="443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651040" y="4419360"/>
            <a:ext cx="533520" cy="152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1600200" y="2914560"/>
            <a:ext cx="53352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443880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398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457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2651040" y="44384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73240" y="22953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1695600"/>
            <a:ext cx="62485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1238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305080"/>
            <a:ext cx="52578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1847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3)/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0200" y="222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1924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0120" y="1695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33720" y="2990880"/>
            <a:ext cx="44956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2533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2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33720" y="293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1600200" y="2914560"/>
            <a:ext cx="533520" cy="15264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3676680"/>
            <a:ext cx="3733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321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1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3200" y="364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2133360" y="3632040"/>
            <a:ext cx="53316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4438800"/>
            <a:ext cx="2895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24080" y="398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t(0)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4457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651040" y="4438440"/>
            <a:ext cx="5335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5962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012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t(3)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173240" y="22766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imulaçã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um programa na notação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agramas de 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feita por meio 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tângulos encaix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a retângulo indica 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ício ou ativação de um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 retângulo só é completado quando encerrar-se a simulação da execução da ativação do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7575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exemplo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0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do 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0" i="1" lang="pt-BR" sz="17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+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52480"/>
            <a:ext cx="3657600" cy="3962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ndo que os valores lidos par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jam, respectivamente, 5 e 6, temos o diagrama de execução a seg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943280"/>
            <a:ext cx="62485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24784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247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676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, n, s: integer / read(m,n) / s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2080" y="1542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s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624852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2860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 0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= s+m*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62080" y="158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12:09:19Z</dcterms:created>
  <dc:creator>UCDB</dc:creator>
  <dc:description/>
  <dc:language>en-US</dc:language>
  <cp:lastModifiedBy>Marcelo Silva Cintra</cp:lastModifiedBy>
  <dcterms:modified xsi:type="dcterms:W3CDTF">2006-11-23T15:29:50Z</dcterms:modified>
  <cp:revision>70</cp:revision>
  <dc:subject/>
  <dc:title>Compiladores II</dc:title>
</cp:coreProperties>
</file>